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2.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6.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22.xml.rels" ContentType="application/vnd.openxmlformats-package.relationships+xml"/>
  <Override PartName="/ppt/notesSlides/_rels/notesSlide19.xml.rels" ContentType="application/vnd.openxmlformats-package.relationships+xml"/>
  <Override PartName="/ppt/notesSlides/_rels/notesSlide21.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29.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notesSlide34.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2.xml" ContentType="application/vnd.openxmlformats-officedocument.presentationml.notesSlide+xml"/>
  <Override PartName="/ppt/notesSlides/notesSlide29.xml" ContentType="application/vnd.openxmlformats-officedocument.presentationml.notesSlide+xml"/>
  <Override PartName="/ppt/notesSlides/notesSlide27.xml" ContentType="application/vnd.openxmlformats-officedocument.presentationml.notesSlide+xml"/>
  <Override PartName="/ppt/notesSlides/notesSlide1.xml" ContentType="application/vnd.openxmlformats-officedocument.presentationml.notesSlide+xml"/>
  <Override PartName="/ppt/notesSlides/notesSlide24.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7.wmf" ContentType="image/x-wmf"/>
  <Override PartName="/ppt/media/image24.wmf" ContentType="image/x-wmf"/>
  <Override PartName="/ppt/media/image22.png" ContentType="image/png"/>
  <Override PartName="/ppt/media/image16.wmf" ContentType="image/x-wmf"/>
  <Override PartName="/ppt/media/image8.png" ContentType="image/png"/>
  <Override PartName="/ppt/media/image7.png" ContentType="image/png"/>
  <Override PartName="/ppt/media/image1.jpeg" ContentType="image/jpeg"/>
  <Override PartName="/ppt/media/image32.png" ContentType="image/png"/>
  <Override PartName="/ppt/media/image23.wmf" ContentType="image/x-wmf"/>
  <Override PartName="/ppt/media/image11.jpeg" ContentType="image/jpeg"/>
  <Override PartName="/ppt/media/image9.jpeg" ContentType="image/jpeg"/>
  <Override PartName="/ppt/media/image28.png" ContentType="image/png"/>
  <Override PartName="/ppt/media/image5.png" ContentType="image/png"/>
  <Override PartName="/ppt/media/image10.jpeg" ContentType="image/jpeg"/>
  <Override PartName="/ppt/media/image13.jpeg" ContentType="image/jpeg"/>
  <Override PartName="/ppt/media/image31.png" ContentType="image/png"/>
  <Override PartName="/ppt/media/image6.png" ContentType="image/png"/>
  <Override PartName="/ppt/media/image14.wmf" ContentType="image/x-wmf"/>
  <Override PartName="/ppt/media/image29.png" ContentType="image/png"/>
  <Override PartName="/ppt/media/image12.jpeg" ContentType="image/jpeg"/>
  <Override PartName="/ppt/media/image4.jpeg" ContentType="image/jpeg"/>
  <Override PartName="/ppt/media/image30.png" ContentType="image/png"/>
  <Override PartName="/ppt/media/image3.jpeg" ContentType="image/jpeg"/>
  <Override PartName="/ppt/media/image15.png" ContentType="image/png"/>
  <Override PartName="/ppt/media/image25.wmf" ContentType="image/x-wmf"/>
  <Override PartName="/ppt/media/image17.wmf" ContentType="image/x-wmf"/>
  <Override PartName="/ppt/media/image2.jpeg" ContentType="image/jpeg"/>
  <Override PartName="/ppt/media/image18.wmf" ContentType="image/x-wmf"/>
  <Override PartName="/ppt/media/image26.jpeg" ContentType="image/jpeg"/>
  <Override PartName="/ppt/media/image20.jpeg" ContentType="image/jpeg"/>
  <Override PartName="/ppt/media/image19.wmf" ContentType="image/x-wmf"/>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5"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move the slide</a:t>
            </a:r>
            <a:endParaRPr b="0" lang="en-US" sz="3600" spc="-1" strike="noStrike">
              <a:solidFill>
                <a:srgbClr val="00007d"/>
              </a:solidFill>
              <a:latin typeface="Verdana"/>
            </a:endParaRPr>
          </a:p>
        </p:txBody>
      </p:sp>
      <p:sp>
        <p:nvSpPr>
          <p:cNvPr id="10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8"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9"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EBF88A-A156-43DD-B929-FDEFF86180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E6C21D-A4E4-442C-B8B8-09A26BBC34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8" name="PlaceHolder 1"/>
          <p:cNvSpPr>
            <a:spLocks noGrp="1"/>
          </p:cNvSpPr>
          <p:nvPr>
            <p:ph type="sldImg"/>
          </p:nvPr>
        </p:nvSpPr>
        <p:spPr>
          <a:xfrm>
            <a:off x="1143000" y="685800"/>
            <a:ext cx="4572000" cy="3429000"/>
          </a:xfrm>
          <a:prstGeom prst="rect">
            <a:avLst/>
          </a:prstGeom>
          <a:ln w="0">
            <a:noFill/>
          </a:ln>
        </p:spPr>
      </p:sp>
      <p:sp>
        <p:nvSpPr>
          <p:cNvPr id="5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1143000" y="685800"/>
            <a:ext cx="4572000" cy="3429000"/>
          </a:xfrm>
          <a:prstGeom prst="rect">
            <a:avLst/>
          </a:prstGeom>
          <a:ln w="0">
            <a:noFill/>
          </a:ln>
        </p:spPr>
      </p:sp>
      <p:sp>
        <p:nvSpPr>
          <p:cNvPr id="53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C9F11D-0840-4D1D-A9D9-D4B1E7C24C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5" name="PlaceHolder 1"/>
          <p:cNvSpPr>
            <a:spLocks noGrp="1"/>
          </p:cNvSpPr>
          <p:nvPr>
            <p:ph type="sldImg"/>
          </p:nvPr>
        </p:nvSpPr>
        <p:spPr>
          <a:xfrm>
            <a:off x="1143000" y="685800"/>
            <a:ext cx="4572000" cy="3429000"/>
          </a:xfrm>
          <a:prstGeom prst="rect">
            <a:avLst/>
          </a:prstGeom>
          <a:ln w="0">
            <a:noFill/>
          </a:ln>
        </p:spPr>
      </p:sp>
      <p:sp>
        <p:nvSpPr>
          <p:cNvPr id="5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2C7CC0-0A5A-45D1-A6C1-8B7D1510C4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8" name="PlaceHolder 1"/>
          <p:cNvSpPr>
            <a:spLocks noGrp="1"/>
          </p:cNvSpPr>
          <p:nvPr>
            <p:ph type="sldImg"/>
          </p:nvPr>
        </p:nvSpPr>
        <p:spPr>
          <a:xfrm>
            <a:off x="1143000" y="685800"/>
            <a:ext cx="4572000" cy="3429000"/>
          </a:xfrm>
          <a:prstGeom prst="rect">
            <a:avLst/>
          </a:prstGeom>
          <a:ln w="0">
            <a:noFill/>
          </a:ln>
        </p:spPr>
      </p:sp>
      <p:sp>
        <p:nvSpPr>
          <p:cNvPr id="5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69657E-1929-44E1-9D1A-8B83AB18AA3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1" name="PlaceHolder 1"/>
          <p:cNvSpPr>
            <a:spLocks noGrp="1"/>
          </p:cNvSpPr>
          <p:nvPr>
            <p:ph type="sldImg"/>
          </p:nvPr>
        </p:nvSpPr>
        <p:spPr>
          <a:xfrm>
            <a:off x="1143000" y="685800"/>
            <a:ext cx="4572000" cy="3429000"/>
          </a:xfrm>
          <a:prstGeom prst="rect">
            <a:avLst/>
          </a:prstGeom>
          <a:ln w="0">
            <a:noFill/>
          </a:ln>
        </p:spPr>
      </p:sp>
      <p:sp>
        <p:nvSpPr>
          <p:cNvPr id="5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0AA68B-10E2-46C8-A532-FA5DC9F91A7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4" name="PlaceHolder 1"/>
          <p:cNvSpPr>
            <a:spLocks noGrp="1"/>
          </p:cNvSpPr>
          <p:nvPr>
            <p:ph type="sldImg"/>
          </p:nvPr>
        </p:nvSpPr>
        <p:spPr>
          <a:xfrm>
            <a:off x="1143000" y="685800"/>
            <a:ext cx="4572000" cy="3429000"/>
          </a:xfrm>
          <a:prstGeom prst="rect">
            <a:avLst/>
          </a:prstGeom>
          <a:ln w="0">
            <a:noFill/>
          </a:ln>
        </p:spPr>
      </p:sp>
      <p:sp>
        <p:nvSpPr>
          <p:cNvPr id="5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A3BAAD-684E-477F-9EE1-DADD4BD2CFA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2F4AC3-5F07-43A7-BB12-58410E08BF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8" name="PlaceHolder 1"/>
          <p:cNvSpPr>
            <a:spLocks noGrp="1"/>
          </p:cNvSpPr>
          <p:nvPr>
            <p:ph type="sldImg"/>
          </p:nvPr>
        </p:nvSpPr>
        <p:spPr>
          <a:xfrm>
            <a:off x="1143000" y="685800"/>
            <a:ext cx="4572000" cy="3429000"/>
          </a:xfrm>
          <a:prstGeom prst="rect">
            <a:avLst/>
          </a:prstGeom>
          <a:ln w="0">
            <a:noFill/>
          </a:ln>
        </p:spPr>
      </p:sp>
      <p:sp>
        <p:nvSpPr>
          <p:cNvPr id="54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accreditation is a huge process. It requir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itment – The path towards meeting standards and recognition is rarely straightforward. When the process becomes difficult, challenging and requires time and effort, it is not uncommon to quit or postpone the process. Once stopped it becomes very difficult to start agai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ning – The path towards accreditation will take time. Laboratories should organize their staff and time to ensure that the process goes to completion with a minimum of obstruc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ledge – Application of standards requires knowledge of the standards and how to interpret them. If there are not people in the laboratory that have that knowledge, the laboratory may consider sending staff for special training or hiring a consultan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s – The process to accreditation may require reorganization, restructuring, trained staff, or additional equipment.  Recognition of potential costs should be considered in the planning phase, at the start of the process.</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8F71BA-62C6-4A46-A07E-09A0CE2747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1" name="PlaceHolder 1"/>
          <p:cNvSpPr>
            <a:spLocks noGrp="1"/>
          </p:cNvSpPr>
          <p:nvPr>
            <p:ph type="sldImg"/>
          </p:nvPr>
        </p:nvSpPr>
        <p:spPr>
          <a:xfrm>
            <a:off x="1143000" y="685800"/>
            <a:ext cx="4572000" cy="3429000"/>
          </a:xfrm>
          <a:prstGeom prst="rect">
            <a:avLst/>
          </a:prstGeom>
          <a:ln w="0">
            <a:noFill/>
          </a:ln>
        </p:spPr>
      </p:sp>
      <p:sp>
        <p:nvSpPr>
          <p:cNvPr id="55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FED6DE-3EBF-46A9-A371-33C02EF9D9E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4" name="PlaceHolder 1"/>
          <p:cNvSpPr>
            <a:spLocks noGrp="1"/>
          </p:cNvSpPr>
          <p:nvPr>
            <p:ph type="sldImg"/>
          </p:nvPr>
        </p:nvSpPr>
        <p:spPr>
          <a:xfrm>
            <a:off x="1143000" y="685800"/>
            <a:ext cx="4572000" cy="3429000"/>
          </a:xfrm>
          <a:prstGeom prst="rect">
            <a:avLst/>
          </a:prstGeom>
          <a:ln w="0">
            <a:noFill/>
          </a:ln>
        </p:spPr>
      </p:sp>
      <p:sp>
        <p:nvSpPr>
          <p:cNvPr id="5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C20C8C-EF0C-48C5-B73A-5E21BC2980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7" name="PlaceHolder 1"/>
          <p:cNvSpPr>
            <a:spLocks noGrp="1"/>
          </p:cNvSpPr>
          <p:nvPr>
            <p:ph type="sldImg"/>
          </p:nvPr>
        </p:nvSpPr>
        <p:spPr>
          <a:xfrm>
            <a:off x="1143000" y="685800"/>
            <a:ext cx="4572000" cy="3429000"/>
          </a:xfrm>
          <a:prstGeom prst="rect">
            <a:avLst/>
          </a:prstGeom>
          <a:ln w="0">
            <a:noFill/>
          </a:ln>
        </p:spPr>
      </p:sp>
      <p:sp>
        <p:nvSpPr>
          <p:cNvPr id="55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2EF122-82BD-4631-91F4-8043F8E4F9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0" name="PlaceHolder 1"/>
          <p:cNvSpPr>
            <a:spLocks noGrp="1"/>
          </p:cNvSpPr>
          <p:nvPr>
            <p:ph type="sldImg"/>
          </p:nvPr>
        </p:nvSpPr>
        <p:spPr>
          <a:xfrm>
            <a:off x="1143000" y="685800"/>
            <a:ext cx="4572000" cy="3429000"/>
          </a:xfrm>
          <a:prstGeom prst="rect">
            <a:avLst/>
          </a:prstGeom>
          <a:ln w="0">
            <a:noFill/>
          </a:ln>
        </p:spPr>
      </p:sp>
      <p:sp>
        <p:nvSpPr>
          <p:cNvPr id="56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9ACF85B7-8760-4EB3-8A8D-29792AE1D4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1" name="PlaceHolder 1"/>
          <p:cNvSpPr>
            <a:spLocks noGrp="1"/>
          </p:cNvSpPr>
          <p:nvPr>
            <p:ph type="sldImg"/>
          </p:nvPr>
        </p:nvSpPr>
        <p:spPr>
          <a:xfrm>
            <a:off x="1143000" y="685800"/>
            <a:ext cx="4572000" cy="3429000"/>
          </a:xfrm>
          <a:prstGeom prst="rect">
            <a:avLst/>
          </a:prstGeom>
          <a:ln w="0">
            <a:noFill/>
          </a:ln>
        </p:spPr>
      </p:sp>
      <p:sp>
        <p:nvSpPr>
          <p:cNvPr id="5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51C98AC2-007D-4654-A127-2A550F1B8B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3" name="PlaceHolder 1"/>
          <p:cNvSpPr>
            <a:spLocks noGrp="1"/>
          </p:cNvSpPr>
          <p:nvPr>
            <p:ph type="sldImg"/>
          </p:nvPr>
        </p:nvSpPr>
        <p:spPr>
          <a:xfrm>
            <a:off x="1143000" y="685800"/>
            <a:ext cx="4572000" cy="3429000"/>
          </a:xfrm>
          <a:prstGeom prst="rect">
            <a:avLst/>
          </a:prstGeom>
          <a:ln w="0">
            <a:noFill/>
          </a:ln>
        </p:spPr>
      </p:sp>
      <p:sp>
        <p:nvSpPr>
          <p:cNvPr id="56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8A60EE0D-B014-44EC-832B-BC0059F8E2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6" name="PlaceHolder 1"/>
          <p:cNvSpPr>
            <a:spLocks noGrp="1"/>
          </p:cNvSpPr>
          <p:nvPr>
            <p:ph type="sldImg"/>
          </p:nvPr>
        </p:nvSpPr>
        <p:spPr>
          <a:xfrm>
            <a:off x="1143000" y="685800"/>
            <a:ext cx="4572000" cy="3429000"/>
          </a:xfrm>
          <a:prstGeom prst="rect">
            <a:avLst/>
          </a:prstGeom>
          <a:ln w="0">
            <a:noFill/>
          </a:ln>
        </p:spPr>
      </p:sp>
      <p:sp>
        <p:nvSpPr>
          <p:cNvPr id="5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904501-A46D-490E-8086-B8368D3356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9" name="PlaceHolder 1"/>
          <p:cNvSpPr>
            <a:spLocks noGrp="1"/>
          </p:cNvSpPr>
          <p:nvPr>
            <p:ph type="sldImg"/>
          </p:nvPr>
        </p:nvSpPr>
        <p:spPr>
          <a:xfrm>
            <a:off x="1144440" y="685800"/>
            <a:ext cx="4572000" cy="3429000"/>
          </a:xfrm>
          <a:prstGeom prst="rect">
            <a:avLst/>
          </a:prstGeom>
          <a:ln w="0">
            <a:noFill/>
          </a:ln>
        </p:spPr>
      </p:sp>
      <p:sp>
        <p:nvSpPr>
          <p:cNvPr id="5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B1DF18-8D2E-49FA-B6D9-A49D0F76B5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4" name="PlaceHolder 1"/>
          <p:cNvSpPr>
            <a:spLocks noGrp="1"/>
          </p:cNvSpPr>
          <p:nvPr>
            <p:ph type="sldImg"/>
          </p:nvPr>
        </p:nvSpPr>
        <p:spPr>
          <a:xfrm>
            <a:off x="1143000" y="685800"/>
            <a:ext cx="4572000" cy="3429000"/>
          </a:xfrm>
          <a:prstGeom prst="rect">
            <a:avLst/>
          </a:prstGeom>
          <a:ln w="0">
            <a:noFill/>
          </a:ln>
        </p:spPr>
      </p:sp>
      <p:sp>
        <p:nvSpPr>
          <p:cNvPr id="5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E118715C-04CB-41F4-9E0B-FD0E833D6E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7" name="PlaceHolder 1"/>
          <p:cNvSpPr>
            <a:spLocks noGrp="1"/>
          </p:cNvSpPr>
          <p:nvPr>
            <p:ph type="sldImg"/>
          </p:nvPr>
        </p:nvSpPr>
        <p:spPr>
          <a:xfrm>
            <a:off x="1143000" y="685800"/>
            <a:ext cx="4572000" cy="3429000"/>
          </a:xfrm>
          <a:prstGeom prst="rect">
            <a:avLst/>
          </a:prstGeom>
          <a:ln w="0">
            <a:noFill/>
          </a:ln>
        </p:spPr>
      </p:sp>
      <p:sp>
        <p:nvSpPr>
          <p:cNvPr id="5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80E31851-2930-4B76-92B1-B40DD5F89B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0" name="PlaceHolder 1"/>
          <p:cNvSpPr>
            <a:spLocks noGrp="1"/>
          </p:cNvSpPr>
          <p:nvPr>
            <p:ph type="sldImg"/>
          </p:nvPr>
        </p:nvSpPr>
        <p:spPr>
          <a:xfrm>
            <a:off x="1143000" y="685800"/>
            <a:ext cx="4572000" cy="3429000"/>
          </a:xfrm>
          <a:prstGeom prst="rect">
            <a:avLst/>
          </a:prstGeom>
          <a:ln w="0">
            <a:noFill/>
          </a:ln>
        </p:spPr>
      </p:sp>
      <p:sp>
        <p:nvSpPr>
          <p:cNvPr id="5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B449734-D057-43AD-B243-75077CCD6FA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B0FD200-32DD-4799-B00D-B6169B30F1B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767FFF0-D844-4B6C-8ED8-D94EE7376F9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2BD0D59-94BE-4F5B-A8BD-0C8A2EA148F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DE217E95-BC12-43EF-916B-0FE344A7A02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68"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72567BF1-957A-4B56-A95D-9ACAD9DC6EE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94E1FA14-78BC-438B-9A02-F38BEA1C29B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1F71CF6D-0FD9-47D8-B9E4-25FE2C11D10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sldNum" idx="3"/>
          </p:nvPr>
        </p:nvSpPr>
        <p:spPr/>
        <p:txBody>
          <a:bodyPr/>
          <a:p>
            <a:fld id="{66DB2768-4A14-41F3-ABDF-F0A5D44EF7D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457200" y="456840"/>
            <a:ext cx="82296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E3CD34C5-EF8D-41A8-8404-C8BC8AAAC3A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8"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FF2634A9-481E-4D06-A1D5-5F70AC6103D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BB3BDA5-4518-4A62-A01F-BCA25DF1672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5204DC04-DDAB-4D8D-8057-F4BC2C1C487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CEBE437B-DE97-4A13-94E3-9402009943D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9"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0"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99FC08C2-1E90-44F0-86D6-4E4851CC54A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250A0C44-F698-4219-8698-5B7CE25A90F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7"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8"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47D575A1-DDEF-4DA0-A642-E5744BB43E5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B7F7668-AA62-4756-9EFA-1032E68BC84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1AC3AB6-C089-4666-A87C-4E9DCF7BED4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7A47AF7-9B7D-47EF-9AEB-B1D4CEABE79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6840"/>
            <a:ext cx="82296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5C318E9-9D13-4AA7-B812-27ADF913BF3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7B9CB1C-42E2-4748-AF51-5F1472DACFC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BB49367-467B-413D-B105-F4C3D266FD0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301017D-83AF-4884-A0DC-A4A74A7C2A5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04920" y="6429240"/>
            <a:ext cx="4038480" cy="2764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ценка: нормы и аккредитация – Тема 11</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848720" y="6404400"/>
            <a:ext cx="838080" cy="3013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D271AC-92A4-4506-996D-6398F31ADA2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Group 2"/>
          <p:cNvGrpSpPr/>
          <p:nvPr/>
        </p:nvGrpSpPr>
        <p:grpSpPr>
          <a:xfrm>
            <a:off x="0" y="0"/>
            <a:ext cx="9144000" cy="6858000"/>
            <a:chOff x="0" y="0"/>
            <a:chExt cx="9144000" cy="6858000"/>
          </a:xfrm>
        </p:grpSpPr>
        <p:sp>
          <p:nvSpPr>
            <p:cNvPr id="51" name="Rectangle 3"/>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Group 5"/>
            <p:cNvGrpSpPr/>
            <p:nvPr/>
          </p:nvGrpSpPr>
          <p:grpSpPr>
            <a:xfrm>
              <a:off x="0" y="1066680"/>
              <a:ext cx="2867040" cy="3157560"/>
              <a:chOff x="0" y="1066680"/>
              <a:chExt cx="2867040" cy="3157560"/>
            </a:xfrm>
          </p:grpSpPr>
          <p:sp>
            <p:nvSpPr>
              <p:cNvPr id="54"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65"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66" name="PlaceHolder 3"/>
          <p:cNvSpPr>
            <a:spLocks noGrp="1"/>
          </p:cNvSpPr>
          <p:nvPr>
            <p:ph type="sldNum" idx="3"/>
          </p:nvPr>
        </p:nvSpPr>
        <p:spPr>
          <a:xfrm>
            <a:off x="7848720" y="6404400"/>
            <a:ext cx="838080" cy="3013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3DDBCD-F617-4AD0-94FB-0504DBF491E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www.cen.eu/cenorm/index.htm" TargetMode="External"/><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slideLayout" Target="../slideLayouts/slideLayout1.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image" Target="../media/image18.wmf"/><Relationship Id="rId5" Type="http://schemas.openxmlformats.org/officeDocument/2006/relationships/image" Target="../media/image19.wmf"/><Relationship Id="rId6" Type="http://schemas.openxmlformats.org/officeDocument/2006/relationships/slideLayout" Target="../slideLayouts/slideLayout1.xml"/><Relationship Id="rId7"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1.png"/><Relationship Id="rId5" Type="http://schemas.openxmlformats.org/officeDocument/2006/relationships/image" Target="../media/image22.png"/><Relationship Id="rId6" Type="http://schemas.openxmlformats.org/officeDocument/2006/relationships/image" Target="../media/image23.wmf"/><Relationship Id="rId7"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jpeg"/><Relationship Id="rId3" Type="http://schemas.openxmlformats.org/officeDocument/2006/relationships/image" Target="../media/image26.jpeg"/><Relationship Id="rId4" Type="http://schemas.openxmlformats.org/officeDocument/2006/relationships/image" Target="../media/image26.jpeg"/><Relationship Id="rId5" Type="http://schemas.openxmlformats.org/officeDocument/2006/relationships/image" Target="../media/image26.jpeg"/><Relationship Id="rId6" Type="http://schemas.openxmlformats.org/officeDocument/2006/relationships/image" Target="../media/image26.jpeg"/><Relationship Id="rId7" Type="http://schemas.openxmlformats.org/officeDocument/2006/relationships/image" Target="../media/image26.jpeg"/><Relationship Id="rId8" Type="http://schemas.openxmlformats.org/officeDocument/2006/relationships/slideLayout" Target="../slideLayouts/slideLayout1.xml"/><Relationship Id="rId9"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image" Target="../media/image28.png"/><Relationship Id="rId3" Type="http://schemas.openxmlformats.org/officeDocument/2006/relationships/image" Target="../media/image28.pn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image" Target="../media/image30.png"/><Relationship Id="rId5" Type="http://schemas.openxmlformats.org/officeDocument/2006/relationships/image" Target="../media/image31.png"/><Relationship Id="rId6" Type="http://schemas.openxmlformats.org/officeDocument/2006/relationships/image" Target="../media/image31.png"/><Relationship Id="rId7" Type="http://schemas.openxmlformats.org/officeDocument/2006/relationships/image" Target="../media/image32.png"/><Relationship Id="rId8" Type="http://schemas.openxmlformats.org/officeDocument/2006/relationships/image" Target="../media/image32.png"/><Relationship Id="rId9"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2971800" y="1947600"/>
            <a:ext cx="6019920" cy="1747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Verdana"/>
              </a:rPr>
              <a:t>Оценка:</a:t>
            </a:r>
            <a:br>
              <a:rPr sz="4000"/>
            </a:br>
            <a:r>
              <a:rPr b="1" lang="ru-RU" sz="4000" spc="-1" strike="noStrike">
                <a:solidFill>
                  <a:srgbClr val="ffffff"/>
                </a:solidFill>
                <a:latin typeface="Verdana"/>
              </a:rPr>
              <a:t>Нормы и аккредитация</a:t>
            </a:r>
            <a:endParaRPr b="0" lang="en-US" sz="4000" spc="-1" strike="noStrike">
              <a:solidFill>
                <a:srgbClr val="00007d"/>
              </a:solidFill>
              <a:latin typeface="Verdana"/>
            </a:endParaRPr>
          </a:p>
        </p:txBody>
      </p:sp>
      <p:pic>
        <p:nvPicPr>
          <p:cNvPr id="111" name="Picture 16" descr="WHO-EN-C-H"/>
          <p:cNvPicPr/>
          <p:nvPr/>
        </p:nvPicPr>
        <p:blipFill>
          <a:blip r:embed="rId1"/>
          <a:stretch/>
        </p:blipFill>
        <p:spPr>
          <a:xfrm>
            <a:off x="5791320" y="6172200"/>
            <a:ext cx="1828800" cy="560520"/>
          </a:xfrm>
          <a:prstGeom prst="rect">
            <a:avLst/>
          </a:prstGeom>
          <a:ln w="0">
            <a:noFill/>
          </a:ln>
        </p:spPr>
      </p:pic>
      <p:pic>
        <p:nvPicPr>
          <p:cNvPr id="112" name="Picture 7" descr="2BSLATH"/>
          <p:cNvPicPr/>
          <p:nvPr/>
        </p:nvPicPr>
        <p:blipFill>
          <a:blip r:embed="rId2"/>
          <a:stretch/>
        </p:blipFill>
        <p:spPr>
          <a:xfrm>
            <a:off x="4952880" y="6172200"/>
            <a:ext cx="762120" cy="549360"/>
          </a:xfrm>
          <a:prstGeom prst="rect">
            <a:avLst/>
          </a:prstGeom>
          <a:ln w="0">
            <a:noFill/>
          </a:ln>
        </p:spPr>
      </p:pic>
      <p:pic>
        <p:nvPicPr>
          <p:cNvPr id="113" name="Picture 11" descr="HHS-Logo-blue"/>
          <p:cNvPicPr/>
          <p:nvPr/>
        </p:nvPicPr>
        <p:blipFill>
          <a:blip r:embed="rId3"/>
          <a:stretch/>
        </p:blipFill>
        <p:spPr>
          <a:xfrm>
            <a:off x="4267080" y="6095880"/>
            <a:ext cx="606600" cy="609840"/>
          </a:xfrm>
          <a:prstGeom prst="rect">
            <a:avLst/>
          </a:prstGeom>
          <a:ln w="0">
            <a:noFill/>
          </a:ln>
        </p:spPr>
      </p:pic>
      <p:pic>
        <p:nvPicPr>
          <p:cNvPr id="114" name="Picture 7" descr="CLSI_WHO_Blue_CMYK1"/>
          <p:cNvPicPr/>
          <p:nvPr/>
        </p:nvPicPr>
        <p:blipFill>
          <a:blip r:embed="rId4"/>
          <a:stretch/>
        </p:blipFill>
        <p:spPr>
          <a:xfrm>
            <a:off x="7772400" y="6172200"/>
            <a:ext cx="1219320" cy="566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533520"/>
            <a:ext cx="8610480" cy="830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Международная организация по стандартизации, ИСО</a:t>
            </a:r>
            <a:endParaRPr b="0" lang="en-US" sz="3200" spc="-1" strike="noStrike">
              <a:solidFill>
                <a:srgbClr val="00007d"/>
              </a:solidFill>
              <a:latin typeface="Verdana"/>
            </a:endParaRPr>
          </a:p>
        </p:txBody>
      </p:sp>
      <p:sp>
        <p:nvSpPr>
          <p:cNvPr id="222" name="PlaceHolder 2"/>
          <p:cNvSpPr>
            <a:spLocks noGrp="1"/>
          </p:cNvSpPr>
          <p:nvPr>
            <p:ph/>
          </p:nvPr>
        </p:nvSpPr>
        <p:spPr>
          <a:xfrm>
            <a:off x="380880" y="2777760"/>
            <a:ext cx="8229600" cy="2763720"/>
          </a:xfrm>
          <a:prstGeom prst="rect">
            <a:avLst/>
          </a:prstGeom>
          <a:noFill/>
          <a:ln w="0">
            <a:noFill/>
          </a:ln>
        </p:spPr>
        <p:txBody>
          <a:bodyPr anchor="t">
            <a:normAutofit/>
          </a:bodyPr>
          <a:p>
            <a:pPr lvl="1" marL="539640" indent="-274680">
              <a:lnSpc>
                <a:spcPct val="120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самый крупный в мире разработчик и издатель стандартов</a:t>
            </a:r>
            <a:endParaRPr b="0" lang="en-US" sz="2800" spc="-1" strike="noStrike">
              <a:solidFill>
                <a:srgbClr val="000000"/>
              </a:solidFill>
              <a:latin typeface="Verdana"/>
            </a:endParaRPr>
          </a:p>
          <a:p>
            <a:pPr lvl="1" marL="539640" indent="-274680">
              <a:lnSpc>
                <a:spcPct val="120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стандарты применимы к разным типам организаций, включая клинические и медицинские лаборатории</a:t>
            </a:r>
            <a:endParaRPr b="0" lang="en-US" sz="2800" spc="-1" strike="noStrike">
              <a:solidFill>
                <a:srgbClr val="000000"/>
              </a:solidFill>
              <a:latin typeface="Verdana"/>
            </a:endParaRPr>
          </a:p>
        </p:txBody>
      </p:sp>
      <p:pic>
        <p:nvPicPr>
          <p:cNvPr id="223" name="Picture 4" descr="ISO Logo"/>
          <p:cNvPicPr/>
          <p:nvPr/>
        </p:nvPicPr>
        <p:blipFill>
          <a:blip r:embed="rId1"/>
          <a:stretch/>
        </p:blipFill>
        <p:spPr>
          <a:xfrm>
            <a:off x="685800" y="1782720"/>
            <a:ext cx="2286000" cy="655560"/>
          </a:xfrm>
          <a:prstGeom prst="rect">
            <a:avLst/>
          </a:prstGeom>
          <a:ln w="0">
            <a:noFill/>
          </a:ln>
        </p:spPr>
      </p:pic>
      <p:sp>
        <p:nvSpPr>
          <p:cNvPr id="224"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225"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C285B0-B6F4-41B9-92C9-4171B202D3A3}"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380520"/>
            <a:ext cx="8381880" cy="1078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Институт клинических и лабораторных стандартов, </a:t>
            </a:r>
            <a:r>
              <a:rPr b="0" lang="en-US" sz="3200" spc="-1" strike="noStrike">
                <a:solidFill>
                  <a:srgbClr val="00007d"/>
                </a:solidFill>
                <a:latin typeface="Verdana"/>
              </a:rPr>
              <a:t>CLSI</a:t>
            </a:r>
            <a:endParaRPr b="0" lang="en-US" sz="3200" spc="-1" strike="noStrike">
              <a:solidFill>
                <a:srgbClr val="00007d"/>
              </a:solidFill>
              <a:latin typeface="Verdana"/>
            </a:endParaRPr>
          </a:p>
        </p:txBody>
      </p:sp>
      <p:sp>
        <p:nvSpPr>
          <p:cNvPr id="227" name="PlaceHolder 2"/>
          <p:cNvSpPr>
            <a:spLocks noGrp="1"/>
          </p:cNvSpPr>
          <p:nvPr>
            <p:ph/>
          </p:nvPr>
        </p:nvSpPr>
        <p:spPr>
          <a:xfrm>
            <a:off x="304920" y="2447640"/>
            <a:ext cx="8534160" cy="3724200"/>
          </a:xfrm>
          <a:prstGeom prst="rect">
            <a:avLst/>
          </a:prstGeom>
          <a:noFill/>
          <a:ln w="0">
            <a:noFill/>
          </a:ln>
        </p:spPr>
        <p:txBody>
          <a:bodyPr anchor="t">
            <a:normAutofit/>
          </a:bodyPr>
          <a:p>
            <a:pPr lvl="1" marL="743040" indent="-285840">
              <a:spcBef>
                <a:spcPts val="1199"/>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международная некоммерческая организация по разработке стандартов</a:t>
            </a:r>
            <a:endParaRPr b="0" lang="en-US" sz="2400" spc="-1" strike="noStrike">
              <a:solidFill>
                <a:srgbClr val="000000"/>
              </a:solidFill>
              <a:latin typeface="Verdana"/>
            </a:endParaRPr>
          </a:p>
          <a:p>
            <a:pPr lvl="1" marL="743040" indent="-285840">
              <a:spcBef>
                <a:spcPts val="1199"/>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способствует созданию и использованию  стандартов и рекомендаций, принятых на основе добровольного консенсуса в области здравоохранения</a:t>
            </a:r>
            <a:endParaRPr b="0" lang="en-US" sz="2400" spc="-1" strike="noStrike">
              <a:solidFill>
                <a:srgbClr val="000000"/>
              </a:solidFill>
              <a:latin typeface="Verdana"/>
            </a:endParaRPr>
          </a:p>
          <a:p>
            <a:pPr lvl="1" marL="743040" indent="-285840">
              <a:spcBef>
                <a:spcPts val="1199"/>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документы разрабатываются специалистами, работающими в рабочих группах или подкомитетах</a:t>
            </a:r>
            <a:endParaRPr b="0" lang="en-US" sz="2400" spc="-1" strike="noStrike">
              <a:solidFill>
                <a:srgbClr val="000000"/>
              </a:solidFill>
              <a:latin typeface="Verdana"/>
            </a:endParaRPr>
          </a:p>
        </p:txBody>
      </p:sp>
      <p:pic>
        <p:nvPicPr>
          <p:cNvPr id="228" name="Picture 5" descr="paho_286_logo"/>
          <p:cNvPicPr/>
          <p:nvPr/>
        </p:nvPicPr>
        <p:blipFill>
          <a:blip r:embed="rId1"/>
          <a:srcRect l="0" t="0" r="0" b="11074"/>
          <a:stretch/>
        </p:blipFill>
        <p:spPr>
          <a:xfrm>
            <a:off x="762120" y="1609560"/>
            <a:ext cx="1828800" cy="676440"/>
          </a:xfrm>
          <a:prstGeom prst="rect">
            <a:avLst/>
          </a:prstGeom>
          <a:ln w="0">
            <a:noFill/>
          </a:ln>
        </p:spPr>
      </p:pic>
      <p:sp>
        <p:nvSpPr>
          <p:cNvPr id="229"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230"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6A9C0D-E8A1-4AE5-996B-165D082BAFC0}"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533520"/>
            <a:ext cx="8686800" cy="830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Европейский комитет по стандартизации</a:t>
            </a:r>
            <a:endParaRPr b="0" lang="en-US" sz="3200" spc="-1" strike="noStrike">
              <a:solidFill>
                <a:srgbClr val="00007d"/>
              </a:solidFill>
              <a:latin typeface="Verdana"/>
            </a:endParaRPr>
          </a:p>
        </p:txBody>
      </p:sp>
      <p:sp>
        <p:nvSpPr>
          <p:cNvPr id="232" name="PlaceHolder 2"/>
          <p:cNvSpPr>
            <a:spLocks noGrp="1"/>
          </p:cNvSpPr>
          <p:nvPr>
            <p:ph/>
          </p:nvPr>
        </p:nvSpPr>
        <p:spPr>
          <a:xfrm>
            <a:off x="457200" y="2798280"/>
            <a:ext cx="8229600" cy="3281400"/>
          </a:xfrm>
          <a:prstGeom prst="rect">
            <a:avLst/>
          </a:prstGeom>
          <a:noFill/>
          <a:ln w="0">
            <a:noFill/>
          </a:ln>
        </p:spPr>
        <p:txBody>
          <a:bodyPr anchor="t">
            <a:normAutofit/>
          </a:bodyPr>
          <a:p>
            <a:pPr lvl="1" marL="743040" indent="-285840">
              <a:lnSpc>
                <a:spcPct val="120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национальные организации по стандартизации в странах ЕЭС и ассоциированных странах</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основными принципами являются открытость и прозрачность, консенсус и интеграция</a:t>
            </a:r>
            <a:endParaRPr b="0" lang="en-US" sz="2800" spc="-1" strike="noStrike">
              <a:solidFill>
                <a:srgbClr val="000000"/>
              </a:solidFill>
              <a:latin typeface="Verdana"/>
            </a:endParaRPr>
          </a:p>
        </p:txBody>
      </p:sp>
      <p:pic>
        <p:nvPicPr>
          <p:cNvPr id="233" name="Picture 4" descr="logo">
            <a:hlinkClick r:id="rId1"/>
          </p:cNvPr>
          <p:cNvPicPr/>
          <p:nvPr/>
        </p:nvPicPr>
        <p:blipFill>
          <a:blip r:embed="rId2"/>
          <a:stretch/>
        </p:blipFill>
        <p:spPr>
          <a:xfrm>
            <a:off x="685800" y="1625760"/>
            <a:ext cx="3124080" cy="888840"/>
          </a:xfrm>
          <a:prstGeom prst="rect">
            <a:avLst/>
          </a:prstGeom>
          <a:ln w="0">
            <a:noFill/>
          </a:ln>
        </p:spPr>
      </p:pic>
      <p:sp>
        <p:nvSpPr>
          <p:cNvPr id="234"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235"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3D7B42-E232-48E7-8A4B-86DF474D5728}"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719280"/>
            <a:ext cx="8381880" cy="652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Всемирная организация здравоохранения</a:t>
            </a:r>
            <a:endParaRPr b="0" lang="en-US" sz="3600" spc="-1" strike="noStrike">
              <a:solidFill>
                <a:srgbClr val="00007d"/>
              </a:solidFill>
              <a:latin typeface="Verdana"/>
            </a:endParaRPr>
          </a:p>
        </p:txBody>
      </p:sp>
      <p:sp>
        <p:nvSpPr>
          <p:cNvPr id="237" name="PlaceHolder 2"/>
          <p:cNvSpPr>
            <a:spLocks noGrp="1"/>
          </p:cNvSpPr>
          <p:nvPr>
            <p:ph/>
          </p:nvPr>
        </p:nvSpPr>
        <p:spPr>
          <a:xfrm>
            <a:off x="457200" y="3058920"/>
            <a:ext cx="8229600" cy="2160360"/>
          </a:xfrm>
          <a:prstGeom prst="rect">
            <a:avLst/>
          </a:prstGeom>
          <a:noFill/>
          <a:ln w="0">
            <a:noFill/>
          </a:ln>
        </p:spPr>
        <p:txBody>
          <a:bodyPr anchor="t">
            <a:normAutofit/>
          </a:bodyPr>
          <a:p>
            <a:pPr lvl="1" marL="743040" indent="-285840">
              <a:lnSpc>
                <a:spcPct val="120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разработала несколько стандартов для диагностических лабораторий по конкретным заболеваниям, таким как полиомиелит, туберкулез, грипп, корь</a:t>
            </a:r>
            <a:endParaRPr b="0" lang="en-US" sz="2800" spc="-1" strike="noStrike">
              <a:solidFill>
                <a:srgbClr val="000000"/>
              </a:solidFill>
              <a:latin typeface="Verdana"/>
            </a:endParaRPr>
          </a:p>
        </p:txBody>
      </p:sp>
      <p:pic>
        <p:nvPicPr>
          <p:cNvPr id="238" name="Picture 16" descr="WHO-EN-C-H"/>
          <p:cNvPicPr/>
          <p:nvPr/>
        </p:nvPicPr>
        <p:blipFill>
          <a:blip r:embed="rId1"/>
          <a:stretch/>
        </p:blipFill>
        <p:spPr>
          <a:xfrm>
            <a:off x="609480" y="1943280"/>
            <a:ext cx="2362320" cy="723600"/>
          </a:xfrm>
          <a:prstGeom prst="rect">
            <a:avLst/>
          </a:prstGeom>
          <a:ln w="0">
            <a:noFill/>
          </a:ln>
        </p:spPr>
      </p:pic>
      <p:sp>
        <p:nvSpPr>
          <p:cNvPr id="239"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240"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722602-FFB8-4FDD-8E16-241A74547EDD}"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456840"/>
            <a:ext cx="678168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Национальные стандарты и технические рекомендации</a:t>
            </a:r>
            <a:endParaRPr b="0" lang="en-US" sz="3200" spc="-1" strike="noStrike">
              <a:solidFill>
                <a:srgbClr val="00007d"/>
              </a:solidFill>
              <a:latin typeface="Verdana"/>
            </a:endParaRPr>
          </a:p>
        </p:txBody>
      </p:sp>
      <p:sp>
        <p:nvSpPr>
          <p:cNvPr id="242" name="PlaceHolder 2"/>
          <p:cNvSpPr>
            <a:spLocks noGrp="1"/>
          </p:cNvSpPr>
          <p:nvPr>
            <p:ph/>
          </p:nvPr>
        </p:nvSpPr>
        <p:spPr>
          <a:xfrm>
            <a:off x="609120" y="1752120"/>
            <a:ext cx="8001000" cy="4186440"/>
          </a:xfrm>
          <a:prstGeom prst="rect">
            <a:avLst/>
          </a:prstGeom>
          <a:noFill/>
          <a:ln w="0">
            <a:noFill/>
          </a:ln>
        </p:spPr>
        <p:txBody>
          <a:bodyPr anchor="t">
            <a:normAutofit/>
          </a:bodyPr>
          <a:p>
            <a:pPr marL="343080" indent="-343080">
              <a:lnSpc>
                <a:spcPct val="90000"/>
              </a:lnSpc>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Verdana"/>
              </a:rPr>
              <a:t>Национальные стандарты </a:t>
            </a:r>
            <a:endParaRPr b="0" lang="en-US" sz="2400" spc="-1" strike="noStrike">
              <a:solidFill>
                <a:srgbClr val="000000"/>
              </a:solidFill>
              <a:latin typeface="Verdana"/>
            </a:endParaRPr>
          </a:p>
          <a:p>
            <a:pPr lvl="1" marL="743040" indent="-285840">
              <a:lnSpc>
                <a:spcPct val="90000"/>
              </a:lnSpc>
              <a:spcBef>
                <a:spcPts val="11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основаны на международных стандартах</a:t>
            </a:r>
            <a:endParaRPr b="0" lang="en-US" sz="2400" spc="-1" strike="noStrike">
              <a:solidFill>
                <a:srgbClr val="000000"/>
              </a:solidFill>
              <a:latin typeface="Verdana"/>
            </a:endParaRPr>
          </a:p>
          <a:p>
            <a:pPr lvl="1" marL="743040" indent="-285840">
              <a:lnSpc>
                <a:spcPct val="90000"/>
              </a:lnSpc>
              <a:spcBef>
                <a:spcPts val="11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адаптированы к обычаям и общим условиям страны</a:t>
            </a:r>
            <a:endParaRPr b="0" lang="en-US" sz="2400" spc="-1" strike="noStrike">
              <a:solidFill>
                <a:srgbClr val="000000"/>
              </a:solidFill>
              <a:latin typeface="Verdana"/>
            </a:endParaRPr>
          </a:p>
          <a:p>
            <a:pPr marL="343080" indent="-343080">
              <a:lnSpc>
                <a:spcPct val="90000"/>
              </a:lnSpc>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Verdana"/>
              </a:rPr>
              <a:t>Рекомендации </a:t>
            </a:r>
            <a:r>
              <a:rPr b="0" lang="en-US" sz="2400" spc="-1" strike="noStrike">
                <a:solidFill>
                  <a:srgbClr val="000000"/>
                </a:solidFill>
                <a:latin typeface="Verdana"/>
              </a:rPr>
              <a:t> </a:t>
            </a:r>
            <a:endParaRPr b="0" lang="en-US" sz="2400" spc="-1" strike="noStrike">
              <a:solidFill>
                <a:srgbClr val="000000"/>
              </a:solidFill>
              <a:latin typeface="Verdana"/>
            </a:endParaRPr>
          </a:p>
          <a:p>
            <a:pPr lvl="1" marL="743040" indent="-285840">
              <a:lnSpc>
                <a:spcPct val="90000"/>
              </a:lnSpc>
              <a:spcBef>
                <a:spcPts val="1199"/>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дополняют стандарты ИСО</a:t>
            </a:r>
            <a:r>
              <a:rPr b="0" lang="en-US" sz="2400" spc="-1" strike="noStrike">
                <a:solidFill>
                  <a:srgbClr val="000000"/>
                </a:solidFill>
                <a:latin typeface="Verdana"/>
              </a:rPr>
              <a:t> </a:t>
            </a:r>
            <a:r>
              <a:rPr b="0" lang="ru-RU" sz="2400" spc="-1" strike="noStrike">
                <a:solidFill>
                  <a:srgbClr val="000000"/>
                </a:solidFill>
                <a:latin typeface="Verdana"/>
              </a:rPr>
              <a:t>специальными рекомендациями для использования в лабораториях</a:t>
            </a:r>
            <a:endParaRPr b="0" lang="en-US" sz="2400" spc="-1" strike="noStrike">
              <a:solidFill>
                <a:srgbClr val="000000"/>
              </a:solidFill>
              <a:latin typeface="Verdana"/>
            </a:endParaRPr>
          </a:p>
          <a:p>
            <a:pPr lvl="1" marL="743040" indent="-285840">
              <a:lnSpc>
                <a:spcPct val="90000"/>
              </a:lnSpc>
              <a:spcBef>
                <a:spcPts val="1199"/>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могут относиться к конкретным видам анализов</a:t>
            </a:r>
            <a:r>
              <a:rPr b="0" lang="en-US" sz="2400" spc="-1" strike="noStrike">
                <a:solidFill>
                  <a:srgbClr val="000000"/>
                </a:solidFill>
                <a:latin typeface="Verdana"/>
              </a:rPr>
              <a:t>	</a:t>
            </a:r>
            <a:endParaRPr b="0" lang="en-US" sz="2400" spc="-1" strike="noStrike">
              <a:solidFill>
                <a:srgbClr val="000000"/>
              </a:solidFill>
              <a:latin typeface="Verdana"/>
            </a:endParaRPr>
          </a:p>
        </p:txBody>
      </p:sp>
      <p:sp>
        <p:nvSpPr>
          <p:cNvPr id="243"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244"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402FAC-E7E5-4D08-8FA3-E9D6E16BAA29}"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380880" y="449280"/>
            <a:ext cx="8382240" cy="1076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Специальные и национальные </a:t>
            </a:r>
            <a:br>
              <a:rPr sz="3200"/>
            </a:br>
            <a:r>
              <a:rPr b="0" lang="ru-RU" sz="3200" spc="-1" strike="noStrike">
                <a:solidFill>
                  <a:srgbClr val="00007d"/>
                </a:solidFill>
                <a:latin typeface="Verdana"/>
              </a:rPr>
              <a:t>нормы, стандарты и предписания</a:t>
            </a:r>
            <a:endParaRPr b="0" lang="en-US" sz="3200" spc="-1" strike="noStrike">
              <a:solidFill>
                <a:srgbClr val="00007d"/>
              </a:solidFill>
              <a:latin typeface="Verdana"/>
            </a:endParaRPr>
          </a:p>
        </p:txBody>
      </p:sp>
      <p:pic>
        <p:nvPicPr>
          <p:cNvPr id="246" name="Picture 3" descr="WHOAccreditationPolio"/>
          <p:cNvPicPr/>
          <p:nvPr/>
        </p:nvPicPr>
        <p:blipFill>
          <a:blip r:embed="rId1"/>
          <a:srcRect l="0" t="5871" r="0" b="0"/>
          <a:stretch/>
        </p:blipFill>
        <p:spPr>
          <a:xfrm>
            <a:off x="4648320" y="2022480"/>
            <a:ext cx="3809880" cy="2556000"/>
          </a:xfrm>
          <a:prstGeom prst="rect">
            <a:avLst/>
          </a:prstGeom>
          <a:ln w="0">
            <a:noFill/>
          </a:ln>
        </p:spPr>
      </p:pic>
      <p:pic>
        <p:nvPicPr>
          <p:cNvPr id="247" name="Picture 4" descr="AccreditationSEARO"/>
          <p:cNvPicPr/>
          <p:nvPr/>
        </p:nvPicPr>
        <p:blipFill>
          <a:blip r:embed="rId2"/>
          <a:stretch/>
        </p:blipFill>
        <p:spPr>
          <a:xfrm>
            <a:off x="5029200" y="3622680"/>
            <a:ext cx="2143080" cy="2778120"/>
          </a:xfrm>
          <a:prstGeom prst="rect">
            <a:avLst/>
          </a:prstGeom>
          <a:ln w="0">
            <a:noFill/>
          </a:ln>
        </p:spPr>
      </p:pic>
      <p:pic>
        <p:nvPicPr>
          <p:cNvPr id="248" name="Picture 5" descr="StopTBQA"/>
          <p:cNvPicPr/>
          <p:nvPr/>
        </p:nvPicPr>
        <p:blipFill>
          <a:blip r:embed="rId3"/>
          <a:stretch/>
        </p:blipFill>
        <p:spPr>
          <a:xfrm>
            <a:off x="2666880" y="2403360"/>
            <a:ext cx="2610000" cy="3837240"/>
          </a:xfrm>
          <a:prstGeom prst="rect">
            <a:avLst/>
          </a:prstGeom>
          <a:ln w="0">
            <a:noFill/>
          </a:ln>
        </p:spPr>
      </p:pic>
      <p:pic>
        <p:nvPicPr>
          <p:cNvPr id="249" name="Picture 6" descr="QAStandardsThailand"/>
          <p:cNvPicPr/>
          <p:nvPr/>
        </p:nvPicPr>
        <p:blipFill>
          <a:blip r:embed="rId4"/>
          <a:stretch/>
        </p:blipFill>
        <p:spPr>
          <a:xfrm>
            <a:off x="533520" y="2098800"/>
            <a:ext cx="2717640" cy="3189240"/>
          </a:xfrm>
          <a:prstGeom prst="rect">
            <a:avLst/>
          </a:prstGeom>
          <a:ln w="0">
            <a:noFill/>
          </a:ln>
        </p:spPr>
      </p:pic>
      <p:sp>
        <p:nvSpPr>
          <p:cNvPr id="250"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251"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A01A89-E805-4076-9A66-3E89A76FF80F}"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380880" y="495360"/>
            <a:ext cx="8382240" cy="419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7d"/>
                </a:solidFill>
                <a:latin typeface="Verdana"/>
              </a:rPr>
              <a:t>Определения</a:t>
            </a:r>
            <a:endParaRPr b="0" lang="en-US" sz="2800" spc="-1" strike="noStrike">
              <a:solidFill>
                <a:srgbClr val="00007d"/>
              </a:solidFill>
              <a:latin typeface="Verdana"/>
            </a:endParaRPr>
          </a:p>
        </p:txBody>
      </p:sp>
      <p:sp>
        <p:nvSpPr>
          <p:cNvPr id="253" name="PlaceHolder 2"/>
          <p:cNvSpPr>
            <a:spLocks noGrp="1"/>
          </p:cNvSpPr>
          <p:nvPr>
            <p:ph/>
          </p:nvPr>
        </p:nvSpPr>
        <p:spPr>
          <a:xfrm>
            <a:off x="380520" y="1219320"/>
            <a:ext cx="8610840" cy="4951440"/>
          </a:xfrm>
          <a:prstGeom prst="rect">
            <a:avLst/>
          </a:prstGeom>
          <a:noFill/>
          <a:ln w="0">
            <a:noFill/>
          </a:ln>
        </p:spPr>
        <p:txBody>
          <a:bodyPr anchor="t">
            <a:normAutofit/>
          </a:bodyPr>
          <a:p>
            <a:pPr marL="343080" indent="-343080">
              <a:lnSpc>
                <a:spcPct val="11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Сертификация</a:t>
            </a:r>
            <a:r>
              <a:rPr b="0" lang="en-US" sz="2000" spc="-1" strike="noStrike">
                <a:solidFill>
                  <a:srgbClr val="000000"/>
                </a:solidFill>
                <a:latin typeface="Verdana"/>
              </a:rPr>
              <a:t> </a:t>
            </a:r>
            <a:r>
              <a:rPr b="0" lang="en-US" sz="1800" spc="-1" strike="noStrike">
                <a:solidFill>
                  <a:srgbClr val="000000"/>
                </a:solidFill>
                <a:latin typeface="Verdana"/>
              </a:rPr>
              <a:t>(</a:t>
            </a:r>
            <a:r>
              <a:rPr b="0" lang="ru-RU" sz="1800" spc="-1" strike="noStrike">
                <a:solidFill>
                  <a:srgbClr val="000000"/>
                </a:solidFill>
                <a:latin typeface="Verdana"/>
              </a:rPr>
              <a:t>ИСО/МЭК 1700</a:t>
            </a:r>
            <a:r>
              <a:rPr b="0" lang="en-US" sz="1800" spc="-1" strike="noStrike">
                <a:solidFill>
                  <a:srgbClr val="000000"/>
                </a:solidFill>
                <a:latin typeface="Verdana"/>
              </a:rPr>
              <a:t>)</a:t>
            </a:r>
            <a:endParaRPr b="0" lang="en-US" sz="1800" spc="-1" strike="noStrike">
              <a:solidFill>
                <a:srgbClr val="000000"/>
              </a:solidFill>
              <a:latin typeface="Verdana"/>
            </a:endParaRPr>
          </a:p>
          <a:p>
            <a:pPr lvl="1" marL="630360" indent="-273240">
              <a:lnSpc>
                <a:spcPct val="11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Процедура, в результате которой независимый орган дает письменное подтверждение того, что продукт, процесс или услуга соответствуют определенным требованиям.</a:t>
            </a:r>
            <a:endParaRPr b="0" lang="en-US" sz="1800" spc="-1" strike="noStrike">
              <a:solidFill>
                <a:srgbClr val="000000"/>
              </a:solidFill>
              <a:latin typeface="Verdana"/>
            </a:endParaRPr>
          </a:p>
          <a:p>
            <a:pPr marL="343080" indent="-343080">
              <a:lnSpc>
                <a:spcPct val="11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Аккредитация</a:t>
            </a:r>
            <a:r>
              <a:rPr b="0" lang="en-US" sz="1800" spc="-1" strike="noStrike">
                <a:solidFill>
                  <a:srgbClr val="000000"/>
                </a:solidFill>
                <a:latin typeface="Verdana"/>
              </a:rPr>
              <a:t> (</a:t>
            </a:r>
            <a:r>
              <a:rPr b="0" lang="ru-RU" sz="1800" spc="-1" strike="noStrike">
                <a:solidFill>
                  <a:srgbClr val="000000"/>
                </a:solidFill>
                <a:latin typeface="Verdana"/>
              </a:rPr>
              <a:t>ИСО 15189</a:t>
            </a:r>
            <a:r>
              <a:rPr b="0" lang="en-US" sz="1800" spc="-1" strike="noStrike">
                <a:solidFill>
                  <a:srgbClr val="000000"/>
                </a:solidFill>
                <a:latin typeface="Verdana"/>
              </a:rPr>
              <a:t>)</a:t>
            </a:r>
            <a:endParaRPr b="0" lang="en-US" sz="1800" spc="-1" strike="noStrike">
              <a:solidFill>
                <a:srgbClr val="000000"/>
              </a:solidFill>
              <a:latin typeface="Verdana"/>
            </a:endParaRPr>
          </a:p>
          <a:p>
            <a:pPr lvl="1" marL="630360" indent="-273240">
              <a:lnSpc>
                <a:spcPct val="11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Процедура, в результате которой уполномоченный орган формально признает то, что организация или отдельное лицо является компетентным для выполнения определенных задач. </a:t>
            </a:r>
            <a:endParaRPr b="0" lang="en-US" sz="1800" spc="-1" strike="noStrike">
              <a:solidFill>
                <a:srgbClr val="000000"/>
              </a:solidFill>
              <a:latin typeface="Verdana"/>
            </a:endParaRPr>
          </a:p>
          <a:p>
            <a:pPr lvl="1" marL="630360" indent="0">
              <a:lnSpc>
                <a:spcPct val="11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Лицензирование</a:t>
            </a:r>
            <a:endParaRPr b="0" lang="en-US" sz="2400" spc="-1" strike="noStrike">
              <a:solidFill>
                <a:srgbClr val="000000"/>
              </a:solidFill>
              <a:latin typeface="Verdana"/>
            </a:endParaRPr>
          </a:p>
          <a:p>
            <a:pPr lvl="1" marL="630360" indent="-273240">
              <a:lnSpc>
                <a:spcPct val="11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Разрешение на осуществление деятельности, которое обычно выдает орган местной власти на основании продемонстрированных знаний, подготовки и практического опыта.</a:t>
            </a:r>
            <a:endParaRPr b="0" lang="en-US" sz="1800" spc="-1" strike="noStrike">
              <a:solidFill>
                <a:srgbClr val="000000"/>
              </a:solidFill>
              <a:latin typeface="Verdana"/>
            </a:endParaRPr>
          </a:p>
        </p:txBody>
      </p:sp>
      <p:sp>
        <p:nvSpPr>
          <p:cNvPr id="254"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255"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5A4E53-6C07-482E-989F-702F140DCD94}"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257"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96FAFF-4203-4EDE-96B0-F688E017B0C2}"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58" name="Slide Number Placeholder 5"/>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9" name="Diagram 2"/>
          <p:cNvGrpSpPr/>
          <p:nvPr/>
        </p:nvGrpSpPr>
        <p:grpSpPr>
          <a:xfrm>
            <a:off x="534960" y="762120"/>
            <a:ext cx="7465680" cy="5181120"/>
            <a:chOff x="534960" y="762120"/>
            <a:chExt cx="7465680" cy="5181120"/>
          </a:xfrm>
        </p:grpSpPr>
        <p:sp>
          <p:nvSpPr>
            <p:cNvPr id="260" name="_s1028"/>
            <p:cNvSpPr/>
            <p:nvPr/>
          </p:nvSpPr>
          <p:spPr>
            <a:xfrm>
              <a:off x="2820600" y="762120"/>
              <a:ext cx="3603960" cy="3627000"/>
            </a:xfrm>
            <a:prstGeom prst="ellipse">
              <a:avLst/>
            </a:prstGeom>
            <a:solidFill>
              <a:srgbClr val="f9f67f">
                <a:alpha val="50000"/>
              </a:srgbClr>
            </a:solidFill>
            <a:ln w="9360">
              <a:solidFill>
                <a:srgbClr val="54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61" name="_s1029"/>
            <p:cNvSpPr/>
            <p:nvPr/>
          </p:nvSpPr>
          <p:spPr>
            <a:xfrm>
              <a:off x="3811680" y="1675800"/>
              <a:ext cx="1369800" cy="4856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Verdana"/>
                </a:rPr>
                <a:t>Аккредитация</a:t>
              </a:r>
              <a:endParaRPr b="0" lang="en-US" sz="2400" spc="-1" strike="noStrike">
                <a:solidFill>
                  <a:srgbClr val="000000"/>
                </a:solidFill>
                <a:latin typeface="Arial"/>
              </a:endParaRPr>
            </a:p>
          </p:txBody>
        </p:sp>
        <p:sp>
          <p:nvSpPr>
            <p:cNvPr id="262" name="_s1030"/>
            <p:cNvSpPr/>
            <p:nvPr/>
          </p:nvSpPr>
          <p:spPr>
            <a:xfrm>
              <a:off x="4115160" y="2514240"/>
              <a:ext cx="3885480" cy="3254400"/>
            </a:xfrm>
            <a:prstGeom prst="ellipse">
              <a:avLst/>
            </a:prstGeom>
            <a:solidFill>
              <a:srgbClr val="ffcc00">
                <a:alpha val="50000"/>
              </a:srgbClr>
            </a:solidFill>
            <a:ln w="9360">
              <a:solidFill>
                <a:srgbClr val="54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63" name="_s1031"/>
            <p:cNvSpPr/>
            <p:nvPr/>
          </p:nvSpPr>
          <p:spPr>
            <a:xfrm>
              <a:off x="5801040" y="3552120"/>
              <a:ext cx="1590120" cy="7106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Verdana"/>
                </a:rPr>
                <a:t>Сертификация</a:t>
              </a:r>
              <a:endParaRPr b="0" lang="en-US" sz="2400" spc="-1" strike="noStrike">
                <a:solidFill>
                  <a:srgbClr val="000000"/>
                </a:solidFill>
                <a:latin typeface="Arial"/>
              </a:endParaRPr>
            </a:p>
          </p:txBody>
        </p:sp>
        <p:sp>
          <p:nvSpPr>
            <p:cNvPr id="264" name="_s1032"/>
            <p:cNvSpPr/>
            <p:nvPr/>
          </p:nvSpPr>
          <p:spPr>
            <a:xfrm>
              <a:off x="534960" y="2143800"/>
              <a:ext cx="4649400" cy="3799440"/>
            </a:xfrm>
            <a:prstGeom prst="ellipse">
              <a:avLst/>
            </a:prstGeom>
            <a:solidFill>
              <a:srgbClr val="ff9933">
                <a:alpha val="50000"/>
              </a:srgbClr>
            </a:solidFill>
            <a:ln w="9360">
              <a:solidFill>
                <a:srgbClr val="54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65" name="_s1033"/>
            <p:cNvSpPr/>
            <p:nvPr/>
          </p:nvSpPr>
          <p:spPr>
            <a:xfrm>
              <a:off x="1518480" y="3552120"/>
              <a:ext cx="1377720" cy="4856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Verdana"/>
                </a:rPr>
                <a:t>Лицензирование</a:t>
              </a:r>
              <a:endParaRPr b="0" lang="en-US" sz="2400" spc="-1" strike="noStrike">
                <a:solidFill>
                  <a:srgbClr val="000000"/>
                </a:solidFill>
                <a:latin typeface="Arial"/>
              </a:endParaRPr>
            </a:p>
          </p:txBody>
        </p:sp>
      </p:grpSp>
      <p:sp>
        <p:nvSpPr>
          <p:cNvPr id="266" name="AutoShape 14"/>
          <p:cNvSpPr/>
          <p:nvPr/>
        </p:nvSpPr>
        <p:spPr>
          <a:xfrm>
            <a:off x="380880" y="4394160"/>
            <a:ext cx="3583080" cy="1746360"/>
          </a:xfrm>
          <a:prstGeom prst="wedgeEllipseCallout">
            <a:avLst>
              <a:gd name="adj1" fmla="val 82476"/>
              <a:gd name="adj2" fmla="val -80615"/>
            </a:avLst>
          </a:prstGeom>
          <a:solidFill>
            <a:srgbClr val="00007d"/>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66"/>
                </a:solidFill>
                <a:latin typeface="Verdana"/>
              </a:rPr>
              <a:t>Какие стандарты использовать в лаборатории?</a:t>
            </a:r>
            <a:endParaRPr b="0" lang="en-US" sz="2000" spc="-1" strike="noStrike">
              <a:solidFill>
                <a:srgbClr val="000000"/>
              </a:solidFill>
              <a:latin typeface="Arial"/>
            </a:endParaRPr>
          </a:p>
        </p:txBody>
      </p:sp>
      <p:sp>
        <p:nvSpPr>
          <p:cNvPr id="267" name="AutoShape 15"/>
          <p:cNvSpPr/>
          <p:nvPr/>
        </p:nvSpPr>
        <p:spPr>
          <a:xfrm>
            <a:off x="5943600" y="4343400"/>
            <a:ext cx="2971800" cy="1828800"/>
          </a:xfrm>
          <a:prstGeom prst="wedgeEllipseCallout">
            <a:avLst>
              <a:gd name="adj1" fmla="val -107828"/>
              <a:gd name="adj2" fmla="val -89671"/>
            </a:avLst>
          </a:prstGeom>
          <a:solidFill>
            <a:srgbClr val="00007d"/>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66"/>
                </a:solidFill>
                <a:latin typeface="Verdana"/>
              </a:rPr>
              <a:t>Как лаборатория соотносится с нормами</a:t>
            </a:r>
            <a:r>
              <a:rPr b="1" lang="en-GB" sz="2000" spc="-1" strike="noStrike">
                <a:solidFill>
                  <a:srgbClr val="ffff66"/>
                </a:solidFill>
                <a:latin typeface="Verdana"/>
              </a:rPr>
              <a:t>?</a:t>
            </a:r>
            <a:endParaRPr b="0" lang="en-US" sz="2000" spc="-1" strike="noStrike">
              <a:solidFill>
                <a:srgbClr val="000000"/>
              </a:solidFill>
              <a:latin typeface="Arial"/>
            </a:endParaRPr>
          </a:p>
        </p:txBody>
      </p:sp>
      <p:sp>
        <p:nvSpPr>
          <p:cNvPr id="268" name="AutoShape 16"/>
          <p:cNvSpPr/>
          <p:nvPr/>
        </p:nvSpPr>
        <p:spPr>
          <a:xfrm>
            <a:off x="5105520" y="533520"/>
            <a:ext cx="3657600" cy="1447560"/>
          </a:xfrm>
          <a:prstGeom prst="wedgeEllipseCallout">
            <a:avLst>
              <a:gd name="adj1" fmla="val -52560"/>
              <a:gd name="adj2" fmla="val 117763"/>
            </a:avLst>
          </a:prstGeom>
          <a:solidFill>
            <a:srgbClr val="00007d"/>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66"/>
                </a:solidFill>
                <a:latin typeface="Verdana"/>
              </a:rPr>
              <a:t>Нужна ли лаборатории аккредитация?</a:t>
            </a:r>
            <a:endParaRPr b="0" lang="en-US" sz="2000" spc="-1" strike="noStrike">
              <a:solidFill>
                <a:srgbClr val="000000"/>
              </a:solidFill>
              <a:latin typeface="Arial"/>
            </a:endParaRPr>
          </a:p>
        </p:txBody>
      </p:sp>
      <p:pic>
        <p:nvPicPr>
          <p:cNvPr id="269" name="Picture 16" descr="MCj04344110000[1]"/>
          <p:cNvPicPr/>
          <p:nvPr/>
        </p:nvPicPr>
        <p:blipFill>
          <a:blip r:embed="rId1"/>
          <a:stretch/>
        </p:blipFill>
        <p:spPr>
          <a:xfrm>
            <a:off x="3352680" y="2438280"/>
            <a:ext cx="1897200" cy="21337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266"/>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268"/>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2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Slide Number Placeholder 5"/>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PlaceHolder 1"/>
          <p:cNvSpPr>
            <a:spLocks noGrp="1"/>
          </p:cNvSpPr>
          <p:nvPr>
            <p:ph type="title"/>
          </p:nvPr>
        </p:nvSpPr>
        <p:spPr>
          <a:xfrm>
            <a:off x="685440" y="380880"/>
            <a:ext cx="82090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Элементы процесса аккредитации</a:t>
            </a:r>
            <a:endParaRPr b="0" lang="en-US" sz="3200" spc="-1" strike="noStrike">
              <a:solidFill>
                <a:srgbClr val="00007d"/>
              </a:solidFill>
              <a:latin typeface="Verdana"/>
            </a:endParaRPr>
          </a:p>
        </p:txBody>
      </p:sp>
      <p:sp>
        <p:nvSpPr>
          <p:cNvPr id="272" name="PlaceHolder 2"/>
          <p:cNvSpPr>
            <a:spLocks noGrp="1"/>
          </p:cNvSpPr>
          <p:nvPr>
            <p:ph/>
          </p:nvPr>
        </p:nvSpPr>
        <p:spPr>
          <a:xfrm>
            <a:off x="1142640" y="1910880"/>
            <a:ext cx="6095880" cy="3194280"/>
          </a:xfrm>
          <a:prstGeom prst="rect">
            <a:avLst/>
          </a:prstGeom>
          <a:noFill/>
          <a:ln w="0">
            <a:noFill/>
          </a:ln>
        </p:spPr>
        <p:txBody>
          <a:bodyPr anchor="t">
            <a:normAutofit/>
          </a:bodyPr>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Verdana"/>
              </a:rPr>
              <a:t>Орган аккредитации</a:t>
            </a:r>
            <a:endParaRPr b="0" lang="en-US" sz="3200" spc="-1" strike="noStrike">
              <a:solidFill>
                <a:srgbClr val="000000"/>
              </a:solidFill>
              <a:latin typeface="Verdan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Verdana"/>
              </a:rPr>
              <a:t>Стандарты</a:t>
            </a:r>
            <a:endParaRPr b="0" lang="en-US" sz="3200" spc="-1" strike="noStrike">
              <a:solidFill>
                <a:srgbClr val="000000"/>
              </a:solidFill>
              <a:latin typeface="Verdan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Verdana"/>
              </a:rPr>
              <a:t>Инспекторы</a:t>
            </a:r>
            <a:r>
              <a:rPr b="0" lang="en-US" sz="3200" spc="-1" strike="noStrike">
                <a:solidFill>
                  <a:srgbClr val="000000"/>
                </a:solidFill>
                <a:latin typeface="Verdana"/>
              </a:rPr>
              <a:t> </a:t>
            </a:r>
            <a:endParaRPr b="0" lang="en-US" sz="3200" spc="-1" strike="noStrike">
              <a:solidFill>
                <a:srgbClr val="000000"/>
              </a:solidFill>
              <a:latin typeface="Verdan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Verdana"/>
              </a:rPr>
              <a:t>Лаборатория</a:t>
            </a:r>
            <a:endParaRPr b="0" lang="en-US" sz="3200" spc="-1" strike="noStrike">
              <a:solidFill>
                <a:srgbClr val="000000"/>
              </a:solidFill>
              <a:latin typeface="Verdana"/>
            </a:endParaRPr>
          </a:p>
        </p:txBody>
      </p:sp>
      <p:sp>
        <p:nvSpPr>
          <p:cNvPr id="273"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274"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94E3E6-B598-4B5F-90E9-6692C89F4863}"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Footer Placeholder 3"/>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276" name="Slide Number Placeholder 4"/>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E7F481-E4B7-413F-9015-71D4B7F5C69D}"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77" name="Rectangle 4"/>
          <p:cNvSpPr/>
          <p:nvPr/>
        </p:nvSpPr>
        <p:spPr>
          <a:xfrm>
            <a:off x="2971800" y="1828800"/>
            <a:ext cx="3657600" cy="2362320"/>
          </a:xfrm>
          <a:prstGeom prst="rect">
            <a:avLst/>
          </a:prstGeom>
          <a:gradFill rotWithShape="0">
            <a:gsLst>
              <a:gs pos="0">
                <a:srgbClr val="ffffff"/>
              </a:gs>
              <a:gs pos="100000">
                <a:srgbClr val="ffff66"/>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7d"/>
                </a:solidFill>
                <a:latin typeface="Verdana"/>
              </a:rPr>
              <a:t>Органы по аккредитации и сертификации</a:t>
            </a:r>
            <a:endParaRPr b="0" lang="en-US" sz="3200" spc="-1" strike="noStrike">
              <a:solidFill>
                <a:srgbClr val="000000"/>
              </a:solidFill>
              <a:latin typeface="Arial"/>
            </a:endParaRPr>
          </a:p>
        </p:txBody>
      </p:sp>
      <p:sp>
        <p:nvSpPr>
          <p:cNvPr id="278" name="Rectangle 6"/>
          <p:cNvSpPr/>
          <p:nvPr/>
        </p:nvSpPr>
        <p:spPr>
          <a:xfrm>
            <a:off x="457200" y="4114800"/>
            <a:ext cx="3352680" cy="106668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66"/>
                </a:solidFill>
                <a:latin typeface="Verdana"/>
              </a:rPr>
              <a:t>Компетентные</a:t>
            </a:r>
            <a:endParaRPr b="0" lang="en-US" sz="2800" spc="-1" strike="noStrike">
              <a:solidFill>
                <a:srgbClr val="000000"/>
              </a:solidFill>
              <a:latin typeface="Arial"/>
            </a:endParaRPr>
          </a:p>
        </p:txBody>
      </p:sp>
      <p:sp>
        <p:nvSpPr>
          <p:cNvPr id="279" name="Rectangle 7"/>
          <p:cNvSpPr/>
          <p:nvPr/>
        </p:nvSpPr>
        <p:spPr>
          <a:xfrm>
            <a:off x="4267080" y="5486400"/>
            <a:ext cx="2971800" cy="76212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66"/>
                </a:solidFill>
                <a:latin typeface="Verdana"/>
              </a:rPr>
              <a:t>Объективные</a:t>
            </a:r>
            <a:endParaRPr b="0" lang="en-US" sz="2800" spc="-1" strike="noStrike">
              <a:solidFill>
                <a:srgbClr val="000000"/>
              </a:solidFill>
              <a:latin typeface="Arial"/>
            </a:endParaRPr>
          </a:p>
        </p:txBody>
      </p:sp>
      <p:sp>
        <p:nvSpPr>
          <p:cNvPr id="280" name="Rectangle 8"/>
          <p:cNvSpPr/>
          <p:nvPr/>
        </p:nvSpPr>
        <p:spPr>
          <a:xfrm>
            <a:off x="6629400" y="3352680"/>
            <a:ext cx="2438280" cy="1295640"/>
          </a:xfrm>
          <a:prstGeom prst="rect">
            <a:avLst/>
          </a:prstGeom>
          <a:solidFill>
            <a:srgbClr val="000066"/>
          </a:solidFill>
          <a:ln w="9360">
            <a:solidFill>
              <a:srgbClr val="000000"/>
            </a:solidFill>
            <a:miter/>
          </a:ln>
        </p:spPr>
        <p:style>
          <a:lnRef idx="0"/>
          <a:fillRef idx="0"/>
          <a:effectRef idx="0"/>
          <a:fontRef idx="minor"/>
        </p:style>
        <p:txBody>
          <a:bodyPr lIns="36000" rIns="36000" tIns="36000" bIns="36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66"/>
                </a:solidFill>
                <a:latin typeface="Verdana"/>
              </a:rPr>
              <a:t>Основаны на стандартах</a:t>
            </a:r>
            <a:endParaRPr b="0" lang="en-US" sz="2800" spc="-1" strike="noStrike">
              <a:solidFill>
                <a:srgbClr val="000000"/>
              </a:solidFill>
              <a:latin typeface="Arial"/>
            </a:endParaRPr>
          </a:p>
        </p:txBody>
      </p:sp>
      <p:sp>
        <p:nvSpPr>
          <p:cNvPr id="281" name="Rectangle 9"/>
          <p:cNvSpPr/>
          <p:nvPr/>
        </p:nvSpPr>
        <p:spPr>
          <a:xfrm>
            <a:off x="5181480" y="762120"/>
            <a:ext cx="3124440" cy="76176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66"/>
                </a:solidFill>
                <a:latin typeface="Verdana"/>
              </a:rPr>
              <a:t>Знающие</a:t>
            </a:r>
            <a:endParaRPr b="0" lang="en-US" sz="2800" spc="-1" strike="noStrike">
              <a:solidFill>
                <a:srgbClr val="000000"/>
              </a:solidFill>
              <a:latin typeface="Arial"/>
            </a:endParaRPr>
          </a:p>
        </p:txBody>
      </p:sp>
      <p:sp>
        <p:nvSpPr>
          <p:cNvPr id="282" name="Rectangle 10"/>
          <p:cNvSpPr/>
          <p:nvPr/>
        </p:nvSpPr>
        <p:spPr>
          <a:xfrm>
            <a:off x="609480" y="762120"/>
            <a:ext cx="3200400" cy="121896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66"/>
                </a:solidFill>
                <a:latin typeface="Verdana"/>
              </a:rPr>
              <a:t>Утвержденные</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83" name="Picture 11" descr="MCj04348250000[1]"/>
          <p:cNvPicPr/>
          <p:nvPr/>
        </p:nvPicPr>
        <p:blipFill>
          <a:blip r:embed="rId1"/>
          <a:stretch/>
        </p:blipFill>
        <p:spPr>
          <a:xfrm>
            <a:off x="533520" y="1295280"/>
            <a:ext cx="1828800" cy="1828800"/>
          </a:xfrm>
          <a:prstGeom prst="rect">
            <a:avLst/>
          </a:prstGeom>
          <a:ln w="0">
            <a:noFill/>
          </a:ln>
        </p:spPr>
      </p:pic>
      <p:pic>
        <p:nvPicPr>
          <p:cNvPr id="284" name="Picture 12" descr="MCj04282610000[1]"/>
          <p:cNvPicPr/>
          <p:nvPr/>
        </p:nvPicPr>
        <p:blipFill>
          <a:blip r:embed="rId2"/>
          <a:stretch/>
        </p:blipFill>
        <p:spPr>
          <a:xfrm>
            <a:off x="6629400" y="1371600"/>
            <a:ext cx="1962000" cy="1870200"/>
          </a:xfrm>
          <a:prstGeom prst="rect">
            <a:avLst/>
          </a:prstGeom>
          <a:ln w="0">
            <a:noFill/>
          </a:ln>
        </p:spPr>
      </p:pic>
      <p:pic>
        <p:nvPicPr>
          <p:cNvPr id="285" name="Picture 14" descr="MCBD19797_0000[1]"/>
          <p:cNvPicPr/>
          <p:nvPr/>
        </p:nvPicPr>
        <p:blipFill>
          <a:blip r:embed="rId3"/>
          <a:stretch/>
        </p:blipFill>
        <p:spPr>
          <a:xfrm>
            <a:off x="7315200" y="4572000"/>
            <a:ext cx="1397160" cy="1547640"/>
          </a:xfrm>
          <a:prstGeom prst="rect">
            <a:avLst/>
          </a:prstGeom>
          <a:ln w="0">
            <a:noFill/>
          </a:ln>
        </p:spPr>
      </p:pic>
      <p:pic>
        <p:nvPicPr>
          <p:cNvPr id="286" name="Picture 15" descr="MCj02869570000[1]"/>
          <p:cNvPicPr/>
          <p:nvPr/>
        </p:nvPicPr>
        <p:blipFill>
          <a:blip r:embed="rId4"/>
          <a:stretch/>
        </p:blipFill>
        <p:spPr>
          <a:xfrm>
            <a:off x="2819520" y="4930920"/>
            <a:ext cx="1600200" cy="1393560"/>
          </a:xfrm>
          <a:prstGeom prst="rect">
            <a:avLst/>
          </a:prstGeom>
          <a:ln w="0">
            <a:noFill/>
          </a:ln>
        </p:spPr>
      </p:pic>
      <p:pic>
        <p:nvPicPr>
          <p:cNvPr id="287" name="Picture 16" descr="MCj04375270000[1]"/>
          <p:cNvPicPr/>
          <p:nvPr/>
        </p:nvPicPr>
        <p:blipFill>
          <a:blip r:embed="rId5"/>
          <a:stretch/>
        </p:blipFill>
        <p:spPr>
          <a:xfrm>
            <a:off x="457200" y="3209760"/>
            <a:ext cx="2286000" cy="12225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380880" y="525600"/>
            <a:ext cx="8382240" cy="465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Цели изучения</a:t>
            </a:r>
            <a:endParaRPr b="0" lang="en-US" sz="3600" spc="-1" strike="noStrike">
              <a:solidFill>
                <a:srgbClr val="00007d"/>
              </a:solidFill>
              <a:latin typeface="Verdana"/>
            </a:endParaRPr>
          </a:p>
        </p:txBody>
      </p:sp>
      <p:sp>
        <p:nvSpPr>
          <p:cNvPr id="116" name="PlaceHolder 2"/>
          <p:cNvSpPr>
            <a:spLocks noGrp="1"/>
          </p:cNvSpPr>
          <p:nvPr>
            <p:ph/>
          </p:nvPr>
        </p:nvSpPr>
        <p:spPr>
          <a:xfrm>
            <a:off x="533160" y="1218960"/>
            <a:ext cx="8305560" cy="4708440"/>
          </a:xfrm>
          <a:prstGeom prst="rect">
            <a:avLst/>
          </a:prstGeom>
          <a:noFill/>
          <a:ln w="0">
            <a:noFill/>
          </a:ln>
        </p:spPr>
        <p:txBody>
          <a:bodyPr anchor="t">
            <a:normAutofit/>
          </a:bodyPr>
          <a:p>
            <a:pPr marL="35712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r>
              <a:rPr b="0" lang="ru-RU" sz="3000" spc="-1" strike="noStrike">
                <a:solidFill>
                  <a:srgbClr val="000000"/>
                </a:solidFill>
                <a:latin typeface="Verdana"/>
              </a:rPr>
              <a:t>По окончании данной части курса участники смогут</a:t>
            </a:r>
            <a:r>
              <a:rPr b="0" lang="en-US" sz="3000" spc="-1" strike="noStrike">
                <a:solidFill>
                  <a:srgbClr val="000000"/>
                </a:solidFill>
                <a:latin typeface="Verdana"/>
              </a:rPr>
              <a:t>:</a:t>
            </a:r>
            <a:endParaRPr b="0" lang="en-US" sz="3000" spc="-1" strike="noStrike">
              <a:solidFill>
                <a:srgbClr val="000000"/>
              </a:solidFill>
              <a:latin typeface="Verdana"/>
            </a:endParaRPr>
          </a:p>
          <a:p>
            <a:pPr marL="357120" indent="-357120">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Verdana"/>
              </a:rPr>
              <a:t>сравнить и сопоставить аккредитацию, сертификацию и лицензирование;</a:t>
            </a:r>
            <a:endParaRPr b="0" lang="en-US" sz="3000" spc="-1" strike="noStrike">
              <a:solidFill>
                <a:srgbClr val="000000"/>
              </a:solidFill>
              <a:latin typeface="Verdana"/>
            </a:endParaRPr>
          </a:p>
          <a:p>
            <a:pPr marL="357120" indent="-357120">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Verdana"/>
              </a:rPr>
              <a:t>описать процесс разработки стандартов</a:t>
            </a:r>
            <a:r>
              <a:rPr b="0" lang="en-US" sz="3000" spc="-1" strike="noStrike">
                <a:solidFill>
                  <a:srgbClr val="000000"/>
                </a:solidFill>
                <a:latin typeface="Verdana"/>
              </a:rPr>
              <a:t>;</a:t>
            </a:r>
            <a:endParaRPr b="0" lang="en-US" sz="3000" spc="-1" strike="noStrike">
              <a:solidFill>
                <a:srgbClr val="000000"/>
              </a:solidFill>
              <a:latin typeface="Verdana"/>
            </a:endParaRPr>
          </a:p>
          <a:p>
            <a:pPr marL="357120" indent="-357120">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Verdana"/>
              </a:rPr>
              <a:t>обсудить потребность в лабораторных нормах и стандартах.</a:t>
            </a:r>
            <a:endParaRPr b="0" lang="en-US" sz="3000" spc="-1" strike="noStrike">
              <a:solidFill>
                <a:srgbClr val="000000"/>
              </a:solidFill>
              <a:latin typeface="Verdana"/>
            </a:endParaRPr>
          </a:p>
        </p:txBody>
      </p:sp>
      <p:sp>
        <p:nvSpPr>
          <p:cNvPr id="117" name="Slide Number Placeholder 3"/>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2FA1B5-7E8A-47DC-9F5D-82033A02B9A4}"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18" name="Footer Placeholder 4"/>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380520" y="542520"/>
            <a:ext cx="8850600" cy="523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7d"/>
                </a:solidFill>
                <a:latin typeface="Verdana"/>
              </a:rPr>
              <a:t>Примеры широко используемых стандартов</a:t>
            </a:r>
            <a:endParaRPr b="0" lang="en-US" sz="2800" spc="-1" strike="noStrike">
              <a:solidFill>
                <a:srgbClr val="00007d"/>
              </a:solidFill>
              <a:latin typeface="Verdana"/>
            </a:endParaRPr>
          </a:p>
        </p:txBody>
      </p:sp>
      <p:sp>
        <p:nvSpPr>
          <p:cNvPr id="289" name="PlaceHolder 2"/>
          <p:cNvSpPr>
            <a:spLocks noGrp="1"/>
          </p:cNvSpPr>
          <p:nvPr>
            <p:ph/>
          </p:nvPr>
        </p:nvSpPr>
        <p:spPr>
          <a:xfrm>
            <a:off x="914400" y="1218960"/>
            <a:ext cx="7772400" cy="504828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Verdana"/>
              </a:rPr>
              <a:t>Стандарты по сертификации</a:t>
            </a:r>
            <a:endParaRPr b="0" lang="en-US" sz="2400" spc="-1" strike="noStrike">
              <a:solidFill>
                <a:srgbClr val="000000"/>
              </a:solidFill>
              <a:latin typeface="Verdana"/>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ИСО</a:t>
            </a:r>
            <a:r>
              <a:rPr b="0" lang="en-US" sz="2000" spc="-1" strike="noStrike">
                <a:solidFill>
                  <a:srgbClr val="000000"/>
                </a:solidFill>
                <a:latin typeface="Verdana"/>
              </a:rPr>
              <a:t> 9001:2000</a:t>
            </a:r>
            <a:endParaRPr b="0" lang="en-US" sz="2000" spc="-1" strike="noStrike">
              <a:solidFill>
                <a:srgbClr val="000000"/>
              </a:solidFill>
              <a:latin typeface="Verdana"/>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ИСО</a:t>
            </a:r>
            <a:r>
              <a:rPr b="0" lang="en-US" sz="2000" spc="-1" strike="noStrike">
                <a:solidFill>
                  <a:srgbClr val="000000"/>
                </a:solidFill>
                <a:latin typeface="Verdana"/>
              </a:rPr>
              <a:t> 14000</a:t>
            </a:r>
            <a:endParaRPr b="0" lang="en-US" sz="20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Verdana"/>
              </a:rPr>
              <a:t>Стандарты по аккредитации</a:t>
            </a:r>
            <a:endParaRPr b="0" lang="en-US" sz="2400" spc="-1" strike="noStrike">
              <a:solidFill>
                <a:srgbClr val="000000"/>
              </a:solidFill>
              <a:latin typeface="Verdana"/>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ИСО</a:t>
            </a:r>
            <a:r>
              <a:rPr b="0" lang="en-US" sz="2000" spc="-1" strike="noStrike">
                <a:solidFill>
                  <a:srgbClr val="000000"/>
                </a:solidFill>
                <a:latin typeface="Verdana"/>
              </a:rPr>
              <a:t> 17025</a:t>
            </a:r>
            <a:endParaRPr b="0" lang="en-US" sz="2000" spc="-1" strike="noStrike">
              <a:solidFill>
                <a:srgbClr val="000000"/>
              </a:solidFill>
              <a:latin typeface="Verdana"/>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ИСО</a:t>
            </a:r>
            <a:r>
              <a:rPr b="0" lang="en-US" sz="2000" spc="-1" strike="noStrike">
                <a:solidFill>
                  <a:srgbClr val="000000"/>
                </a:solidFill>
                <a:latin typeface="Verdana"/>
              </a:rPr>
              <a:t> 15189</a:t>
            </a:r>
            <a:endParaRPr b="0" lang="en-US" sz="2000" spc="-1" strike="noStrike">
              <a:solidFill>
                <a:srgbClr val="000000"/>
              </a:solidFill>
              <a:latin typeface="Verdana"/>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Стандарты ВОЗ по полиомиелиту</a:t>
            </a:r>
            <a:endParaRPr b="0" lang="en-US" sz="20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Verdana"/>
              </a:rPr>
              <a:t>Предписания</a:t>
            </a:r>
            <a:endParaRPr b="0" lang="en-US" sz="2400" spc="-1" strike="noStrike">
              <a:solidFill>
                <a:srgbClr val="000000"/>
              </a:solidFill>
              <a:latin typeface="Verdana"/>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Дополнения к законам по совершенствованию клинических лабораторий (</a:t>
            </a:r>
            <a:r>
              <a:rPr b="0" lang="en-US" sz="2000" spc="-1" strike="noStrike">
                <a:solidFill>
                  <a:srgbClr val="000000"/>
                </a:solidFill>
                <a:latin typeface="Verdana"/>
              </a:rPr>
              <a:t>CLIA, </a:t>
            </a:r>
            <a:r>
              <a:rPr b="0" lang="ru-RU" sz="2000" spc="-1" strike="noStrike">
                <a:solidFill>
                  <a:srgbClr val="000000"/>
                </a:solidFill>
                <a:latin typeface="Verdana"/>
              </a:rPr>
              <a:t>США</a:t>
            </a:r>
            <a:r>
              <a:rPr b="0" lang="en-US" sz="2000" spc="-1" strike="noStrike">
                <a:solidFill>
                  <a:srgbClr val="000000"/>
                </a:solidFill>
                <a:latin typeface="Verdana"/>
              </a:rPr>
              <a:t>)</a:t>
            </a:r>
            <a:endParaRPr b="0" lang="en-US" sz="2000" spc="-1" strike="noStrike">
              <a:solidFill>
                <a:srgbClr val="000000"/>
              </a:solidFill>
              <a:latin typeface="Verdana"/>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Рекомендации по качественному выполнению анализов</a:t>
            </a:r>
            <a:r>
              <a:rPr b="1" lang="ru-RU" sz="2000" spc="-1" strike="noStrike">
                <a:solidFill>
                  <a:srgbClr val="000000"/>
                </a:solidFill>
                <a:latin typeface="Verdana"/>
              </a:rPr>
              <a:t> </a:t>
            </a:r>
            <a:r>
              <a:rPr b="0" lang="ru-RU" sz="2000" spc="-1" strike="noStrike">
                <a:solidFill>
                  <a:srgbClr val="000000"/>
                </a:solidFill>
                <a:latin typeface="Verdana"/>
              </a:rPr>
              <a:t>(</a:t>
            </a:r>
            <a:r>
              <a:rPr b="0" lang="fr-CH" sz="2000" spc="-1" strike="noStrike">
                <a:solidFill>
                  <a:srgbClr val="000000"/>
                </a:solidFill>
                <a:latin typeface="Verdana"/>
              </a:rPr>
              <a:t>GBEA</a:t>
            </a:r>
            <a:r>
              <a:rPr b="0" lang="ru-RU" sz="2000" spc="-1" strike="noStrike">
                <a:solidFill>
                  <a:srgbClr val="000000"/>
                </a:solidFill>
                <a:latin typeface="Verdana"/>
              </a:rPr>
              <a:t>, Франция)</a:t>
            </a:r>
            <a:endParaRPr b="0" lang="en-US" sz="2000" spc="-1" strike="noStrike">
              <a:solidFill>
                <a:srgbClr val="000000"/>
              </a:solidFill>
              <a:latin typeface="Verdana"/>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Правила ООН по перевозке опасных грузов</a:t>
            </a:r>
            <a:endParaRPr b="0" lang="en-US" sz="2000" spc="-1" strike="noStrike">
              <a:solidFill>
                <a:srgbClr val="000000"/>
              </a:solidFill>
              <a:latin typeface="Verdana"/>
            </a:endParaRPr>
          </a:p>
        </p:txBody>
      </p:sp>
      <p:sp>
        <p:nvSpPr>
          <p:cNvPr id="290"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291"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4D45C2-3ABD-446C-BB4E-40AA7F3CA5A8}"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Line 22"/>
          <p:cNvSpPr/>
          <p:nvPr/>
        </p:nvSpPr>
        <p:spPr>
          <a:xfrm>
            <a:off x="6400800" y="2666880"/>
            <a:ext cx="45720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294"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DC3A44-FE0C-4C42-902B-4DD4C114D4F5}"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pic>
        <p:nvPicPr>
          <p:cNvPr id="295" name="Picture 23" descr="spy_guy"/>
          <p:cNvPicPr/>
          <p:nvPr/>
        </p:nvPicPr>
        <p:blipFill>
          <a:blip r:embed="rId1"/>
          <a:stretch/>
        </p:blipFill>
        <p:spPr>
          <a:xfrm>
            <a:off x="533520" y="1219320"/>
            <a:ext cx="1600200" cy="1473120"/>
          </a:xfrm>
          <a:prstGeom prst="rect">
            <a:avLst/>
          </a:prstGeom>
          <a:ln w="0">
            <a:noFill/>
          </a:ln>
        </p:spPr>
      </p:pic>
      <p:sp>
        <p:nvSpPr>
          <p:cNvPr id="296" name="PlaceHolder 1"/>
          <p:cNvSpPr>
            <a:spLocks noGrp="1"/>
          </p:cNvSpPr>
          <p:nvPr>
            <p:ph type="title"/>
          </p:nvPr>
        </p:nvSpPr>
        <p:spPr>
          <a:xfrm>
            <a:off x="457200" y="38052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Сфера применения</a:t>
            </a:r>
            <a:r>
              <a:rPr b="0" lang="en-US" sz="3600" spc="-1" strike="noStrike">
                <a:solidFill>
                  <a:srgbClr val="00007d"/>
                </a:solidFill>
                <a:latin typeface="Verdana"/>
              </a:rPr>
              <a:t> </a:t>
            </a:r>
            <a:r>
              <a:rPr b="0" lang="ru-RU" sz="3600" spc="-1" strike="noStrike">
                <a:solidFill>
                  <a:srgbClr val="00007d"/>
                </a:solidFill>
                <a:latin typeface="Verdana"/>
              </a:rPr>
              <a:t>ИСО</a:t>
            </a:r>
            <a:r>
              <a:rPr b="0" lang="en-US" sz="3600" spc="-1" strike="noStrike">
                <a:solidFill>
                  <a:srgbClr val="00007d"/>
                </a:solidFill>
                <a:latin typeface="Verdana"/>
              </a:rPr>
              <a:t> 17025</a:t>
            </a:r>
            <a:endParaRPr b="0" lang="en-US" sz="3600" spc="-1" strike="noStrike">
              <a:solidFill>
                <a:srgbClr val="00007d"/>
              </a:solidFill>
              <a:latin typeface="Verdana"/>
            </a:endParaRPr>
          </a:p>
        </p:txBody>
      </p:sp>
      <p:grpSp>
        <p:nvGrpSpPr>
          <p:cNvPr id="297" name="Organization Chart 2"/>
          <p:cNvGrpSpPr/>
          <p:nvPr/>
        </p:nvGrpSpPr>
        <p:grpSpPr>
          <a:xfrm>
            <a:off x="542880" y="1295280"/>
            <a:ext cx="8447760" cy="3960000"/>
            <a:chOff x="542880" y="1295280"/>
            <a:chExt cx="8447760" cy="3960000"/>
          </a:xfrm>
        </p:grpSpPr>
        <p:cxnSp>
          <p:nvCxnSpPr>
            <p:cNvPr id="298" name="_s1028"/>
            <p:cNvCxnSpPr>
              <a:stCxn id="299" idx="0"/>
              <a:endCxn id="300" idx="2"/>
            </p:cNvCxnSpPr>
            <p:nvPr/>
          </p:nvCxnSpPr>
          <p:spPr>
            <a:xfrm flipV="1" rot="16200000">
              <a:off x="5333040" y="2109960"/>
              <a:ext cx="792720" cy="2330280"/>
            </a:xfrm>
            <a:prstGeom prst="bentConnector3">
              <a:avLst>
                <a:gd name="adj1" fmla="val 49977"/>
              </a:avLst>
            </a:prstGeom>
            <a:ln w="76320">
              <a:solidFill>
                <a:srgbClr val="000000"/>
              </a:solidFill>
              <a:miter/>
            </a:ln>
          </p:spPr>
        </p:cxnSp>
        <p:cxnSp>
          <p:nvCxnSpPr>
            <p:cNvPr id="301" name="_s1029"/>
            <p:cNvCxnSpPr>
              <a:stCxn id="302" idx="0"/>
              <a:endCxn id="300" idx="2"/>
            </p:cNvCxnSpPr>
            <p:nvPr/>
          </p:nvCxnSpPr>
          <p:spPr>
            <a:xfrm flipH="1" flipV="1" rot="5400000">
              <a:off x="3144240" y="2250720"/>
              <a:ext cx="792720" cy="2049120"/>
            </a:xfrm>
            <a:prstGeom prst="bentConnector3">
              <a:avLst>
                <a:gd name="adj1" fmla="val 49977"/>
              </a:avLst>
            </a:prstGeom>
            <a:ln w="76320">
              <a:solidFill>
                <a:srgbClr val="000000"/>
              </a:solidFill>
              <a:miter/>
            </a:ln>
          </p:spPr>
        </p:cxnSp>
        <p:sp>
          <p:nvSpPr>
            <p:cNvPr id="300" name="_s1030"/>
            <p:cNvSpPr/>
            <p:nvPr/>
          </p:nvSpPr>
          <p:spPr>
            <a:xfrm>
              <a:off x="2665800" y="1295280"/>
              <a:ext cx="3797640" cy="158400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300" spc="-1" strike="noStrike">
                  <a:solidFill>
                    <a:srgbClr val="ffd911"/>
                  </a:solidFill>
                  <a:latin typeface="Verdana"/>
                </a:rPr>
                <a:t>Общие требование к компетенции</a:t>
              </a:r>
              <a:endParaRPr b="0" lang="en-US" sz="3300" spc="-1" strike="noStrike">
                <a:solidFill>
                  <a:srgbClr val="000000"/>
                </a:solidFill>
                <a:latin typeface="Arial"/>
              </a:endParaRPr>
            </a:p>
          </p:txBody>
        </p:sp>
        <p:sp>
          <p:nvSpPr>
            <p:cNvPr id="302" name="_s1031"/>
            <p:cNvSpPr/>
            <p:nvPr/>
          </p:nvSpPr>
          <p:spPr>
            <a:xfrm>
              <a:off x="542880" y="3671280"/>
              <a:ext cx="3951360" cy="158400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d911"/>
                  </a:solidFill>
                  <a:latin typeface="Verdana"/>
                </a:rPr>
                <a:t>испытательные и калибровочные лаборатории</a:t>
              </a:r>
              <a:endParaRPr b="0" lang="en-US" sz="3200" spc="-1" strike="noStrike">
                <a:solidFill>
                  <a:srgbClr val="000000"/>
                </a:solidFill>
                <a:latin typeface="Arial"/>
              </a:endParaRPr>
            </a:p>
          </p:txBody>
        </p:sp>
        <p:sp>
          <p:nvSpPr>
            <p:cNvPr id="299" name="_s1032"/>
            <p:cNvSpPr/>
            <p:nvPr/>
          </p:nvSpPr>
          <p:spPr>
            <a:xfrm>
              <a:off x="4802040" y="3671280"/>
              <a:ext cx="4188600" cy="158400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ffd911"/>
                  </a:solidFill>
                  <a:latin typeface="Verdana"/>
                </a:rPr>
                <a:t>административные, технические системы, системы качества</a:t>
              </a:r>
              <a:endParaRPr b="0" lang="en-US" sz="3000" spc="-1" strike="noStrike">
                <a:solidFill>
                  <a:srgbClr val="000000"/>
                </a:solidFill>
                <a:latin typeface="Arial"/>
              </a:endParaRPr>
            </a:p>
          </p:txBody>
        </p:sp>
      </p:grpSp>
      <p:sp>
        <p:nvSpPr>
          <p:cNvPr id="303" name="Text Box 14"/>
          <p:cNvSpPr/>
          <p:nvPr/>
        </p:nvSpPr>
        <p:spPr>
          <a:xfrm>
            <a:off x="6781680" y="1676520"/>
            <a:ext cx="2133720" cy="119124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d911"/>
                </a:solidFill>
                <a:latin typeface="Verdana"/>
              </a:rPr>
              <a:t>анализы</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d911"/>
                </a:solidFill>
                <a:latin typeface="Verdana"/>
              </a:rPr>
              <a:t>калибровка</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d911"/>
                </a:solidFill>
                <a:latin typeface="Verdana"/>
              </a:rPr>
              <a:t>пробы</a:t>
            </a:r>
            <a:endParaRPr b="0" lang="en-US" sz="2400" spc="-1" strike="noStrike">
              <a:solidFill>
                <a:srgbClr val="000000"/>
              </a:solidFill>
              <a:latin typeface="Arial"/>
            </a:endParaRPr>
          </a:p>
        </p:txBody>
      </p:sp>
      <p:sp>
        <p:nvSpPr>
          <p:cNvPr id="304" name="Text Box 18"/>
          <p:cNvSpPr/>
          <p:nvPr/>
        </p:nvSpPr>
        <p:spPr>
          <a:xfrm>
            <a:off x="228600" y="2657520"/>
            <a:ext cx="2209680" cy="9169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Verdana"/>
              </a:rPr>
              <a:t>подтвердить или признать компетенцию</a:t>
            </a:r>
            <a:endParaRPr b="0" lang="en-US" sz="2000" spc="-1" strike="noStrike">
              <a:solidFill>
                <a:srgbClr val="000000"/>
              </a:solidFill>
              <a:latin typeface="Arial"/>
            </a:endParaRPr>
          </a:p>
        </p:txBody>
      </p:sp>
      <p:sp>
        <p:nvSpPr>
          <p:cNvPr id="305" name="AutoShape 21"/>
          <p:cNvSpPr/>
          <p:nvPr/>
        </p:nvSpPr>
        <p:spPr>
          <a:xfrm>
            <a:off x="4114800" y="4495680"/>
            <a:ext cx="838080" cy="838440"/>
          </a:xfrm>
          <a:custGeom>
            <a:avLst/>
            <a:gdLst>
              <a:gd name="textAreaLeft" fmla="*/ 130680 w 838080"/>
              <a:gd name="textAreaRight" fmla="*/ 733320 w 838080"/>
              <a:gd name="textAreaTop" fmla="*/ 209520 h 838440"/>
              <a:gd name="textAreaBottom" fmla="*/ 628920 h 83844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99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6" name="Rectangle 3"/>
          <p:cNvSpPr/>
          <p:nvPr/>
        </p:nvSpPr>
        <p:spPr>
          <a:xfrm>
            <a:off x="457200" y="5540400"/>
            <a:ext cx="8229600" cy="70380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ru-RU" sz="2000" spc="-1" strike="noStrike">
                <a:solidFill>
                  <a:srgbClr val="000000"/>
                </a:solidFill>
                <a:latin typeface="Verdana"/>
              </a:rPr>
              <a:t>Не </a:t>
            </a:r>
            <a:r>
              <a:rPr b="0" lang="en-US" sz="2000" spc="-1" strike="noStrike">
                <a:solidFill>
                  <a:srgbClr val="000000"/>
                </a:solidFill>
                <a:latin typeface="Verdana"/>
              </a:rPr>
              <a:t> </a:t>
            </a:r>
            <a:r>
              <a:rPr b="0" lang="ru-RU" sz="2000" spc="-1" strike="noStrike">
                <a:solidFill>
                  <a:srgbClr val="000000"/>
                </a:solidFill>
                <a:latin typeface="Verdana"/>
              </a:rPr>
              <a:t>рассматривает соответствие лабораторной работы требованиям норм и безопасности</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308"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F1BF58-11D2-4121-BD9A-AB49828DF280}"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pic>
        <p:nvPicPr>
          <p:cNvPr id="309" name="Picture 2" descr="spy_guy"/>
          <p:cNvPicPr/>
          <p:nvPr/>
        </p:nvPicPr>
        <p:blipFill>
          <a:blip r:embed="rId1"/>
          <a:stretch/>
        </p:blipFill>
        <p:spPr>
          <a:xfrm>
            <a:off x="7010280" y="1523880"/>
            <a:ext cx="1600200" cy="1473480"/>
          </a:xfrm>
          <a:prstGeom prst="rect">
            <a:avLst/>
          </a:prstGeom>
          <a:ln w="0">
            <a:noFill/>
          </a:ln>
        </p:spPr>
      </p:pic>
      <p:sp>
        <p:nvSpPr>
          <p:cNvPr id="310" name="PlaceHolder 1"/>
          <p:cNvSpPr>
            <a:spLocks noGrp="1"/>
          </p:cNvSpPr>
          <p:nvPr>
            <p:ph type="title"/>
          </p:nvPr>
        </p:nvSpPr>
        <p:spPr>
          <a:xfrm>
            <a:off x="457200" y="38052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Сфера применения ИСО</a:t>
            </a:r>
            <a:r>
              <a:rPr b="0" lang="en-US" sz="3600" spc="-1" strike="noStrike">
                <a:solidFill>
                  <a:srgbClr val="00007d"/>
                </a:solidFill>
                <a:latin typeface="Verdana"/>
              </a:rPr>
              <a:t> 15189</a:t>
            </a:r>
            <a:endParaRPr b="0" lang="en-US" sz="3600" spc="-1" strike="noStrike">
              <a:solidFill>
                <a:srgbClr val="00007d"/>
              </a:solidFill>
              <a:latin typeface="Verdana"/>
            </a:endParaRPr>
          </a:p>
        </p:txBody>
      </p:sp>
      <p:grpSp>
        <p:nvGrpSpPr>
          <p:cNvPr id="311" name="Organization Chart 2"/>
          <p:cNvGrpSpPr/>
          <p:nvPr/>
        </p:nvGrpSpPr>
        <p:grpSpPr>
          <a:xfrm>
            <a:off x="304920" y="1219320"/>
            <a:ext cx="8616240" cy="4952880"/>
            <a:chOff x="304920" y="1219320"/>
            <a:chExt cx="8616240" cy="4952880"/>
          </a:xfrm>
        </p:grpSpPr>
        <p:cxnSp>
          <p:nvCxnSpPr>
            <p:cNvPr id="312" name="_s2052"/>
            <p:cNvCxnSpPr>
              <a:stCxn id="313" idx="0"/>
              <a:endCxn id="314" idx="2"/>
            </p:cNvCxnSpPr>
            <p:nvPr/>
          </p:nvCxnSpPr>
          <p:spPr>
            <a:xfrm flipV="1" rot="16200000">
              <a:off x="5193720" y="2593800"/>
              <a:ext cx="960480" cy="2062080"/>
            </a:xfrm>
            <a:prstGeom prst="bentConnector3">
              <a:avLst>
                <a:gd name="adj1" fmla="val 49981"/>
              </a:avLst>
            </a:prstGeom>
            <a:ln w="76320">
              <a:solidFill>
                <a:srgbClr val="000000"/>
              </a:solidFill>
              <a:miter/>
            </a:ln>
          </p:spPr>
        </p:cxnSp>
        <p:cxnSp>
          <p:nvCxnSpPr>
            <p:cNvPr id="315" name="_s2053"/>
            <p:cNvCxnSpPr>
              <a:stCxn id="316" idx="0"/>
              <a:endCxn id="314" idx="2"/>
            </p:cNvCxnSpPr>
            <p:nvPr/>
          </p:nvCxnSpPr>
          <p:spPr>
            <a:xfrm flipH="1" flipV="1" rot="5400000">
              <a:off x="2981880" y="2438280"/>
              <a:ext cx="960480" cy="2361240"/>
            </a:xfrm>
            <a:prstGeom prst="bentConnector3">
              <a:avLst>
                <a:gd name="adj1" fmla="val 49981"/>
              </a:avLst>
            </a:prstGeom>
            <a:ln w="76320">
              <a:solidFill>
                <a:srgbClr val="000000"/>
              </a:solidFill>
              <a:miter/>
            </a:ln>
          </p:spPr>
        </p:cxnSp>
        <p:sp>
          <p:nvSpPr>
            <p:cNvPr id="314" name="_s2054"/>
            <p:cNvSpPr/>
            <p:nvPr/>
          </p:nvSpPr>
          <p:spPr>
            <a:xfrm>
              <a:off x="2749320" y="1219320"/>
              <a:ext cx="3798000" cy="1919880"/>
            </a:xfrm>
            <a:prstGeom prst="roundRect">
              <a:avLst>
                <a:gd name="adj" fmla="val 16667"/>
              </a:avLst>
            </a:prstGeom>
            <a:solidFill>
              <a:srgbClr val="ffd911"/>
            </a:solidFill>
            <a:ln w="9360">
              <a:solidFill>
                <a:srgbClr val="000000"/>
              </a:solidFill>
              <a:miter/>
            </a:ln>
          </p:spPr>
          <p:style>
            <a:lnRef idx="0"/>
            <a:fillRef idx="0"/>
            <a:effectRef idx="0"/>
            <a:fontRef idx="minor"/>
          </p:style>
          <p:txBody>
            <a:bodyPr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7d"/>
                  </a:solidFill>
                  <a:latin typeface="Verdana"/>
                </a:rPr>
                <a:t>Лаборатории медицинские</a:t>
              </a:r>
              <a:endParaRPr b="0" lang="en-US" sz="3200" spc="-1" strike="noStrike">
                <a:solidFill>
                  <a:srgbClr val="000000"/>
                </a:solidFill>
                <a:latin typeface="Arial"/>
              </a:endParaRPr>
            </a:p>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7d"/>
                  </a:solidFill>
                  <a:latin typeface="Verdana"/>
                </a:rPr>
                <a:t>Частные требование к качеству и компетенции</a:t>
              </a:r>
              <a:endParaRPr b="0" lang="en-US" sz="2000" spc="-1" strike="noStrike">
                <a:solidFill>
                  <a:srgbClr val="000000"/>
                </a:solidFill>
                <a:latin typeface="Arial"/>
              </a:endParaRPr>
            </a:p>
          </p:txBody>
        </p:sp>
        <p:sp>
          <p:nvSpPr>
            <p:cNvPr id="316" name="_s2055"/>
            <p:cNvSpPr/>
            <p:nvPr/>
          </p:nvSpPr>
          <p:spPr>
            <a:xfrm>
              <a:off x="304920" y="4099320"/>
              <a:ext cx="3960720" cy="207288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d911"/>
                  </a:solidFill>
                  <a:latin typeface="Verdana"/>
                </a:rPr>
                <a:t> </a:t>
              </a:r>
              <a:r>
                <a:rPr b="0" lang="ru-RU" sz="3200" spc="-1" strike="noStrike">
                  <a:solidFill>
                    <a:srgbClr val="ffd911"/>
                  </a:solidFill>
                  <a:latin typeface="Verdana"/>
                </a:rPr>
                <a:t>Управление качеством в лаборатории, технические процессы</a:t>
              </a:r>
              <a:endParaRPr b="0" lang="en-US" sz="3200" spc="-1" strike="noStrike">
                <a:solidFill>
                  <a:srgbClr val="000000"/>
                </a:solidFill>
                <a:latin typeface="Arial"/>
              </a:endParaRPr>
            </a:p>
          </p:txBody>
        </p:sp>
        <p:sp>
          <p:nvSpPr>
            <p:cNvPr id="313" name="_s2056"/>
            <p:cNvSpPr/>
            <p:nvPr/>
          </p:nvSpPr>
          <p:spPr>
            <a:xfrm>
              <a:off x="4493880" y="4099320"/>
              <a:ext cx="4427280" cy="207288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d911"/>
                  </a:solidFill>
                  <a:latin typeface="Verdana"/>
                </a:rPr>
                <a:t>Системы качества, административные, технические системы </a:t>
              </a:r>
              <a:endParaRPr b="0" lang="en-US" sz="3200" spc="-1" strike="noStrike">
                <a:solidFill>
                  <a:srgbClr val="000000"/>
                </a:solidFill>
                <a:latin typeface="Arial"/>
              </a:endParaRPr>
            </a:p>
          </p:txBody>
        </p:sp>
      </p:grpSp>
      <p:sp>
        <p:nvSpPr>
          <p:cNvPr id="317" name="Text Box 12"/>
          <p:cNvSpPr/>
          <p:nvPr/>
        </p:nvSpPr>
        <p:spPr>
          <a:xfrm>
            <a:off x="304920" y="1371600"/>
            <a:ext cx="2361960" cy="1353960"/>
          </a:xfrm>
          <a:prstGeom prst="rect">
            <a:avLst/>
          </a:prstGeom>
          <a:solidFill>
            <a:srgbClr val="000066"/>
          </a:solidFill>
          <a:ln w="76320">
            <a:solidFill>
              <a:srgbClr val="705d00"/>
            </a:solidFill>
            <a:miter/>
          </a:ln>
        </p:spPr>
        <p:style>
          <a:lnRef idx="0"/>
          <a:fillRef idx="0"/>
          <a:effectRef idx="0"/>
          <a:fontRef idx="minor"/>
        </p:style>
        <p:txBody>
          <a:bodyPr lIns="90000" rIns="90000" tIns="46800" bIns="46800" anchor="t">
            <a:spAutoFit/>
          </a:bodyPr>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d911"/>
                </a:solidFill>
                <a:latin typeface="Verdana"/>
              </a:rPr>
              <a:t>Основан на</a:t>
            </a:r>
            <a:r>
              <a:rPr b="0" lang="en-US" sz="2000" spc="-1" strike="noStrike">
                <a:solidFill>
                  <a:srgbClr val="ffd911"/>
                </a:solidFill>
                <a:latin typeface="Verdana"/>
              </a:rPr>
              <a:t> </a:t>
            </a:r>
            <a:r>
              <a:rPr b="0" lang="ru-RU" sz="2000" spc="-1" strike="noStrike">
                <a:solidFill>
                  <a:srgbClr val="ffd911"/>
                </a:solidFill>
                <a:latin typeface="Verdana"/>
              </a:rPr>
              <a:t>ИСО</a:t>
            </a:r>
            <a:r>
              <a:rPr b="0" lang="en-US" sz="2000" spc="-1" strike="noStrike">
                <a:solidFill>
                  <a:srgbClr val="ffd911"/>
                </a:solidFill>
                <a:latin typeface="Verdana"/>
              </a:rPr>
              <a:t> </a:t>
            </a:r>
            <a:endParaRPr b="0" lang="en-US" sz="2000" spc="-1" strike="noStrike">
              <a:solidFill>
                <a:srgbClr val="000000"/>
              </a:solidFill>
              <a:latin typeface="Arial"/>
            </a:endParaRPr>
          </a:p>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911"/>
                </a:solidFill>
                <a:latin typeface="Verdana"/>
              </a:rPr>
              <a:t>17025:1999 </a:t>
            </a:r>
            <a:endParaRPr b="0" lang="en-US" sz="2000" spc="-1" strike="noStrike">
              <a:solidFill>
                <a:srgbClr val="000000"/>
              </a:solidFill>
              <a:latin typeface="Arial"/>
            </a:endParaRPr>
          </a:p>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d911"/>
                </a:solidFill>
                <a:latin typeface="Verdana"/>
              </a:rPr>
              <a:t>и</a:t>
            </a:r>
            <a:r>
              <a:rPr b="0" lang="en-US" sz="2000" spc="-1" strike="noStrike">
                <a:solidFill>
                  <a:srgbClr val="ffd911"/>
                </a:solidFill>
                <a:latin typeface="Verdana"/>
              </a:rPr>
              <a:t> </a:t>
            </a:r>
            <a:endParaRPr b="0" lang="en-US" sz="2000" spc="-1" strike="noStrike">
              <a:solidFill>
                <a:srgbClr val="000000"/>
              </a:solidFill>
              <a:latin typeface="Arial"/>
            </a:endParaRPr>
          </a:p>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911"/>
                </a:solidFill>
                <a:latin typeface="Verdana"/>
              </a:rPr>
              <a:t>9001:2000</a:t>
            </a:r>
            <a:endParaRPr b="0" lang="en-US" sz="2000" spc="-1" strike="noStrike">
              <a:solidFill>
                <a:srgbClr val="000000"/>
              </a:solidFill>
              <a:latin typeface="Arial"/>
            </a:endParaRPr>
          </a:p>
        </p:txBody>
      </p:sp>
      <p:sp>
        <p:nvSpPr>
          <p:cNvPr id="318" name="Line 15"/>
          <p:cNvSpPr/>
          <p:nvPr/>
        </p:nvSpPr>
        <p:spPr>
          <a:xfrm>
            <a:off x="6553080" y="2666880"/>
            <a:ext cx="60984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Text Box 18"/>
          <p:cNvSpPr/>
          <p:nvPr/>
        </p:nvSpPr>
        <p:spPr>
          <a:xfrm>
            <a:off x="6705720" y="2967120"/>
            <a:ext cx="2209680" cy="9169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Verdana"/>
              </a:rPr>
              <a:t>подтвердить или признать компетенцию</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20" name="Group 3"/>
          <p:cNvGrpSpPr/>
          <p:nvPr/>
        </p:nvGrpSpPr>
        <p:grpSpPr>
          <a:xfrm>
            <a:off x="762120" y="3352680"/>
            <a:ext cx="2590560" cy="2227320"/>
            <a:chOff x="762120" y="3352680"/>
            <a:chExt cx="2590560" cy="2227320"/>
          </a:xfrm>
        </p:grpSpPr>
        <p:pic>
          <p:nvPicPr>
            <p:cNvPr id="321" name="Picture 4" descr=""/>
            <p:cNvPicPr/>
            <p:nvPr/>
          </p:nvPicPr>
          <p:blipFill>
            <a:blip r:embed="rId1"/>
            <a:stretch/>
          </p:blipFill>
          <p:spPr>
            <a:xfrm>
              <a:off x="762120" y="3352680"/>
              <a:ext cx="2590560" cy="2227320"/>
            </a:xfrm>
            <a:prstGeom prst="rect">
              <a:avLst/>
            </a:prstGeom>
            <a:ln w="0">
              <a:noFill/>
            </a:ln>
          </p:spPr>
        </p:pic>
        <p:sp>
          <p:nvSpPr>
            <p:cNvPr id="322" name="Text Box 5"/>
            <p:cNvSpPr/>
            <p:nvPr/>
          </p:nvSpPr>
          <p:spPr>
            <a:xfrm>
              <a:off x="1422000" y="4021920"/>
              <a:ext cx="11275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800000"/>
                  </a:solidFill>
                  <a:latin typeface="Comic Sans MS"/>
                </a:rPr>
                <a:t>Лабортория</a:t>
              </a:r>
              <a:endParaRPr b="0" lang="en-US" sz="1300" spc="-1" strike="noStrike">
                <a:solidFill>
                  <a:srgbClr val="000000"/>
                </a:solidFill>
                <a:latin typeface="Arial"/>
              </a:endParaRPr>
            </a:p>
          </p:txBody>
        </p:sp>
      </p:grpSp>
      <p:grpSp>
        <p:nvGrpSpPr>
          <p:cNvPr id="323" name="Group 6"/>
          <p:cNvGrpSpPr/>
          <p:nvPr/>
        </p:nvGrpSpPr>
        <p:grpSpPr>
          <a:xfrm>
            <a:off x="235440" y="3989880"/>
            <a:ext cx="2620080" cy="1442880"/>
            <a:chOff x="235440" y="3989880"/>
            <a:chExt cx="2620080" cy="1442880"/>
          </a:xfrm>
        </p:grpSpPr>
        <p:sp>
          <p:nvSpPr>
            <p:cNvPr id="324" name="Line 7"/>
            <p:cNvSpPr/>
            <p:nvPr/>
          </p:nvSpPr>
          <p:spPr>
            <a:xfrm>
              <a:off x="982440" y="4646520"/>
              <a:ext cx="305640" cy="6807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8"/>
            <p:cNvSpPr/>
            <p:nvPr/>
          </p:nvSpPr>
          <p:spPr>
            <a:xfrm rot="20151000">
              <a:off x="192240" y="4527000"/>
              <a:ext cx="2706120" cy="368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Bradley Hand ITC"/>
                </a:rPr>
                <a:t>Открывается сегодня!</a:t>
              </a:r>
              <a:endParaRPr b="0" lang="en-US" sz="1800" spc="-1" strike="noStrike">
                <a:solidFill>
                  <a:srgbClr val="000000"/>
                </a:solidFill>
                <a:latin typeface="Arial"/>
              </a:endParaRPr>
            </a:p>
          </p:txBody>
        </p:sp>
      </p:grpSp>
      <p:grpSp>
        <p:nvGrpSpPr>
          <p:cNvPr id="326" name="Group 9"/>
          <p:cNvGrpSpPr/>
          <p:nvPr/>
        </p:nvGrpSpPr>
        <p:grpSpPr>
          <a:xfrm>
            <a:off x="777960" y="5081760"/>
            <a:ext cx="2802960" cy="996840"/>
            <a:chOff x="777960" y="5081760"/>
            <a:chExt cx="2802960" cy="996840"/>
          </a:xfrm>
        </p:grpSpPr>
        <p:sp>
          <p:nvSpPr>
            <p:cNvPr id="327" name="DownRibbonSharp"/>
            <p:cNvSpPr/>
            <p:nvPr/>
          </p:nvSpPr>
          <p:spPr>
            <a:xfrm>
              <a:off x="777960" y="5081760"/>
              <a:ext cx="2802960" cy="996840"/>
            </a:xfrm>
            <a:custGeom>
              <a:avLst/>
              <a:gdLst>
                <a:gd name="textAreaLeft" fmla="*/ 350280 w 2802960"/>
                <a:gd name="textAreaRight" fmla="*/ 2452680 w 2802960"/>
                <a:gd name="textAreaTop" fmla="*/ 124560 h 996840"/>
                <a:gd name="textAreaBottom" fmla="*/ 997200 h 996840"/>
              </a:gdLst>
              <a:ahLst/>
              <a:rect l="textAreaLeft" t="textAreaTop" r="textAreaRight" b="textAreaBottom"/>
              <a:pathLst>
                <a:path w="21600" h="21600">
                  <a:moveTo>
                    <a:pt x="0" y="0"/>
                  </a:moveTo>
                  <a:lnTo>
                    <a:pt x="5400" y="0"/>
                  </a:lnTo>
                  <a:lnTo>
                    <a:pt x="5400" y="2700"/>
                  </a:lnTo>
                  <a:lnTo>
                    <a:pt x="16200" y="2700"/>
                  </a:lnTo>
                  <a:lnTo>
                    <a:pt x="16200" y="0"/>
                  </a:lnTo>
                  <a:lnTo>
                    <a:pt x="21600" y="0"/>
                  </a:lnTo>
                  <a:lnTo>
                    <a:pt x="18900" y="9450"/>
                  </a:lnTo>
                  <a:lnTo>
                    <a:pt x="21600" y="18900"/>
                  </a:lnTo>
                  <a:lnTo>
                    <a:pt x="18900" y="18900"/>
                  </a:lnTo>
                  <a:lnTo>
                    <a:pt x="18900" y="21600"/>
                  </a:lnTo>
                  <a:lnTo>
                    <a:pt x="2700" y="21600"/>
                  </a:lnTo>
                  <a:lnTo>
                    <a:pt x="2700" y="18900"/>
                  </a:lnTo>
                  <a:lnTo>
                    <a:pt x="0" y="18900"/>
                  </a:lnTo>
                  <a:lnTo>
                    <a:pt x="2700" y="9450"/>
                  </a:lnTo>
                  <a:lnTo>
                    <a:pt x="0" y="0"/>
                  </a:lnTo>
                  <a:close/>
                </a:path>
                <a:path fill="none" w="21600" h="21600">
                  <a:moveTo>
                    <a:pt x="5400" y="2700"/>
                  </a:moveTo>
                  <a:lnTo>
                    <a:pt x="2700" y="2700"/>
                  </a:lnTo>
                  <a:lnTo>
                    <a:pt x="2700" y="18900"/>
                  </a:lnTo>
                </a:path>
                <a:path fill="none" w="21600" h="21600">
                  <a:moveTo>
                    <a:pt x="2700" y="2700"/>
                  </a:moveTo>
                  <a:lnTo>
                    <a:pt x="5400" y="0"/>
                  </a:lnTo>
                </a:path>
                <a:path fill="none" w="21600" h="21600">
                  <a:moveTo>
                    <a:pt x="16200" y="2700"/>
                  </a:moveTo>
                  <a:lnTo>
                    <a:pt x="18900" y="2700"/>
                  </a:lnTo>
                  <a:lnTo>
                    <a:pt x="18900" y="18900"/>
                  </a:lnTo>
                </a:path>
                <a:path fill="none" w="21600" h="21600">
                  <a:moveTo>
                    <a:pt x="18900" y="2700"/>
                  </a:moveTo>
                  <a:lnTo>
                    <a:pt x="16200" y="0"/>
                  </a:lnTo>
                </a:path>
              </a:pathLst>
            </a:custGeom>
            <a:solidFill>
              <a:srgbClr val="705d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Rectangle 11"/>
            <p:cNvSpPr/>
            <p:nvPr/>
          </p:nvSpPr>
          <p:spPr>
            <a:xfrm>
              <a:off x="1216080" y="5268600"/>
              <a:ext cx="1926720" cy="74772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Amaze"/>
                </a:rPr>
                <a:t>Лицензирование</a:t>
              </a:r>
              <a:endParaRPr b="0" lang="en-US" sz="1600" spc="-1" strike="noStrike">
                <a:solidFill>
                  <a:srgbClr val="000000"/>
                </a:solidFill>
                <a:latin typeface="Arial"/>
              </a:endParaRPr>
            </a:p>
          </p:txBody>
        </p:sp>
      </p:grpSp>
      <p:grpSp>
        <p:nvGrpSpPr>
          <p:cNvPr id="329" name="Group 12"/>
          <p:cNvGrpSpPr/>
          <p:nvPr/>
        </p:nvGrpSpPr>
        <p:grpSpPr>
          <a:xfrm>
            <a:off x="2438280" y="1752480"/>
            <a:ext cx="3732840" cy="3580920"/>
            <a:chOff x="2438280" y="1752480"/>
            <a:chExt cx="3732840" cy="3580920"/>
          </a:xfrm>
        </p:grpSpPr>
        <p:grpSp>
          <p:nvGrpSpPr>
            <p:cNvPr id="330" name="Group 13"/>
            <p:cNvGrpSpPr/>
            <p:nvPr/>
          </p:nvGrpSpPr>
          <p:grpSpPr>
            <a:xfrm>
              <a:off x="2704680" y="1752480"/>
              <a:ext cx="3466440" cy="2784600"/>
              <a:chOff x="2704680" y="1752480"/>
              <a:chExt cx="3466440" cy="2784600"/>
            </a:xfrm>
          </p:grpSpPr>
          <p:pic>
            <p:nvPicPr>
              <p:cNvPr id="331" name="Picture 14" descr=""/>
              <p:cNvPicPr/>
              <p:nvPr/>
            </p:nvPicPr>
            <p:blipFill>
              <a:blip r:embed="rId2"/>
              <a:stretch/>
            </p:blipFill>
            <p:spPr>
              <a:xfrm>
                <a:off x="2704680" y="1752480"/>
                <a:ext cx="3466440" cy="2784600"/>
              </a:xfrm>
              <a:prstGeom prst="rect">
                <a:avLst/>
              </a:prstGeom>
              <a:ln w="0">
                <a:noFill/>
              </a:ln>
            </p:spPr>
          </p:pic>
          <p:sp>
            <p:nvSpPr>
              <p:cNvPr id="332" name="Text Box 15"/>
              <p:cNvSpPr/>
              <p:nvPr/>
            </p:nvSpPr>
            <p:spPr>
              <a:xfrm>
                <a:off x="3595320" y="2590920"/>
                <a:ext cx="1509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800000"/>
                    </a:solidFill>
                    <a:latin typeface="Comic Sans MS"/>
                  </a:rPr>
                  <a:t>Лаборатория</a:t>
                </a:r>
                <a:endParaRPr b="0" lang="en-US" sz="1400" spc="-1" strike="noStrike">
                  <a:solidFill>
                    <a:srgbClr val="000000"/>
                  </a:solidFill>
                  <a:latin typeface="Arial"/>
                </a:endParaRPr>
              </a:p>
            </p:txBody>
          </p:sp>
        </p:grpSp>
        <p:grpSp>
          <p:nvGrpSpPr>
            <p:cNvPr id="333" name="Group 16"/>
            <p:cNvGrpSpPr/>
            <p:nvPr/>
          </p:nvGrpSpPr>
          <p:grpSpPr>
            <a:xfrm>
              <a:off x="3060000" y="4088160"/>
              <a:ext cx="2844720" cy="1245240"/>
              <a:chOff x="3060000" y="4088160"/>
              <a:chExt cx="2844720" cy="1245240"/>
            </a:xfrm>
          </p:grpSpPr>
          <p:sp>
            <p:nvSpPr>
              <p:cNvPr id="334" name="DownRibbonSharp"/>
              <p:cNvSpPr/>
              <p:nvPr/>
            </p:nvSpPr>
            <p:spPr>
              <a:xfrm>
                <a:off x="3060000" y="4088160"/>
                <a:ext cx="2844720" cy="1245240"/>
              </a:xfrm>
              <a:custGeom>
                <a:avLst/>
                <a:gdLst>
                  <a:gd name="textAreaLeft" fmla="*/ 355320 w 2844720"/>
                  <a:gd name="textAreaRight" fmla="*/ 2489400 w 2844720"/>
                  <a:gd name="textAreaTop" fmla="*/ 155520 h 1245240"/>
                  <a:gd name="textAreaBottom" fmla="*/ 1245600 h 1245240"/>
                </a:gdLst>
                <a:ahLst/>
                <a:rect l="textAreaLeft" t="textAreaTop" r="textAreaRight" b="textAreaBottom"/>
                <a:pathLst>
                  <a:path w="21600" h="21600">
                    <a:moveTo>
                      <a:pt x="0" y="0"/>
                    </a:moveTo>
                    <a:lnTo>
                      <a:pt x="5400" y="0"/>
                    </a:lnTo>
                    <a:lnTo>
                      <a:pt x="5400" y="2700"/>
                    </a:lnTo>
                    <a:lnTo>
                      <a:pt x="16200" y="2700"/>
                    </a:lnTo>
                    <a:lnTo>
                      <a:pt x="16200" y="0"/>
                    </a:lnTo>
                    <a:lnTo>
                      <a:pt x="21600" y="0"/>
                    </a:lnTo>
                    <a:lnTo>
                      <a:pt x="18900" y="9450"/>
                    </a:lnTo>
                    <a:lnTo>
                      <a:pt x="21600" y="18900"/>
                    </a:lnTo>
                    <a:lnTo>
                      <a:pt x="18900" y="18900"/>
                    </a:lnTo>
                    <a:lnTo>
                      <a:pt x="18900" y="21600"/>
                    </a:lnTo>
                    <a:lnTo>
                      <a:pt x="2700" y="21600"/>
                    </a:lnTo>
                    <a:lnTo>
                      <a:pt x="2700" y="18900"/>
                    </a:lnTo>
                    <a:lnTo>
                      <a:pt x="0" y="18900"/>
                    </a:lnTo>
                    <a:lnTo>
                      <a:pt x="2700" y="9450"/>
                    </a:lnTo>
                    <a:lnTo>
                      <a:pt x="0" y="0"/>
                    </a:lnTo>
                    <a:close/>
                  </a:path>
                  <a:path fill="none" w="21600" h="21600">
                    <a:moveTo>
                      <a:pt x="5400" y="2700"/>
                    </a:moveTo>
                    <a:lnTo>
                      <a:pt x="2700" y="2700"/>
                    </a:lnTo>
                    <a:lnTo>
                      <a:pt x="2700" y="18900"/>
                    </a:lnTo>
                  </a:path>
                  <a:path fill="none" w="21600" h="21600">
                    <a:moveTo>
                      <a:pt x="2700" y="2700"/>
                    </a:moveTo>
                    <a:lnTo>
                      <a:pt x="5400" y="0"/>
                    </a:lnTo>
                  </a:path>
                  <a:path fill="none" w="21600" h="21600">
                    <a:moveTo>
                      <a:pt x="16200" y="2700"/>
                    </a:moveTo>
                    <a:lnTo>
                      <a:pt x="18900" y="2700"/>
                    </a:lnTo>
                    <a:lnTo>
                      <a:pt x="18900" y="18900"/>
                    </a:lnTo>
                  </a:path>
                  <a:path fill="none" w="21600" h="21600">
                    <a:moveTo>
                      <a:pt x="18900" y="2700"/>
                    </a:moveTo>
                    <a:lnTo>
                      <a:pt x="16200" y="0"/>
                    </a:lnTo>
                  </a:path>
                </a:pathLst>
              </a:custGeom>
              <a:solidFill>
                <a:srgbClr val="705d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Rectangle 18"/>
              <p:cNvSpPr/>
              <p:nvPr/>
            </p:nvSpPr>
            <p:spPr>
              <a:xfrm>
                <a:off x="3504600" y="4321440"/>
                <a:ext cx="1955160" cy="9342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Amaze"/>
                  </a:rPr>
                  <a:t>Сертификация</a:t>
                </a:r>
                <a:endParaRPr b="0" lang="en-US" sz="1800" spc="-1" strike="noStrike">
                  <a:solidFill>
                    <a:srgbClr val="000000"/>
                  </a:solidFill>
                  <a:latin typeface="Arial"/>
                </a:endParaRPr>
              </a:p>
            </p:txBody>
          </p:sp>
        </p:grpSp>
        <p:grpSp>
          <p:nvGrpSpPr>
            <p:cNvPr id="336" name="Group 19"/>
            <p:cNvGrpSpPr/>
            <p:nvPr/>
          </p:nvGrpSpPr>
          <p:grpSpPr>
            <a:xfrm>
              <a:off x="2438280" y="3075840"/>
              <a:ext cx="1955160" cy="1556640"/>
              <a:chOff x="2438280" y="3075840"/>
              <a:chExt cx="1955160" cy="1556640"/>
            </a:xfrm>
          </p:grpSpPr>
          <p:pic>
            <p:nvPicPr>
              <p:cNvPr id="337" name="Picture 20" descr="MCj04348100000[1]"/>
              <p:cNvPicPr/>
              <p:nvPr/>
            </p:nvPicPr>
            <p:blipFill>
              <a:blip r:embed="rId3"/>
              <a:stretch/>
            </p:blipFill>
            <p:spPr>
              <a:xfrm>
                <a:off x="2438280" y="3075840"/>
                <a:ext cx="1955160" cy="1556640"/>
              </a:xfrm>
              <a:prstGeom prst="rect">
                <a:avLst/>
              </a:prstGeom>
              <a:ln w="0">
                <a:noFill/>
              </a:ln>
            </p:spPr>
          </p:pic>
          <p:sp>
            <p:nvSpPr>
              <p:cNvPr id="338" name="Text Box 21"/>
              <p:cNvSpPr/>
              <p:nvPr/>
            </p:nvSpPr>
            <p:spPr>
              <a:xfrm rot="21314400">
                <a:off x="3183480" y="3890160"/>
                <a:ext cx="71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ISO 9001</a:t>
                </a:r>
                <a:endParaRPr b="0" lang="en-US" sz="1000" spc="-1" strike="noStrike">
                  <a:solidFill>
                    <a:srgbClr val="000000"/>
                  </a:solidFill>
                  <a:latin typeface="Arial"/>
                </a:endParaRPr>
              </a:p>
            </p:txBody>
          </p:sp>
          <p:sp>
            <p:nvSpPr>
              <p:cNvPr id="339" name="Text Box 22"/>
              <p:cNvSpPr/>
              <p:nvPr/>
            </p:nvSpPr>
            <p:spPr>
              <a:xfrm rot="20812800">
                <a:off x="2864160" y="4092480"/>
                <a:ext cx="14731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000000"/>
                    </a:solidFill>
                    <a:latin typeface="Arial"/>
                  </a:rPr>
                  <a:t>Руководство по качеству</a:t>
                </a:r>
                <a:endParaRPr b="0" lang="en-US" sz="800" spc="-1" strike="noStrike">
                  <a:solidFill>
                    <a:srgbClr val="000000"/>
                  </a:solidFill>
                  <a:latin typeface="Arial"/>
                </a:endParaRPr>
              </a:p>
            </p:txBody>
          </p:sp>
          <p:sp>
            <p:nvSpPr>
              <p:cNvPr id="340" name="Text Box 23"/>
              <p:cNvSpPr/>
              <p:nvPr/>
            </p:nvSpPr>
            <p:spPr>
              <a:xfrm rot="994800">
                <a:off x="3347280" y="3357720"/>
                <a:ext cx="629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000" spc="-1" strike="noStrike">
                    <a:solidFill>
                      <a:srgbClr val="ffffff"/>
                    </a:solidFill>
                    <a:latin typeface="Arial"/>
                  </a:rPr>
                  <a:t>СОП</a:t>
                </a:r>
                <a:endParaRPr b="0" lang="en-US" sz="1000" spc="-1" strike="noStrike">
                  <a:solidFill>
                    <a:srgbClr val="000000"/>
                  </a:solidFill>
                  <a:latin typeface="Arial"/>
                </a:endParaRPr>
              </a:p>
            </p:txBody>
          </p:sp>
        </p:grpSp>
      </p:grpSp>
      <p:grpSp>
        <p:nvGrpSpPr>
          <p:cNvPr id="341" name="Group 24"/>
          <p:cNvGrpSpPr/>
          <p:nvPr/>
        </p:nvGrpSpPr>
        <p:grpSpPr>
          <a:xfrm>
            <a:off x="5334120" y="457200"/>
            <a:ext cx="3809520" cy="4266360"/>
            <a:chOff x="5334120" y="457200"/>
            <a:chExt cx="3809520" cy="4266360"/>
          </a:xfrm>
        </p:grpSpPr>
        <p:sp>
          <p:nvSpPr>
            <p:cNvPr id="342" name="Text Box 25"/>
            <p:cNvSpPr/>
            <p:nvPr/>
          </p:nvSpPr>
          <p:spPr>
            <a:xfrm>
              <a:off x="6873840" y="1500840"/>
              <a:ext cx="1627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800000"/>
                  </a:solidFill>
                  <a:latin typeface="Comic Sans MS"/>
                </a:rPr>
                <a:t>Refere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800000"/>
                  </a:solidFill>
                  <a:latin typeface="Comic Sans MS"/>
                </a:rPr>
                <a:t>Laboratory</a:t>
              </a:r>
              <a:endParaRPr b="0" lang="en-US" sz="1400" spc="-1" strike="noStrike">
                <a:solidFill>
                  <a:srgbClr val="000000"/>
                </a:solidFill>
                <a:latin typeface="Arial"/>
              </a:endParaRPr>
            </a:p>
          </p:txBody>
        </p:sp>
        <p:pic>
          <p:nvPicPr>
            <p:cNvPr id="343" name="Picture 26" descr=""/>
            <p:cNvPicPr/>
            <p:nvPr/>
          </p:nvPicPr>
          <p:blipFill>
            <a:blip r:embed="rId4"/>
            <a:srcRect l="0" t="0" r="8700" b="8507"/>
            <a:stretch/>
          </p:blipFill>
          <p:spPr>
            <a:xfrm>
              <a:off x="5739120" y="457200"/>
              <a:ext cx="3404520" cy="3397680"/>
            </a:xfrm>
            <a:prstGeom prst="rect">
              <a:avLst/>
            </a:prstGeom>
            <a:ln w="0">
              <a:noFill/>
            </a:ln>
          </p:spPr>
        </p:pic>
        <p:grpSp>
          <p:nvGrpSpPr>
            <p:cNvPr id="344" name="Group 27"/>
            <p:cNvGrpSpPr/>
            <p:nvPr/>
          </p:nvGrpSpPr>
          <p:grpSpPr>
            <a:xfrm>
              <a:off x="7835760" y="2855160"/>
              <a:ext cx="1107360" cy="604080"/>
              <a:chOff x="7835760" y="2855160"/>
              <a:chExt cx="1107360" cy="604080"/>
            </a:xfrm>
          </p:grpSpPr>
          <p:sp>
            <p:nvSpPr>
              <p:cNvPr id="345" name="Line 28"/>
              <p:cNvSpPr/>
              <p:nvPr/>
            </p:nvSpPr>
            <p:spPr>
              <a:xfrm flipH="1">
                <a:off x="8332560" y="2867040"/>
                <a:ext cx="81000" cy="5922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 Box 29"/>
              <p:cNvSpPr/>
              <p:nvPr/>
            </p:nvSpPr>
            <p:spPr>
              <a:xfrm rot="615600">
                <a:off x="7862760" y="2945520"/>
                <a:ext cx="1053360" cy="3985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a:rPr>
                  <a:t>ИСО</a:t>
                </a:r>
                <a:r>
                  <a:rPr b="1" lang="fr-CH" sz="1000" spc="-1" strike="noStrike">
                    <a:solidFill>
                      <a:srgbClr val="000000"/>
                    </a:solidFill>
                    <a:latin typeface="Arial"/>
                  </a:rPr>
                  <a:t> 15189</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a:rPr>
                  <a:t>ВОЗ Полио</a:t>
                </a:r>
                <a:endParaRPr b="0" lang="en-US" sz="1000" spc="-1" strike="noStrike">
                  <a:solidFill>
                    <a:srgbClr val="000000"/>
                  </a:solidFill>
                  <a:latin typeface="Arial"/>
                </a:endParaRPr>
              </a:p>
            </p:txBody>
          </p:sp>
        </p:grpSp>
        <p:grpSp>
          <p:nvGrpSpPr>
            <p:cNvPr id="347" name="Group 30"/>
            <p:cNvGrpSpPr/>
            <p:nvPr/>
          </p:nvGrpSpPr>
          <p:grpSpPr>
            <a:xfrm>
              <a:off x="5334120" y="2116440"/>
              <a:ext cx="1870560" cy="1580040"/>
              <a:chOff x="5334120" y="2116440"/>
              <a:chExt cx="1870560" cy="1580040"/>
            </a:xfrm>
          </p:grpSpPr>
          <p:pic>
            <p:nvPicPr>
              <p:cNvPr id="348" name="Picture 31" descr="MCj04348100000[1]"/>
              <p:cNvPicPr/>
              <p:nvPr/>
            </p:nvPicPr>
            <p:blipFill>
              <a:blip r:embed="rId5"/>
              <a:stretch/>
            </p:blipFill>
            <p:spPr>
              <a:xfrm>
                <a:off x="5334120" y="2116440"/>
                <a:ext cx="1783080" cy="1580040"/>
              </a:xfrm>
              <a:prstGeom prst="rect">
                <a:avLst/>
              </a:prstGeom>
              <a:ln w="0">
                <a:noFill/>
              </a:ln>
            </p:spPr>
          </p:pic>
          <p:sp>
            <p:nvSpPr>
              <p:cNvPr id="349" name="Text Box 32"/>
              <p:cNvSpPr/>
              <p:nvPr/>
            </p:nvSpPr>
            <p:spPr>
              <a:xfrm rot="21314400">
                <a:off x="6014160" y="2934720"/>
                <a:ext cx="71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ISO 9001</a:t>
                </a:r>
                <a:endParaRPr b="0" lang="en-US" sz="1000" spc="-1" strike="noStrike">
                  <a:solidFill>
                    <a:srgbClr val="000000"/>
                  </a:solidFill>
                  <a:latin typeface="Arial"/>
                </a:endParaRPr>
              </a:p>
            </p:txBody>
          </p:sp>
          <p:sp>
            <p:nvSpPr>
              <p:cNvPr id="350" name="Text Box 33"/>
              <p:cNvSpPr/>
              <p:nvPr/>
            </p:nvSpPr>
            <p:spPr>
              <a:xfrm rot="20812800">
                <a:off x="5726160" y="3119040"/>
                <a:ext cx="14731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000000"/>
                    </a:solidFill>
                    <a:latin typeface="Arial"/>
                  </a:rPr>
                  <a:t>Руководство по качеству</a:t>
                </a:r>
                <a:endParaRPr b="0" lang="en-US" sz="800" spc="-1" strike="noStrike">
                  <a:solidFill>
                    <a:srgbClr val="000000"/>
                  </a:solidFill>
                  <a:latin typeface="Arial"/>
                </a:endParaRPr>
              </a:p>
            </p:txBody>
          </p:sp>
          <p:sp>
            <p:nvSpPr>
              <p:cNvPr id="351" name="Text Box 34"/>
              <p:cNvSpPr/>
              <p:nvPr/>
            </p:nvSpPr>
            <p:spPr>
              <a:xfrm rot="994800">
                <a:off x="6165000" y="2399040"/>
                <a:ext cx="5724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000" spc="-1" strike="noStrike">
                    <a:solidFill>
                      <a:srgbClr val="ffffff"/>
                    </a:solidFill>
                    <a:latin typeface="Arial"/>
                  </a:rPr>
                  <a:t>СОП</a:t>
                </a:r>
                <a:endParaRPr b="0" lang="en-US" sz="1000" spc="-1" strike="noStrike">
                  <a:solidFill>
                    <a:srgbClr val="000000"/>
                  </a:solidFill>
                  <a:latin typeface="Arial"/>
                </a:endParaRPr>
              </a:p>
            </p:txBody>
          </p:sp>
        </p:grpSp>
        <p:grpSp>
          <p:nvGrpSpPr>
            <p:cNvPr id="352" name="Group 35"/>
            <p:cNvGrpSpPr/>
            <p:nvPr/>
          </p:nvGrpSpPr>
          <p:grpSpPr>
            <a:xfrm>
              <a:off x="5820480" y="3459960"/>
              <a:ext cx="2593440" cy="1263600"/>
              <a:chOff x="5820480" y="3459960"/>
              <a:chExt cx="2593440" cy="1263600"/>
            </a:xfrm>
          </p:grpSpPr>
          <p:sp>
            <p:nvSpPr>
              <p:cNvPr id="353" name="DownRibbonSharp"/>
              <p:cNvSpPr/>
              <p:nvPr/>
            </p:nvSpPr>
            <p:spPr>
              <a:xfrm>
                <a:off x="5820480" y="3459960"/>
                <a:ext cx="2593440" cy="1263600"/>
              </a:xfrm>
              <a:custGeom>
                <a:avLst/>
                <a:gdLst>
                  <a:gd name="textAreaLeft" fmla="*/ 324000 w 2593440"/>
                  <a:gd name="textAreaRight" fmla="*/ 2269440 w 2593440"/>
                  <a:gd name="textAreaTop" fmla="*/ 157680 h 1263600"/>
                  <a:gd name="textAreaBottom" fmla="*/ 1263960 h 1263600"/>
                </a:gdLst>
                <a:ahLst/>
                <a:rect l="textAreaLeft" t="textAreaTop" r="textAreaRight" b="textAreaBottom"/>
                <a:pathLst>
                  <a:path w="21600" h="21600">
                    <a:moveTo>
                      <a:pt x="0" y="0"/>
                    </a:moveTo>
                    <a:lnTo>
                      <a:pt x="5400" y="0"/>
                    </a:lnTo>
                    <a:lnTo>
                      <a:pt x="5400" y="2700"/>
                    </a:lnTo>
                    <a:lnTo>
                      <a:pt x="16200" y="2700"/>
                    </a:lnTo>
                    <a:lnTo>
                      <a:pt x="16200" y="0"/>
                    </a:lnTo>
                    <a:lnTo>
                      <a:pt x="21600" y="0"/>
                    </a:lnTo>
                    <a:lnTo>
                      <a:pt x="18900" y="9450"/>
                    </a:lnTo>
                    <a:lnTo>
                      <a:pt x="21600" y="18900"/>
                    </a:lnTo>
                    <a:lnTo>
                      <a:pt x="18900" y="18900"/>
                    </a:lnTo>
                    <a:lnTo>
                      <a:pt x="18900" y="21600"/>
                    </a:lnTo>
                    <a:lnTo>
                      <a:pt x="2700" y="21600"/>
                    </a:lnTo>
                    <a:lnTo>
                      <a:pt x="2700" y="18900"/>
                    </a:lnTo>
                    <a:lnTo>
                      <a:pt x="0" y="18900"/>
                    </a:lnTo>
                    <a:lnTo>
                      <a:pt x="2700" y="9450"/>
                    </a:lnTo>
                    <a:lnTo>
                      <a:pt x="0" y="0"/>
                    </a:lnTo>
                    <a:close/>
                  </a:path>
                  <a:path fill="none" w="21600" h="21600">
                    <a:moveTo>
                      <a:pt x="5400" y="2700"/>
                    </a:moveTo>
                    <a:lnTo>
                      <a:pt x="2700" y="2700"/>
                    </a:lnTo>
                    <a:lnTo>
                      <a:pt x="2700" y="18900"/>
                    </a:lnTo>
                  </a:path>
                  <a:path fill="none" w="21600" h="21600">
                    <a:moveTo>
                      <a:pt x="2700" y="2700"/>
                    </a:moveTo>
                    <a:lnTo>
                      <a:pt x="5400" y="0"/>
                    </a:lnTo>
                  </a:path>
                  <a:path fill="none" w="21600" h="21600">
                    <a:moveTo>
                      <a:pt x="16200" y="2700"/>
                    </a:moveTo>
                    <a:lnTo>
                      <a:pt x="18900" y="2700"/>
                    </a:lnTo>
                    <a:lnTo>
                      <a:pt x="18900" y="18900"/>
                    </a:lnTo>
                  </a:path>
                  <a:path fill="none" w="21600" h="21600">
                    <a:moveTo>
                      <a:pt x="18900" y="2700"/>
                    </a:moveTo>
                    <a:lnTo>
                      <a:pt x="16200" y="0"/>
                    </a:lnTo>
                  </a:path>
                </a:pathLst>
              </a:custGeom>
              <a:solidFill>
                <a:srgbClr val="705d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Rectangle 37"/>
              <p:cNvSpPr/>
              <p:nvPr/>
            </p:nvSpPr>
            <p:spPr>
              <a:xfrm>
                <a:off x="6225840" y="3696840"/>
                <a:ext cx="1782720" cy="94788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Amaze"/>
                  </a:rPr>
                  <a:t>Аккредитация</a:t>
                </a:r>
                <a:endParaRPr b="0" lang="en-US" sz="1600" spc="-1" strike="noStrike">
                  <a:solidFill>
                    <a:srgbClr val="000000"/>
                  </a:solidFill>
                  <a:latin typeface="Arial"/>
                </a:endParaRPr>
              </a:p>
            </p:txBody>
          </p:sp>
        </p:grpSp>
      </p:grpSp>
      <p:sp>
        <p:nvSpPr>
          <p:cNvPr id="355" name="PlaceHolder 1"/>
          <p:cNvSpPr>
            <a:spLocks noGrp="1"/>
          </p:cNvSpPr>
          <p:nvPr>
            <p:ph type="title"/>
          </p:nvPr>
        </p:nvSpPr>
        <p:spPr>
          <a:xfrm>
            <a:off x="457200" y="228600"/>
            <a:ext cx="830592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Где находится ваша лаборатория</a:t>
            </a:r>
            <a:r>
              <a:rPr b="0" lang="en-US" sz="3200" spc="-1" strike="noStrike">
                <a:solidFill>
                  <a:srgbClr val="00007d"/>
                </a:solidFill>
                <a:latin typeface="Verdana"/>
              </a:rPr>
              <a:t>?</a:t>
            </a:r>
            <a:endParaRPr b="0" lang="en-US" sz="3200" spc="-1" strike="noStrike">
              <a:solidFill>
                <a:srgbClr val="00007d"/>
              </a:solidFill>
              <a:latin typeface="Verdana"/>
            </a:endParaRPr>
          </a:p>
        </p:txBody>
      </p:sp>
      <p:pic>
        <p:nvPicPr>
          <p:cNvPr id="356" name="Picture 39" descr="MCBD19903_0000[1]"/>
          <p:cNvPicPr/>
          <p:nvPr/>
        </p:nvPicPr>
        <p:blipFill>
          <a:blip r:embed="rId6"/>
          <a:stretch/>
        </p:blipFill>
        <p:spPr>
          <a:xfrm>
            <a:off x="609480" y="1295280"/>
            <a:ext cx="2286000" cy="2130480"/>
          </a:xfrm>
          <a:prstGeom prst="rect">
            <a:avLst/>
          </a:prstGeom>
          <a:ln w="0">
            <a:noFill/>
          </a:ln>
        </p:spPr>
      </p:pic>
      <p:sp>
        <p:nvSpPr>
          <p:cNvPr id="357"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358"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5EC27E-7C41-448A-B143-284B69C81A5E}"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59" name="Text Box 15"/>
          <p:cNvSpPr/>
          <p:nvPr/>
        </p:nvSpPr>
        <p:spPr>
          <a:xfrm>
            <a:off x="6737400" y="1791720"/>
            <a:ext cx="1263600" cy="170640"/>
          </a:xfrm>
          <a:prstGeom prst="rect">
            <a:avLst/>
          </a:prstGeom>
          <a:solidFill>
            <a:srgbClr val="ffffff"/>
          </a:solidFill>
          <a:ln w="0">
            <a:noFill/>
          </a:ln>
        </p:spPr>
        <p:style>
          <a:lnRef idx="0"/>
          <a:fillRef idx="0"/>
          <a:effectRef idx="0"/>
          <a:fontRef idx="minor"/>
        </p:style>
        <p:txBody>
          <a:bodyPr lIns="0" rIns="0" tIns="0" bIns="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800000"/>
                </a:solidFill>
                <a:latin typeface="Comic Sans MS"/>
              </a:rPr>
              <a:t>Лаборатория</a:t>
            </a:r>
            <a:endParaRPr b="0" lang="en-US" sz="1400" spc="-1" strike="noStrike">
              <a:solidFill>
                <a:srgbClr val="000000"/>
              </a:solidFill>
              <a:latin typeface="Arial"/>
            </a:endParaRPr>
          </a:p>
        </p:txBody>
      </p:sp>
      <p:sp>
        <p:nvSpPr>
          <p:cNvPr id="360" name="Text Box 15"/>
          <p:cNvSpPr/>
          <p:nvPr/>
        </p:nvSpPr>
        <p:spPr>
          <a:xfrm>
            <a:off x="6918480" y="1563120"/>
            <a:ext cx="1006200" cy="170640"/>
          </a:xfrm>
          <a:prstGeom prst="rect">
            <a:avLst/>
          </a:prstGeom>
          <a:solidFill>
            <a:srgbClr val="ffffff"/>
          </a:solidFill>
          <a:ln w="0">
            <a:noFill/>
          </a:ln>
        </p:spPr>
        <p:style>
          <a:lnRef idx="0"/>
          <a:fillRef idx="0"/>
          <a:effectRef idx="0"/>
          <a:fontRef idx="minor"/>
        </p:style>
        <p:txBody>
          <a:bodyPr lIns="0" rIns="0" tIns="0" bIns="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800000"/>
                </a:solidFill>
                <a:latin typeface="Comic Sans MS"/>
              </a:rPr>
              <a:t>Референс-</a:t>
            </a:r>
            <a:endParaRPr b="0" lang="en-US" sz="14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362"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90F72F-81B0-455F-BC5F-251BE86D2C5B}"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63"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Процесс аккредитации</a:t>
            </a:r>
            <a:endParaRPr b="0" lang="en-US" sz="3600" spc="-1" strike="noStrike">
              <a:solidFill>
                <a:srgbClr val="00007d"/>
              </a:solidFill>
              <a:latin typeface="Verdana"/>
            </a:endParaRPr>
          </a:p>
        </p:txBody>
      </p:sp>
      <p:sp>
        <p:nvSpPr>
          <p:cNvPr id="364" name="PlaceHolder 2"/>
          <p:cNvSpPr>
            <a:spLocks noGrp="1"/>
          </p:cNvSpPr>
          <p:nvPr>
            <p:ph/>
          </p:nvPr>
        </p:nvSpPr>
        <p:spPr>
          <a:xfrm>
            <a:off x="838080" y="1447920"/>
            <a:ext cx="5562720" cy="1676160"/>
          </a:xfrm>
          <a:prstGeom prst="rect">
            <a:avLst/>
          </a:prstGeom>
          <a:solidFill>
            <a:srgbClr val="ffd911"/>
          </a:solidFill>
          <a:ln w="76320">
            <a:solidFill>
              <a:srgbClr val="000000"/>
            </a:solidFill>
            <a:miter/>
          </a:ln>
        </p:spPr>
        <p:txBody>
          <a:bodyPr anchor="t">
            <a:normAutofit/>
          </a:bodyPr>
          <a:p>
            <a:pPr marL="3571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7d"/>
                </a:solidFill>
                <a:latin typeface="Verdana"/>
              </a:rPr>
              <a:t>не такой шаг, к которому можно подойти с легкостью и без продумывания</a:t>
            </a:r>
            <a:endParaRPr b="0" lang="en-US" sz="2800" spc="-1" strike="noStrike">
              <a:solidFill>
                <a:srgbClr val="000000"/>
              </a:solidFill>
              <a:latin typeface="Verdana"/>
            </a:endParaRPr>
          </a:p>
        </p:txBody>
      </p:sp>
      <p:pic>
        <p:nvPicPr>
          <p:cNvPr id="365" name="Picture 4" descr="j0234625"/>
          <p:cNvPicPr/>
          <p:nvPr/>
        </p:nvPicPr>
        <p:blipFill>
          <a:blip r:embed="rId1"/>
          <a:stretch/>
        </p:blipFill>
        <p:spPr>
          <a:xfrm>
            <a:off x="6477120" y="685800"/>
            <a:ext cx="2049480" cy="2286000"/>
          </a:xfrm>
          <a:prstGeom prst="rect">
            <a:avLst/>
          </a:prstGeom>
          <a:ln w="76320">
            <a:solidFill>
              <a:srgbClr val="000000"/>
            </a:solidFill>
            <a:miter/>
          </a:ln>
        </p:spPr>
      </p:pic>
      <p:sp>
        <p:nvSpPr>
          <p:cNvPr id="366" name="Text Box 56"/>
          <p:cNvSpPr/>
          <p:nvPr/>
        </p:nvSpPr>
        <p:spPr>
          <a:xfrm>
            <a:off x="2666880" y="4221000"/>
            <a:ext cx="3810240" cy="642600"/>
          </a:xfrm>
          <a:prstGeom prst="rect">
            <a:avLst/>
          </a:prstGeom>
          <a:solidFill>
            <a:srgbClr val="000066"/>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d911"/>
                </a:solidFill>
                <a:latin typeface="Verdana"/>
              </a:rPr>
              <a:t>Требования</a:t>
            </a:r>
            <a:endParaRPr b="0" lang="en-US" sz="3600" spc="-1" strike="noStrike">
              <a:solidFill>
                <a:srgbClr val="000000"/>
              </a:solidFill>
              <a:latin typeface="Arial"/>
            </a:endParaRPr>
          </a:p>
        </p:txBody>
      </p:sp>
      <p:sp>
        <p:nvSpPr>
          <p:cNvPr id="367" name="Text Box 61"/>
          <p:cNvSpPr/>
          <p:nvPr/>
        </p:nvSpPr>
        <p:spPr>
          <a:xfrm>
            <a:off x="990720" y="5288040"/>
            <a:ext cx="1904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Verdana"/>
              </a:rPr>
              <a:t>знания</a:t>
            </a:r>
            <a:endParaRPr b="0" lang="en-US" sz="3200" spc="-1" strike="noStrike">
              <a:solidFill>
                <a:srgbClr val="000000"/>
              </a:solidFill>
              <a:latin typeface="Arial"/>
            </a:endParaRPr>
          </a:p>
        </p:txBody>
      </p:sp>
      <p:sp>
        <p:nvSpPr>
          <p:cNvPr id="368" name="Text Box 62"/>
          <p:cNvSpPr/>
          <p:nvPr/>
        </p:nvSpPr>
        <p:spPr>
          <a:xfrm>
            <a:off x="5715000" y="5288040"/>
            <a:ext cx="2243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Verdana"/>
              </a:rPr>
              <a:t>ресурсы</a:t>
            </a:r>
            <a:endParaRPr b="0" lang="en-US" sz="3200" spc="-1" strike="noStrike">
              <a:solidFill>
                <a:srgbClr val="000000"/>
              </a:solidFill>
              <a:latin typeface="Arial"/>
            </a:endParaRPr>
          </a:p>
        </p:txBody>
      </p:sp>
      <p:sp>
        <p:nvSpPr>
          <p:cNvPr id="369" name="Text Box 63"/>
          <p:cNvSpPr/>
          <p:nvPr/>
        </p:nvSpPr>
        <p:spPr>
          <a:xfrm>
            <a:off x="228600" y="3382920"/>
            <a:ext cx="41911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Verdana"/>
              </a:rPr>
              <a:t>приверженность</a:t>
            </a:r>
            <a:endParaRPr b="0" lang="en-US" sz="3200" spc="-1" strike="noStrike">
              <a:solidFill>
                <a:srgbClr val="000000"/>
              </a:solidFill>
              <a:latin typeface="Arial"/>
            </a:endParaRPr>
          </a:p>
        </p:txBody>
      </p:sp>
      <p:sp>
        <p:nvSpPr>
          <p:cNvPr id="370" name="Text Box 64"/>
          <p:cNvSpPr/>
          <p:nvPr/>
        </p:nvSpPr>
        <p:spPr>
          <a:xfrm>
            <a:off x="5029200" y="3382920"/>
            <a:ext cx="36576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Verdana"/>
              </a:rPr>
              <a:t>планирование</a:t>
            </a:r>
            <a:endParaRPr b="0" lang="en-US" sz="3200" spc="-1" strike="noStrike">
              <a:solidFill>
                <a:srgbClr val="000000"/>
              </a:solidFill>
              <a:latin typeface="Arial"/>
            </a:endParaRPr>
          </a:p>
        </p:txBody>
      </p:sp>
      <p:sp>
        <p:nvSpPr>
          <p:cNvPr id="371" name="Line 67"/>
          <p:cNvSpPr/>
          <p:nvPr/>
        </p:nvSpPr>
        <p:spPr>
          <a:xfrm>
            <a:off x="2819520" y="5576760"/>
            <a:ext cx="2819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Line 68"/>
          <p:cNvSpPr/>
          <p:nvPr/>
        </p:nvSpPr>
        <p:spPr>
          <a:xfrm>
            <a:off x="1981080" y="3992400"/>
            <a:ext cx="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Line 69"/>
          <p:cNvSpPr/>
          <p:nvPr/>
        </p:nvSpPr>
        <p:spPr>
          <a:xfrm>
            <a:off x="6781680" y="3916440"/>
            <a:ext cx="0" cy="1447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Line 70"/>
          <p:cNvSpPr/>
          <p:nvPr/>
        </p:nvSpPr>
        <p:spPr>
          <a:xfrm>
            <a:off x="4343400" y="3675240"/>
            <a:ext cx="762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Footer Placeholder 3"/>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376" name="Slide Number Placeholder 4"/>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7946FB-D20F-43A4-9AC9-BD05CB9C8109}"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77" name="PlaceHolder 1"/>
          <p:cNvSpPr>
            <a:spLocks noGrp="1"/>
          </p:cNvSpPr>
          <p:nvPr>
            <p:ph type="title"/>
          </p:nvPr>
        </p:nvSpPr>
        <p:spPr>
          <a:xfrm>
            <a:off x="457200" y="533520"/>
            <a:ext cx="8229600" cy="474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Термины аккредитации</a:t>
            </a:r>
            <a:endParaRPr b="0" lang="en-US" sz="3200" spc="-1" strike="noStrike">
              <a:solidFill>
                <a:srgbClr val="00007d"/>
              </a:solidFill>
              <a:latin typeface="Verdana"/>
            </a:endParaRPr>
          </a:p>
        </p:txBody>
      </p:sp>
      <p:sp>
        <p:nvSpPr>
          <p:cNvPr id="378" name="PlaceHolder 2"/>
          <p:cNvSpPr>
            <a:spLocks noGrp="1"/>
          </p:cNvSpPr>
          <p:nvPr>
            <p:ph/>
          </p:nvPr>
        </p:nvSpPr>
        <p:spPr>
          <a:xfrm>
            <a:off x="533160" y="1312560"/>
            <a:ext cx="8381880" cy="455436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Verdana"/>
              </a:rPr>
              <a:t>Консенсус</a:t>
            </a:r>
            <a:r>
              <a:rPr b="1" lang="en-US" sz="2800" spc="-1" strike="noStrike">
                <a:solidFill>
                  <a:srgbClr val="00ff00"/>
                </a:solidFill>
                <a:latin typeface="Verdana"/>
              </a:rPr>
              <a:t> </a:t>
            </a:r>
            <a:endParaRPr b="0" lang="en-US" sz="2800" spc="-1" strike="noStrike">
              <a:solidFill>
                <a:srgbClr val="000000"/>
              </a:solidFill>
              <a:latin typeface="Verdana"/>
            </a:endParaRPr>
          </a:p>
          <a:p>
            <a:pPr lvl="1" marL="539640" indent="-274680">
              <a:lnSpc>
                <a:spcPct val="110000"/>
              </a:lnSpc>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отражает общее согласие в отсутствие сильных и принципиальных возражений</a:t>
            </a:r>
            <a:endParaRPr b="0" lang="en-US" sz="24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Verdana"/>
                <a:ea typeface="ＭＳ Ｐゴシック"/>
              </a:rPr>
              <a:t>Нормативное положение</a:t>
            </a:r>
            <a:endParaRPr b="0" lang="en-US" sz="2800" spc="-1" strike="noStrike">
              <a:solidFill>
                <a:srgbClr val="000000"/>
              </a:solidFill>
              <a:latin typeface="Verdana"/>
            </a:endParaRPr>
          </a:p>
          <a:p>
            <a:pPr lvl="1" marL="539640" indent="-27468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необходимая и существенная часть стандарта</a:t>
            </a:r>
            <a:endParaRPr b="0" lang="en-US" sz="2400" spc="-1" strike="noStrike">
              <a:solidFill>
                <a:srgbClr val="000000"/>
              </a:solidFill>
              <a:latin typeface="Verdana"/>
            </a:endParaRPr>
          </a:p>
          <a:p>
            <a:pPr lvl="1" marL="539640" indent="-27468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ea typeface="ＭＳ Ｐゴシック"/>
              </a:rPr>
              <a:t>включает слово «должен»</a:t>
            </a:r>
            <a:endParaRPr b="0" lang="en-US" sz="24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Verdana"/>
                <a:ea typeface="ＭＳ Ｐゴシック"/>
              </a:rPr>
              <a:t>Информативное положение</a:t>
            </a:r>
            <a:endParaRPr b="0" lang="en-US" sz="2800" spc="-1" strike="noStrike">
              <a:solidFill>
                <a:srgbClr val="000000"/>
              </a:solidFill>
              <a:latin typeface="Verdana"/>
            </a:endParaRPr>
          </a:p>
          <a:p>
            <a:pPr lvl="1" marL="539640" indent="-27468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ea typeface="ＭＳ Ｐゴシック"/>
              </a:rPr>
              <a:t>и</a:t>
            </a:r>
            <a:r>
              <a:rPr b="0" lang="ru-RU" sz="2400" spc="-1" strike="noStrike">
                <a:solidFill>
                  <a:srgbClr val="000000"/>
                </a:solidFill>
                <a:latin typeface="Verdana"/>
              </a:rPr>
              <a:t>нформация (часто в виде примечания), может быть разъяснительная, предостерегающая или может предоставлять пример</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Footer Placeholder 3"/>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380" name="Slide Number Placeholder 4"/>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E43E58-C036-46A0-A9C1-AFBF6F3D7C24}"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81" name="PlaceHolder 1"/>
          <p:cNvSpPr>
            <a:spLocks noGrp="1"/>
          </p:cNvSpPr>
          <p:nvPr>
            <p:ph type="title"/>
          </p:nvPr>
        </p:nvSpPr>
        <p:spPr>
          <a:xfrm>
            <a:off x="457200" y="533520"/>
            <a:ext cx="8229600" cy="474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Термины аккредитации</a:t>
            </a:r>
            <a:endParaRPr b="0" lang="en-US" sz="3200" spc="-1" strike="noStrike">
              <a:solidFill>
                <a:srgbClr val="00007d"/>
              </a:solidFill>
              <a:latin typeface="Verdana"/>
            </a:endParaRPr>
          </a:p>
        </p:txBody>
      </p:sp>
      <p:sp>
        <p:nvSpPr>
          <p:cNvPr id="382" name="PlaceHolder 2"/>
          <p:cNvSpPr>
            <a:spLocks noGrp="1"/>
          </p:cNvSpPr>
          <p:nvPr>
            <p:ph/>
          </p:nvPr>
        </p:nvSpPr>
        <p:spPr>
          <a:xfrm>
            <a:off x="457200" y="1251000"/>
            <a:ext cx="8305920" cy="48448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Verdana"/>
              </a:rPr>
              <a:t>Соответствие</a:t>
            </a:r>
            <a:endParaRPr b="0" lang="en-US" sz="2800" spc="-1" strike="noStrike">
              <a:solidFill>
                <a:srgbClr val="000000"/>
              </a:solidFill>
              <a:latin typeface="Verdana"/>
            </a:endParaRPr>
          </a:p>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соблюдение и буквы, и духа требований</a:t>
            </a:r>
            <a:endParaRPr b="0" lang="en-US" sz="24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Verdana"/>
              </a:rPr>
              <a:t>Несоответствие</a:t>
            </a:r>
            <a:endParaRPr b="0" lang="en-US" sz="28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неспособность соблюдать требования к определенным процессу, структуре или услуге</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может быть расценено как крупное (полное) или малое (частичное)</a:t>
            </a:r>
            <a:endParaRPr b="0" lang="en-US" sz="24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Verdana"/>
              </a:rPr>
              <a:t>Подтверждение соответствия</a:t>
            </a:r>
            <a:endParaRPr b="0" lang="en-US" sz="28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подтверждение, основанное на изучении свидетельств</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Footer Placeholder 2"/>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384" name="Slide Number Placeholder 3"/>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7B8768-32FE-4BB8-B01E-F9F46BD5237D}"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85" name="PlaceHolder 1"/>
          <p:cNvSpPr>
            <a:spLocks noGrp="1"/>
          </p:cNvSpPr>
          <p:nvPr>
            <p:ph type="title"/>
          </p:nvPr>
        </p:nvSpPr>
        <p:spPr>
          <a:xfrm>
            <a:off x="457200" y="45684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7d"/>
                </a:solidFill>
                <a:latin typeface="Verdana"/>
              </a:rPr>
              <a:t>Аккредитация не </a:t>
            </a:r>
            <a:r>
              <a:rPr b="0" i="1" lang="ru-RU" sz="2800" spc="-1" strike="noStrike">
                <a:solidFill>
                  <a:srgbClr val="00007d"/>
                </a:solidFill>
                <a:latin typeface="Verdana"/>
              </a:rPr>
              <a:t>гарантирует</a:t>
            </a:r>
            <a:r>
              <a:rPr b="0" lang="ru-RU" sz="2800" spc="-1" strike="noStrike">
                <a:solidFill>
                  <a:srgbClr val="00007d"/>
                </a:solidFill>
                <a:latin typeface="Verdana"/>
              </a:rPr>
              <a:t> успех</a:t>
            </a:r>
            <a:r>
              <a:rPr b="0" lang="en-US" sz="2800" spc="-1" strike="noStrike">
                <a:solidFill>
                  <a:srgbClr val="00007d"/>
                </a:solidFill>
                <a:latin typeface="Verdana"/>
              </a:rPr>
              <a:t>, </a:t>
            </a:r>
            <a:br>
              <a:rPr sz="2800"/>
            </a:br>
            <a:r>
              <a:rPr b="0" lang="ru-RU" sz="2800" spc="-1" strike="noStrike">
                <a:solidFill>
                  <a:srgbClr val="00007d"/>
                </a:solidFill>
                <a:latin typeface="Verdana"/>
              </a:rPr>
              <a:t>это лишь </a:t>
            </a:r>
            <a:r>
              <a:rPr b="1" lang="ru-RU" sz="2800" spc="-1" strike="noStrike">
                <a:solidFill>
                  <a:srgbClr val="00007d"/>
                </a:solidFill>
                <a:latin typeface="Verdana"/>
              </a:rPr>
              <a:t>один шаг</a:t>
            </a:r>
            <a:r>
              <a:rPr b="0" lang="ru-RU" sz="2800" spc="-1" strike="noStrike">
                <a:solidFill>
                  <a:srgbClr val="00007d"/>
                </a:solidFill>
                <a:latin typeface="Verdana"/>
              </a:rPr>
              <a:t> на пути к качеству</a:t>
            </a:r>
            <a:endParaRPr b="0" lang="en-US" sz="2800" spc="-1" strike="noStrike">
              <a:solidFill>
                <a:srgbClr val="00007d"/>
              </a:solidFill>
              <a:latin typeface="Verdana"/>
            </a:endParaRPr>
          </a:p>
        </p:txBody>
      </p:sp>
      <p:pic>
        <p:nvPicPr>
          <p:cNvPr id="386" name="Picture 3" descr=""/>
          <p:cNvPicPr/>
          <p:nvPr/>
        </p:nvPicPr>
        <p:blipFill>
          <a:blip r:embed="rId1"/>
          <a:stretch/>
        </p:blipFill>
        <p:spPr>
          <a:xfrm>
            <a:off x="533520" y="1600200"/>
            <a:ext cx="8229600" cy="4680000"/>
          </a:xfrm>
          <a:prstGeom prst="rect">
            <a:avLst/>
          </a:prstGeom>
          <a:ln w="0">
            <a:noFill/>
          </a:ln>
        </p:spPr>
      </p:pic>
      <p:sp>
        <p:nvSpPr>
          <p:cNvPr id="387" name="Rectangle 4"/>
          <p:cNvSpPr/>
          <p:nvPr/>
        </p:nvSpPr>
        <p:spPr>
          <a:xfrm>
            <a:off x="5791320" y="4495680"/>
            <a:ext cx="75960" cy="106704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8" name="Rectangle 5"/>
          <p:cNvSpPr/>
          <p:nvPr/>
        </p:nvSpPr>
        <p:spPr>
          <a:xfrm>
            <a:off x="3886200" y="5181480"/>
            <a:ext cx="76320" cy="91440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9" name="Rectangle 7"/>
          <p:cNvSpPr/>
          <p:nvPr/>
        </p:nvSpPr>
        <p:spPr>
          <a:xfrm>
            <a:off x="5029200" y="4495680"/>
            <a:ext cx="1752480" cy="533520"/>
          </a:xfrm>
          <a:prstGeom prst="rect">
            <a:avLst/>
          </a:prstGeom>
          <a:solidFill>
            <a:srgbClr val="cccce6"/>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Verdana"/>
              </a:rPr>
              <a:t>НЕПРЕРЫВНОЕ УЛУЧШЕНИЕ</a:t>
            </a:r>
            <a:endParaRPr b="0" lang="en-US" sz="1400" spc="-1" strike="noStrike">
              <a:solidFill>
                <a:srgbClr val="000000"/>
              </a:solidFill>
              <a:latin typeface="Arial"/>
            </a:endParaRPr>
          </a:p>
        </p:txBody>
      </p:sp>
      <p:sp>
        <p:nvSpPr>
          <p:cNvPr id="390" name="Rectangle 8"/>
          <p:cNvSpPr/>
          <p:nvPr/>
        </p:nvSpPr>
        <p:spPr>
          <a:xfrm>
            <a:off x="3581280" y="3733920"/>
            <a:ext cx="76320" cy="106668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1" name="Rectangle 9"/>
          <p:cNvSpPr/>
          <p:nvPr/>
        </p:nvSpPr>
        <p:spPr>
          <a:xfrm flipH="1">
            <a:off x="4419000" y="2895480"/>
            <a:ext cx="75960" cy="914400"/>
          </a:xfrm>
          <a:prstGeom prst="rect">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2" name="Rectangle 10"/>
          <p:cNvSpPr/>
          <p:nvPr/>
        </p:nvSpPr>
        <p:spPr>
          <a:xfrm>
            <a:off x="5105520" y="2895480"/>
            <a:ext cx="75960" cy="914400"/>
          </a:xfrm>
          <a:prstGeom prst="rect">
            <a:avLst/>
          </a:pr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3" name="Rectangle 11"/>
          <p:cNvSpPr/>
          <p:nvPr/>
        </p:nvSpPr>
        <p:spPr>
          <a:xfrm>
            <a:off x="3886200" y="2590920"/>
            <a:ext cx="1981080" cy="685800"/>
          </a:xfrm>
          <a:prstGeom prst="rect">
            <a:avLst/>
          </a:prstGeom>
          <a:gradFill rotWithShape="0">
            <a:gsLst>
              <a:gs pos="0">
                <a:srgbClr val="ffffff"/>
              </a:gs>
              <a:gs pos="100000">
                <a:srgbClr val="ff9900"/>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УПРАВЛЕНИЕ КАЧЕСТВОМ</a:t>
            </a:r>
            <a:endParaRPr b="0" lang="en-US" sz="1800" spc="-1" strike="noStrike">
              <a:solidFill>
                <a:srgbClr val="000000"/>
              </a:solidFill>
              <a:latin typeface="Arial"/>
            </a:endParaRPr>
          </a:p>
        </p:txBody>
      </p:sp>
      <p:sp>
        <p:nvSpPr>
          <p:cNvPr id="394" name="Rectangle 12"/>
          <p:cNvSpPr/>
          <p:nvPr/>
        </p:nvSpPr>
        <p:spPr>
          <a:xfrm>
            <a:off x="5592600" y="3657600"/>
            <a:ext cx="46080" cy="762120"/>
          </a:xfrm>
          <a:prstGeom prst="rect">
            <a:avLst/>
          </a:pr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5" name="Rectangle 13"/>
          <p:cNvSpPr/>
          <p:nvPr/>
        </p:nvSpPr>
        <p:spPr>
          <a:xfrm>
            <a:off x="4495680" y="3581280"/>
            <a:ext cx="2286000" cy="533520"/>
          </a:xfrm>
          <a:prstGeom prst="rect">
            <a:avLst/>
          </a:prstGeom>
          <a:solidFill>
            <a:srgbClr val="9999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Verdana"/>
              </a:rPr>
              <a:t>УДОВЛЕТВОРЕННОСТЬ КЛИЕНТОВ</a:t>
            </a:r>
            <a:endParaRPr b="0" lang="en-US" sz="1200" spc="-1" strike="noStrike">
              <a:solidFill>
                <a:srgbClr val="000000"/>
              </a:solidFill>
              <a:latin typeface="Arial"/>
            </a:endParaRPr>
          </a:p>
        </p:txBody>
      </p:sp>
      <p:sp>
        <p:nvSpPr>
          <p:cNvPr id="396" name="Rectangle 15"/>
          <p:cNvSpPr/>
          <p:nvPr/>
        </p:nvSpPr>
        <p:spPr>
          <a:xfrm>
            <a:off x="2819520" y="4876920"/>
            <a:ext cx="2133360" cy="68580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66"/>
                </a:solidFill>
                <a:latin typeface="Arial"/>
              </a:rPr>
              <a:t>АККРЕДИТАЦИЯ</a:t>
            </a:r>
            <a:endParaRPr b="0" lang="en-US" sz="1800" spc="-1" strike="noStrike">
              <a:solidFill>
                <a:srgbClr val="000000"/>
              </a:solidFill>
              <a:latin typeface="Arial"/>
            </a:endParaRPr>
          </a:p>
        </p:txBody>
      </p:sp>
      <p:sp>
        <p:nvSpPr>
          <p:cNvPr id="397" name="Text Box 16"/>
          <p:cNvSpPr/>
          <p:nvPr/>
        </p:nvSpPr>
        <p:spPr>
          <a:xfrm>
            <a:off x="2895480" y="3352680"/>
            <a:ext cx="1447920" cy="824040"/>
          </a:xfrm>
          <a:prstGeom prst="rect">
            <a:avLst/>
          </a:prstGeom>
          <a:solidFill>
            <a:srgbClr val="ffd911"/>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СНИЖЕНИЕ ЧИСЛА ОШИБОК</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380880" y="609120"/>
            <a:ext cx="8382240" cy="419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Результаты аккредитации</a:t>
            </a:r>
            <a:endParaRPr b="0" lang="en-US" sz="3600" spc="-1" strike="noStrike">
              <a:solidFill>
                <a:srgbClr val="00007d"/>
              </a:solidFill>
              <a:latin typeface="Verdana"/>
            </a:endParaRPr>
          </a:p>
        </p:txBody>
      </p:sp>
      <p:sp>
        <p:nvSpPr>
          <p:cNvPr id="399" name="PlaceHolder 2"/>
          <p:cNvSpPr>
            <a:spLocks noGrp="1"/>
          </p:cNvSpPr>
          <p:nvPr>
            <p:ph/>
          </p:nvPr>
        </p:nvSpPr>
        <p:spPr>
          <a:xfrm>
            <a:off x="304560" y="1709280"/>
            <a:ext cx="8458200" cy="3243240"/>
          </a:xfrm>
          <a:prstGeom prst="rect">
            <a:avLst/>
          </a:prstGeom>
          <a:noFill/>
          <a:ln w="0">
            <a:noFill/>
          </a:ln>
        </p:spPr>
        <p:txBody>
          <a:bodyPr anchor="t">
            <a:normAutofit/>
          </a:bodyPr>
          <a:p>
            <a:pPr marL="609480" indent="-609480">
              <a:lnSpc>
                <a:spcPct val="120000"/>
              </a:lnSpc>
              <a:spcBef>
                <a:spcPts val="79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оценка эффективности и слаженности системы качества </a:t>
            </a:r>
            <a:endParaRPr b="0" lang="en-US" sz="3200" spc="-1" strike="noStrike">
              <a:solidFill>
                <a:srgbClr val="000000"/>
              </a:solidFill>
              <a:latin typeface="Verdana"/>
            </a:endParaRPr>
          </a:p>
          <a:p>
            <a:pPr marL="609480" indent="-609480">
              <a:lnSpc>
                <a:spcPct val="120000"/>
              </a:lnSpc>
              <a:spcBef>
                <a:spcPts val="79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непрерывное отслеживание системы качества</a:t>
            </a:r>
            <a:endParaRPr b="0" lang="en-US" sz="3200" spc="-1" strike="noStrike">
              <a:solidFill>
                <a:srgbClr val="000000"/>
              </a:solidFill>
              <a:latin typeface="Verdana"/>
            </a:endParaRPr>
          </a:p>
          <a:p>
            <a:pPr marL="609480" indent="-609480">
              <a:lnSpc>
                <a:spcPct val="120000"/>
              </a:lnSpc>
              <a:spcBef>
                <a:spcPts val="79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ризнание усилий</a:t>
            </a:r>
            <a:endParaRPr b="0" lang="en-US" sz="3200" spc="-1" strike="noStrike">
              <a:solidFill>
                <a:srgbClr val="000000"/>
              </a:solidFill>
              <a:latin typeface="Verdana"/>
            </a:endParaRPr>
          </a:p>
        </p:txBody>
      </p:sp>
      <p:sp>
        <p:nvSpPr>
          <p:cNvPr id="400"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401"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8FCF2E-AE9B-439B-8E75-94BE26B3064B}"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Footer Placeholder 3"/>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403" name="Slide Number Placeholder 4"/>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CB0CDB-D0D7-42B6-BBD2-4CA483A61E9F}"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404" name="PlaceHolder 1"/>
          <p:cNvSpPr>
            <a:spLocks noGrp="1"/>
          </p:cNvSpPr>
          <p:nvPr>
            <p:ph/>
          </p:nvPr>
        </p:nvSpPr>
        <p:spPr>
          <a:xfrm>
            <a:off x="457200" y="1219320"/>
            <a:ext cx="8229600" cy="3962160"/>
          </a:xfrm>
          <a:prstGeom prst="rect">
            <a:avLst/>
          </a:prstGeom>
          <a:solidFill>
            <a:srgbClr val="00007d"/>
          </a:solid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66"/>
                </a:solidFill>
                <a:latin typeface="Verdana"/>
              </a:rPr>
              <a:t>Аккредитованные лаборатории, как правило</a:t>
            </a:r>
            <a:r>
              <a:rPr b="1" lang="en-US" sz="2800" spc="-1" strike="noStrike">
                <a:solidFill>
                  <a:srgbClr val="ffff66"/>
                </a:solidFill>
                <a:latin typeface="Verdana"/>
              </a:rPr>
              <a:t>:</a:t>
            </a:r>
            <a:endParaRPr b="0" lang="en-US" sz="2800" spc="-1" strike="noStrike">
              <a:solidFill>
                <a:srgbClr val="000000"/>
              </a:solidFill>
              <a:latin typeface="Verdana"/>
            </a:endParaRPr>
          </a:p>
          <a:p>
            <a:pPr lvl="1" marL="743040" indent="-285840">
              <a:lnSpc>
                <a:spcPct val="120000"/>
              </a:lnSpc>
              <a:spcBef>
                <a:spcPts val="700"/>
              </a:spcBef>
              <a:buClr>
                <a:srgbClr val="ffff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66"/>
                </a:solidFill>
                <a:latin typeface="Verdana"/>
              </a:rPr>
              <a:t>показывают более высокие результаты при проверке компетентности</a:t>
            </a:r>
            <a:endParaRPr b="0" lang="en-US" sz="2800" spc="-1" strike="noStrike">
              <a:solidFill>
                <a:srgbClr val="000000"/>
              </a:solidFill>
              <a:latin typeface="Verdana"/>
            </a:endParaRPr>
          </a:p>
          <a:p>
            <a:pPr lvl="1" marL="743040" indent="-285840">
              <a:lnSpc>
                <a:spcPct val="120000"/>
              </a:lnSpc>
              <a:spcBef>
                <a:spcPts val="700"/>
              </a:spcBef>
              <a:buClr>
                <a:srgbClr val="ffff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66"/>
                </a:solidFill>
                <a:latin typeface="Verdana"/>
              </a:rPr>
              <a:t>обладают лучше работающими системами управления качеством</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96440"/>
            <a:ext cx="8229600" cy="646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Ситуация</a:t>
            </a:r>
            <a:endParaRPr b="0" lang="en-US" sz="3600" spc="-1" strike="noStrike">
              <a:solidFill>
                <a:srgbClr val="00007d"/>
              </a:solidFill>
              <a:latin typeface="Verdana"/>
            </a:endParaRPr>
          </a:p>
        </p:txBody>
      </p:sp>
      <p:sp>
        <p:nvSpPr>
          <p:cNvPr id="120" name="PlaceHolder 2"/>
          <p:cNvSpPr>
            <a:spLocks noGrp="1"/>
          </p:cNvSpPr>
          <p:nvPr>
            <p:ph/>
          </p:nvPr>
        </p:nvSpPr>
        <p:spPr>
          <a:xfrm>
            <a:off x="533520" y="1434600"/>
            <a:ext cx="8076960" cy="4203720"/>
          </a:xfrm>
          <a:prstGeom prst="rect">
            <a:avLst/>
          </a:prstGeom>
          <a:noFill/>
          <a:ln w="0">
            <a:noFill/>
          </a:ln>
        </p:spPr>
        <p:txBody>
          <a:bodyPr anchor="t">
            <a:normAutofit/>
          </a:bodyPr>
          <a:p>
            <a:pPr marL="2667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Администратор больницы попросил Вас, руководителя лаборатории, изучить возможность получения лабораторией аккредитации</a:t>
            </a:r>
            <a:r>
              <a:rPr b="0" lang="en-US" sz="3200" spc="-1" strike="noStrike">
                <a:solidFill>
                  <a:srgbClr val="000000"/>
                </a:solidFill>
                <a:latin typeface="Verdana"/>
              </a:rPr>
              <a:t>.</a:t>
            </a:r>
            <a:endParaRPr b="0" lang="en-US" sz="3200" spc="-1" strike="noStrike">
              <a:solidFill>
                <a:srgbClr val="000000"/>
              </a:solidFill>
              <a:latin typeface="Verdana"/>
            </a:endParaRPr>
          </a:p>
          <a:p>
            <a:pPr marL="2667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6676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Verdana"/>
              </a:rPr>
              <a:t>Что значит быть аккредитованным</a:t>
            </a:r>
            <a:r>
              <a:rPr b="1" lang="en-US" sz="2800" spc="-1" strike="noStrike">
                <a:solidFill>
                  <a:srgbClr val="000000"/>
                </a:solidFill>
                <a:latin typeface="Verdana"/>
              </a:rPr>
              <a:t>?</a:t>
            </a:r>
            <a:endParaRPr b="0" lang="en-US" sz="2800" spc="-1" strike="noStrike">
              <a:solidFill>
                <a:srgbClr val="000000"/>
              </a:solidFill>
              <a:latin typeface="Verdana"/>
            </a:endParaRPr>
          </a:p>
          <a:p>
            <a:pPr marL="26676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Verdana"/>
              </a:rPr>
              <a:t>Где можно получить информацию</a:t>
            </a:r>
            <a:r>
              <a:rPr b="1" lang="en-US" sz="2800" spc="-1" strike="noStrike">
                <a:solidFill>
                  <a:srgbClr val="000000"/>
                </a:solidFill>
                <a:latin typeface="Verdana"/>
              </a:rPr>
              <a:t>?</a:t>
            </a:r>
            <a:endParaRPr b="0" lang="en-US" sz="2800" spc="-1" strike="noStrike">
              <a:solidFill>
                <a:srgbClr val="000000"/>
              </a:solidFill>
              <a:latin typeface="Verdana"/>
            </a:endParaRPr>
          </a:p>
          <a:p>
            <a:pPr marL="26676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Verdana"/>
              </a:rPr>
              <a:t>С чего вы начнете</a:t>
            </a:r>
            <a:r>
              <a:rPr b="1" lang="en-US" sz="2800" spc="-1" strike="noStrike">
                <a:solidFill>
                  <a:srgbClr val="000000"/>
                </a:solidFill>
                <a:latin typeface="Verdana"/>
              </a:rPr>
              <a:t>?</a:t>
            </a:r>
            <a:endParaRPr b="0" lang="en-US" sz="2800" spc="-1" strike="noStrike">
              <a:solidFill>
                <a:srgbClr val="000000"/>
              </a:solidFill>
              <a:latin typeface="Verdana"/>
            </a:endParaRPr>
          </a:p>
        </p:txBody>
      </p:sp>
      <p:sp>
        <p:nvSpPr>
          <p:cNvPr id="121"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122"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F3F83D-F2C4-4BAC-945F-9674580FDFE0}"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5" name="Picture 2" descr="j0432375"/>
          <p:cNvPicPr/>
          <p:nvPr/>
        </p:nvPicPr>
        <p:blipFill>
          <a:blip r:embed="rId1"/>
          <a:stretch/>
        </p:blipFill>
        <p:spPr>
          <a:xfrm>
            <a:off x="1828800" y="1600200"/>
            <a:ext cx="5715000" cy="4548240"/>
          </a:xfrm>
          <a:prstGeom prst="rect">
            <a:avLst/>
          </a:prstGeom>
          <a:ln w="0">
            <a:noFill/>
          </a:ln>
        </p:spPr>
      </p:pic>
      <p:grpSp>
        <p:nvGrpSpPr>
          <p:cNvPr id="406" name="Group 4"/>
          <p:cNvGrpSpPr/>
          <p:nvPr/>
        </p:nvGrpSpPr>
        <p:grpSpPr>
          <a:xfrm>
            <a:off x="3048120" y="2666880"/>
            <a:ext cx="2971440" cy="2513880"/>
            <a:chOff x="3048120" y="2666880"/>
            <a:chExt cx="2971440" cy="2513880"/>
          </a:xfrm>
        </p:grpSpPr>
        <p:sp>
          <p:nvSpPr>
            <p:cNvPr id="407" name="Rectangle 5"/>
            <p:cNvSpPr/>
            <p:nvPr/>
          </p:nvSpPr>
          <p:spPr>
            <a:xfrm>
              <a:off x="3048120" y="2666880"/>
              <a:ext cx="2971440" cy="2513880"/>
            </a:xfrm>
            <a:prstGeom prst="rect">
              <a:avLst/>
            </a:prstGeom>
            <a:gradFill rotWithShape="0">
              <a:gsLst>
                <a:gs pos="0">
                  <a:srgbClr val="ffffff"/>
                </a:gs>
                <a:gs pos="100000">
                  <a:srgbClr val="9999ff"/>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WordArt 6"/>
            <p:cNvSpPr txBox="1"/>
            <p:nvPr/>
          </p:nvSpPr>
          <p:spPr>
            <a:xfrm>
              <a:off x="3270960" y="3085200"/>
              <a:ext cx="2525040" cy="1256760"/>
            </a:xfrm>
            <a:prstGeom prst="rect">
              <a:avLst/>
            </a:prstGeom>
          </p:spPr>
          <p:txBody>
            <a:bodyPr wrap="none" fromWordArt="1" lIns="90000" rIns="90000" tIns="46800" bIns="46800" anchor="t" anchorCtr="1">
              <a:prstTxWarp prst="textArchUp">
                <a:avLst>
                  <a:gd name="adj" fmla="val 1080001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blipFill rotWithShape="0">
                    <a:blip r:embed="rId2"/>
                    <a:srcRect/>
                    <a:stretch/>
                  </a:blipFill>
                  <a:latin typeface="Arial"/>
                </a:rPr>
                <a:t>АККРЕДИТАЦИЯ</a:t>
              </a:r>
              <a:endParaRPr b="0" lang="en-US" sz="3200" spc="1" strike="noStrike">
                <a:ln w="9360">
                  <a:solidFill>
                    <a:srgbClr val="000000"/>
                  </a:solidFill>
                  <a:miter/>
                </a:ln>
                <a:blipFill rotWithShape="0">
                  <a:blip r:embed="rId3"/>
                  <a:srcRect/>
                  <a:stretch/>
                </a:blipFill>
                <a:latin typeface="Arial"/>
                <a:ea typeface="Arial"/>
              </a:endParaRPr>
            </a:p>
          </p:txBody>
        </p:sp>
      </p:grpSp>
      <p:sp>
        <p:nvSpPr>
          <p:cNvPr id="409" name="Text Box 7"/>
          <p:cNvSpPr/>
          <p:nvPr/>
        </p:nvSpPr>
        <p:spPr>
          <a:xfrm>
            <a:off x="4190400" y="329580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7</a:t>
            </a:r>
            <a:endParaRPr b="0" lang="en-US" sz="1800" spc="-1" strike="noStrike">
              <a:solidFill>
                <a:srgbClr val="000000"/>
              </a:solidFill>
              <a:latin typeface="Arial"/>
            </a:endParaRPr>
          </a:p>
        </p:txBody>
      </p:sp>
      <p:sp>
        <p:nvSpPr>
          <p:cNvPr id="410" name="Text Box 8"/>
          <p:cNvSpPr/>
          <p:nvPr/>
        </p:nvSpPr>
        <p:spPr>
          <a:xfrm>
            <a:off x="3157560" y="4005360"/>
            <a:ext cx="276984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ПЕРВИЧНАЯ</a:t>
            </a:r>
            <a:endParaRPr b="0" lang="en-US" sz="3200" spc="-1" strike="noStrike">
              <a:solidFill>
                <a:srgbClr val="000000"/>
              </a:solidFill>
              <a:latin typeface="Arial"/>
            </a:endParaRPr>
          </a:p>
        </p:txBody>
      </p:sp>
      <p:sp>
        <p:nvSpPr>
          <p:cNvPr id="411" name="AutoShape 10"/>
          <p:cNvSpPr/>
          <p:nvPr/>
        </p:nvSpPr>
        <p:spPr>
          <a:xfrm>
            <a:off x="5181480" y="4572000"/>
            <a:ext cx="685800" cy="457200"/>
          </a:xfrm>
          <a:custGeom>
            <a:avLst/>
            <a:gdLst>
              <a:gd name="textAreaLeft" fmla="*/ 156600 w 685800"/>
              <a:gd name="textAreaRight" fmla="*/ 529200 w 68580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2"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413"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FA913A-E36E-4B7F-B15C-800BEAB2CC83}"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414" name="Text Box 9"/>
          <p:cNvSpPr/>
          <p:nvPr/>
        </p:nvSpPr>
        <p:spPr>
          <a:xfrm>
            <a:off x="838080" y="399960"/>
            <a:ext cx="74678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Получение аккредитации – это </a:t>
            </a:r>
            <a:r>
              <a:rPr b="1" lang="ru-RU" sz="3600" spc="-1" strike="noStrike">
                <a:solidFill>
                  <a:srgbClr val="00007d"/>
                </a:solidFill>
                <a:latin typeface="Verdana"/>
              </a:rPr>
              <a:t>выполнение задачи</a:t>
            </a:r>
            <a:endParaRPr b="0" lang="en-US" sz="36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15" name="Group 2"/>
          <p:cNvGrpSpPr/>
          <p:nvPr/>
        </p:nvGrpSpPr>
        <p:grpSpPr>
          <a:xfrm>
            <a:off x="457200" y="3581280"/>
            <a:ext cx="2819160" cy="2360880"/>
            <a:chOff x="457200" y="3581280"/>
            <a:chExt cx="2819160" cy="2360880"/>
          </a:xfrm>
        </p:grpSpPr>
        <p:grpSp>
          <p:nvGrpSpPr>
            <p:cNvPr id="416" name="Group 3"/>
            <p:cNvGrpSpPr/>
            <p:nvPr/>
          </p:nvGrpSpPr>
          <p:grpSpPr>
            <a:xfrm>
              <a:off x="457200" y="3581280"/>
              <a:ext cx="2818800" cy="2360880"/>
              <a:chOff x="457200" y="3581280"/>
              <a:chExt cx="2818800" cy="2360880"/>
            </a:xfrm>
          </p:grpSpPr>
          <p:sp>
            <p:nvSpPr>
              <p:cNvPr id="417" name="Rectangle 4"/>
              <p:cNvSpPr/>
              <p:nvPr/>
            </p:nvSpPr>
            <p:spPr>
              <a:xfrm>
                <a:off x="457200" y="3581280"/>
                <a:ext cx="2818800" cy="2360880"/>
              </a:xfrm>
              <a:prstGeom prst="rect">
                <a:avLst/>
              </a:prstGeom>
              <a:gradFill rotWithShape="0">
                <a:gsLst>
                  <a:gs pos="0">
                    <a:srgbClr val="ffffff"/>
                  </a:gs>
                  <a:gs pos="100000">
                    <a:srgbClr val="ff99ff"/>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WordArt 5"/>
              <p:cNvSpPr txBox="1"/>
              <p:nvPr/>
            </p:nvSpPr>
            <p:spPr>
              <a:xfrm>
                <a:off x="668880" y="3974400"/>
                <a:ext cx="2395080" cy="1180440"/>
              </a:xfrm>
              <a:prstGeom prst="rect">
                <a:avLst/>
              </a:prstGeom>
            </p:spPr>
            <p:txBody>
              <a:bodyPr wrap="none" fromWordArt="1" lIns="90000" rIns="90000" tIns="46800" bIns="46800" anchor="t" anchorCtr="1">
                <a:prstTxWarp prst="textArchUp">
                  <a:avLst>
                    <a:gd name="adj" fmla="val 1080001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blipFill rotWithShape="0">
                      <a:blip r:embed="rId1"/>
                      <a:srcRect/>
                      <a:stretch/>
                    </a:blipFill>
                    <a:latin typeface="Arial"/>
                  </a:rPr>
                  <a:t>АККРЕДИТАЦИЯ</a:t>
                </a:r>
                <a:endParaRPr b="0" lang="en-US" sz="3200" spc="1" strike="noStrike">
                  <a:ln w="9360">
                    <a:solidFill>
                      <a:srgbClr val="000000"/>
                    </a:solidFill>
                    <a:miter/>
                  </a:ln>
                  <a:blipFill rotWithShape="0">
                    <a:blip r:embed="rId2"/>
                    <a:srcRect/>
                    <a:stretch/>
                  </a:blipFill>
                  <a:latin typeface="Arial"/>
                  <a:ea typeface="Arial"/>
                </a:endParaRPr>
              </a:p>
            </p:txBody>
          </p:sp>
        </p:grpSp>
        <p:sp>
          <p:nvSpPr>
            <p:cNvPr id="419" name="Text Box 6"/>
            <p:cNvSpPr/>
            <p:nvPr/>
          </p:nvSpPr>
          <p:spPr>
            <a:xfrm>
              <a:off x="1599480" y="417168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8</a:t>
              </a:r>
              <a:endParaRPr b="0" lang="en-US" sz="1800" spc="-1" strike="noStrike">
                <a:solidFill>
                  <a:srgbClr val="000000"/>
                </a:solidFill>
                <a:latin typeface="Arial"/>
              </a:endParaRPr>
            </a:p>
          </p:txBody>
        </p:sp>
        <p:sp>
          <p:nvSpPr>
            <p:cNvPr id="420" name="Text Box 7"/>
            <p:cNvSpPr/>
            <p:nvPr/>
          </p:nvSpPr>
          <p:spPr>
            <a:xfrm>
              <a:off x="457200" y="4918320"/>
              <a:ext cx="281916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ПОДТВЕРЖДЕНО</a:t>
              </a:r>
              <a:endParaRPr b="0" lang="en-US" sz="2000" spc="-1" strike="noStrike">
                <a:solidFill>
                  <a:srgbClr val="000000"/>
                </a:solidFill>
                <a:latin typeface="Arial"/>
              </a:endParaRPr>
            </a:p>
          </p:txBody>
        </p:sp>
      </p:grpSp>
      <p:grpSp>
        <p:nvGrpSpPr>
          <p:cNvPr id="421" name="Group 8"/>
          <p:cNvGrpSpPr/>
          <p:nvPr/>
        </p:nvGrpSpPr>
        <p:grpSpPr>
          <a:xfrm>
            <a:off x="3505320" y="1600200"/>
            <a:ext cx="2666160" cy="2360880"/>
            <a:chOff x="3505320" y="1600200"/>
            <a:chExt cx="2666160" cy="2360880"/>
          </a:xfrm>
        </p:grpSpPr>
        <p:grpSp>
          <p:nvGrpSpPr>
            <p:cNvPr id="422" name="Group 9"/>
            <p:cNvGrpSpPr/>
            <p:nvPr/>
          </p:nvGrpSpPr>
          <p:grpSpPr>
            <a:xfrm>
              <a:off x="3505320" y="1600200"/>
              <a:ext cx="2666160" cy="2360880"/>
              <a:chOff x="3505320" y="1600200"/>
              <a:chExt cx="2666160" cy="2360880"/>
            </a:xfrm>
          </p:grpSpPr>
          <p:sp>
            <p:nvSpPr>
              <p:cNvPr id="423" name="Rectangle 10"/>
              <p:cNvSpPr/>
              <p:nvPr/>
            </p:nvSpPr>
            <p:spPr>
              <a:xfrm>
                <a:off x="3505320" y="1600200"/>
                <a:ext cx="2666160" cy="2360880"/>
              </a:xfrm>
              <a:prstGeom prst="rect">
                <a:avLst/>
              </a:prstGeom>
              <a:gradFill rotWithShape="0">
                <a:gsLst>
                  <a:gs pos="0">
                    <a:srgbClr val="ffffff"/>
                  </a:gs>
                  <a:gs pos="100000">
                    <a:srgbClr val="ff0000"/>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WordArt 11"/>
              <p:cNvSpPr txBox="1"/>
              <p:nvPr/>
            </p:nvSpPr>
            <p:spPr>
              <a:xfrm>
                <a:off x="3705480" y="1993320"/>
                <a:ext cx="2265480" cy="1180440"/>
              </a:xfrm>
              <a:prstGeom prst="rect">
                <a:avLst/>
              </a:prstGeom>
            </p:spPr>
            <p:txBody>
              <a:bodyPr wrap="none" fromWordArt="1" lIns="90000" rIns="90000" tIns="46800" bIns="46800" anchor="t" anchorCtr="1">
                <a:prstTxWarp prst="textArchUp">
                  <a:avLst>
                    <a:gd name="adj" fmla="val 1080001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blipFill rotWithShape="0">
                      <a:blip r:embed="rId3"/>
                      <a:srcRect/>
                      <a:stretch/>
                    </a:blipFill>
                    <a:latin typeface="Arial"/>
                  </a:rPr>
                  <a:t>АККРЕДИТАЦИЯ</a:t>
                </a:r>
                <a:endParaRPr b="0" lang="en-US" sz="3200" spc="1" strike="noStrike">
                  <a:ln w="9360">
                    <a:solidFill>
                      <a:srgbClr val="000000"/>
                    </a:solidFill>
                    <a:miter/>
                  </a:ln>
                  <a:blipFill rotWithShape="0">
                    <a:blip r:embed="rId4"/>
                    <a:srcRect/>
                    <a:stretch/>
                  </a:blipFill>
                  <a:latin typeface="Arial"/>
                  <a:ea typeface="Arial"/>
                </a:endParaRPr>
              </a:p>
            </p:txBody>
          </p:sp>
        </p:grpSp>
        <p:sp>
          <p:nvSpPr>
            <p:cNvPr id="425" name="Text Box 12"/>
            <p:cNvSpPr/>
            <p:nvPr/>
          </p:nvSpPr>
          <p:spPr>
            <a:xfrm>
              <a:off x="4565520" y="219060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9</a:t>
              </a:r>
              <a:endParaRPr b="0" lang="en-US" sz="1800" spc="-1" strike="noStrike">
                <a:solidFill>
                  <a:srgbClr val="000000"/>
                </a:solidFill>
                <a:latin typeface="Arial"/>
              </a:endParaRPr>
            </a:p>
          </p:txBody>
        </p:sp>
      </p:grpSp>
      <p:grpSp>
        <p:nvGrpSpPr>
          <p:cNvPr id="426" name="Group 14"/>
          <p:cNvGrpSpPr/>
          <p:nvPr/>
        </p:nvGrpSpPr>
        <p:grpSpPr>
          <a:xfrm>
            <a:off x="6324480" y="533520"/>
            <a:ext cx="2590200" cy="2284560"/>
            <a:chOff x="6324480" y="533520"/>
            <a:chExt cx="2590200" cy="2284560"/>
          </a:xfrm>
        </p:grpSpPr>
        <p:grpSp>
          <p:nvGrpSpPr>
            <p:cNvPr id="427" name="Group 15"/>
            <p:cNvGrpSpPr/>
            <p:nvPr/>
          </p:nvGrpSpPr>
          <p:grpSpPr>
            <a:xfrm>
              <a:off x="6324480" y="533520"/>
              <a:ext cx="2590200" cy="2284560"/>
              <a:chOff x="6324480" y="533520"/>
              <a:chExt cx="2590200" cy="2284560"/>
            </a:xfrm>
          </p:grpSpPr>
          <p:sp>
            <p:nvSpPr>
              <p:cNvPr id="428" name="Rectangle 16"/>
              <p:cNvSpPr/>
              <p:nvPr/>
            </p:nvSpPr>
            <p:spPr>
              <a:xfrm>
                <a:off x="6324480" y="533520"/>
                <a:ext cx="2590200" cy="2284560"/>
              </a:xfrm>
              <a:prstGeom prst="rect">
                <a:avLst/>
              </a:prstGeom>
              <a:gradFill rotWithShape="0">
                <a:gsLst>
                  <a:gs pos="0">
                    <a:srgbClr val="ffffff"/>
                  </a:gs>
                  <a:gs pos="100000">
                    <a:srgbClr val="ffcc00"/>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WordArt 17"/>
              <p:cNvSpPr txBox="1"/>
              <p:nvPr/>
            </p:nvSpPr>
            <p:spPr>
              <a:xfrm>
                <a:off x="6518880" y="913680"/>
                <a:ext cx="2201040" cy="1142280"/>
              </a:xfrm>
              <a:prstGeom prst="rect">
                <a:avLst/>
              </a:prstGeom>
            </p:spPr>
            <p:txBody>
              <a:bodyPr wrap="none" fromWordArt="1" lIns="90000" rIns="90000" tIns="46800" bIns="46800" anchor="t" anchorCtr="1">
                <a:prstTxWarp prst="textArchUp">
                  <a:avLst>
                    <a:gd name="adj" fmla="val 1080001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blipFill rotWithShape="0">
                      <a:blip r:embed="rId5"/>
                      <a:srcRect/>
                      <a:stretch/>
                    </a:blipFill>
                    <a:latin typeface="Arial"/>
                  </a:rPr>
                  <a:t>АККРЕДИТАЦИЯ</a:t>
                </a:r>
                <a:endParaRPr b="0" lang="en-US" sz="3200" spc="1" strike="noStrike">
                  <a:ln w="9360">
                    <a:solidFill>
                      <a:srgbClr val="000000"/>
                    </a:solidFill>
                    <a:miter/>
                  </a:ln>
                  <a:blipFill rotWithShape="0">
                    <a:blip r:embed="rId6"/>
                    <a:srcRect/>
                    <a:stretch/>
                  </a:blipFill>
                  <a:latin typeface="Arial"/>
                  <a:ea typeface="Arial"/>
                </a:endParaRPr>
              </a:p>
            </p:txBody>
          </p:sp>
        </p:grpSp>
        <p:sp>
          <p:nvSpPr>
            <p:cNvPr id="430" name="Text Box 18"/>
            <p:cNvSpPr/>
            <p:nvPr/>
          </p:nvSpPr>
          <p:spPr>
            <a:xfrm>
              <a:off x="7347600" y="110484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0</a:t>
              </a:r>
              <a:endParaRPr b="0" lang="en-US" sz="1800" spc="-1" strike="noStrike">
                <a:solidFill>
                  <a:srgbClr val="000000"/>
                </a:solidFill>
                <a:latin typeface="Arial"/>
              </a:endParaRPr>
            </a:p>
          </p:txBody>
        </p:sp>
      </p:grpSp>
      <p:grpSp>
        <p:nvGrpSpPr>
          <p:cNvPr id="431" name="Group 20"/>
          <p:cNvGrpSpPr/>
          <p:nvPr/>
        </p:nvGrpSpPr>
        <p:grpSpPr>
          <a:xfrm>
            <a:off x="380880" y="533520"/>
            <a:ext cx="2742480" cy="2284560"/>
            <a:chOff x="380880" y="533520"/>
            <a:chExt cx="2742480" cy="2284560"/>
          </a:xfrm>
        </p:grpSpPr>
        <p:grpSp>
          <p:nvGrpSpPr>
            <p:cNvPr id="432" name="Group 21"/>
            <p:cNvGrpSpPr/>
            <p:nvPr/>
          </p:nvGrpSpPr>
          <p:grpSpPr>
            <a:xfrm>
              <a:off x="380880" y="533520"/>
              <a:ext cx="2742480" cy="2284560"/>
              <a:chOff x="380880" y="533520"/>
              <a:chExt cx="2742480" cy="2284560"/>
            </a:xfrm>
          </p:grpSpPr>
          <p:sp>
            <p:nvSpPr>
              <p:cNvPr id="433" name="Rectangle 22"/>
              <p:cNvSpPr/>
              <p:nvPr/>
            </p:nvSpPr>
            <p:spPr>
              <a:xfrm>
                <a:off x="380880" y="533520"/>
                <a:ext cx="2742480" cy="2284560"/>
              </a:xfrm>
              <a:prstGeom prst="rect">
                <a:avLst/>
              </a:prstGeom>
              <a:gradFill rotWithShape="0">
                <a:gsLst>
                  <a:gs pos="0">
                    <a:srgbClr val="ffffff"/>
                  </a:gs>
                  <a:gs pos="100000">
                    <a:srgbClr val="9999ff"/>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WordArt 23"/>
              <p:cNvSpPr txBox="1"/>
              <p:nvPr/>
            </p:nvSpPr>
            <p:spPr>
              <a:xfrm>
                <a:off x="586800" y="913680"/>
                <a:ext cx="2330280" cy="1142280"/>
              </a:xfrm>
              <a:prstGeom prst="rect">
                <a:avLst/>
              </a:prstGeom>
            </p:spPr>
            <p:txBody>
              <a:bodyPr wrap="none" fromWordArt="1" lIns="90000" rIns="90000" tIns="46800" bIns="46800" anchor="t" anchorCtr="1">
                <a:prstTxWarp prst="textArchUp">
                  <a:avLst>
                    <a:gd name="adj" fmla="val 1080001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blipFill rotWithShape="0">
                      <a:blip r:embed="rId7"/>
                      <a:srcRect/>
                      <a:stretch/>
                    </a:blipFill>
                    <a:latin typeface="Arial"/>
                  </a:rPr>
                  <a:t>АККРЕДИТАЦИЯ</a:t>
                </a:r>
                <a:endParaRPr b="0" lang="en-US" sz="3200" spc="1" strike="noStrike">
                  <a:ln w="9360">
                    <a:solidFill>
                      <a:srgbClr val="000000"/>
                    </a:solidFill>
                    <a:miter/>
                  </a:ln>
                  <a:blipFill rotWithShape="0">
                    <a:blip r:embed="rId8"/>
                    <a:srcRect/>
                    <a:stretch/>
                  </a:blipFill>
                  <a:latin typeface="Arial"/>
                  <a:ea typeface="Arial"/>
                </a:endParaRPr>
              </a:p>
            </p:txBody>
          </p:sp>
        </p:grpSp>
        <p:sp>
          <p:nvSpPr>
            <p:cNvPr id="435" name="Text Box 24"/>
            <p:cNvSpPr/>
            <p:nvPr/>
          </p:nvSpPr>
          <p:spPr>
            <a:xfrm>
              <a:off x="1128960" y="1104840"/>
              <a:ext cx="12459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7</a:t>
              </a:r>
              <a:endParaRPr b="0" lang="en-US" sz="1800" spc="-1" strike="noStrike">
                <a:solidFill>
                  <a:srgbClr val="000000"/>
                </a:solidFill>
                <a:latin typeface="Arial"/>
              </a:endParaRPr>
            </a:p>
          </p:txBody>
        </p:sp>
        <p:sp>
          <p:nvSpPr>
            <p:cNvPr id="436" name="Text Box 25"/>
            <p:cNvSpPr/>
            <p:nvPr/>
          </p:nvSpPr>
          <p:spPr>
            <a:xfrm>
              <a:off x="705960" y="1811160"/>
              <a:ext cx="21178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ПЕРВИЧНАЯ</a:t>
              </a:r>
              <a:endParaRPr b="0" lang="en-US" sz="2400" spc="-1" strike="noStrike">
                <a:solidFill>
                  <a:srgbClr val="000000"/>
                </a:solidFill>
                <a:latin typeface="Arial"/>
              </a:endParaRPr>
            </a:p>
          </p:txBody>
        </p:sp>
      </p:grpSp>
      <p:sp>
        <p:nvSpPr>
          <p:cNvPr id="437" name="AutoShape 27"/>
          <p:cNvSpPr/>
          <p:nvPr/>
        </p:nvSpPr>
        <p:spPr>
          <a:xfrm>
            <a:off x="2438280" y="5334120"/>
            <a:ext cx="685800" cy="533160"/>
          </a:xfrm>
          <a:custGeom>
            <a:avLst/>
            <a:gdLst>
              <a:gd name="textAreaLeft" fmla="*/ 156600 w 685800"/>
              <a:gd name="textAreaRight" fmla="*/ 529200 w 685800"/>
              <a:gd name="textAreaTop" fmla="*/ 121680 h 533160"/>
              <a:gd name="textAreaBottom" fmla="*/ 411480 h 53316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8" name="AutoShape 28"/>
          <p:cNvSpPr/>
          <p:nvPr/>
        </p:nvSpPr>
        <p:spPr>
          <a:xfrm>
            <a:off x="2438280" y="2209680"/>
            <a:ext cx="533520" cy="457200"/>
          </a:xfrm>
          <a:custGeom>
            <a:avLst/>
            <a:gdLst>
              <a:gd name="textAreaLeft" fmla="*/ 121680 w 533520"/>
              <a:gd name="textAreaRight" fmla="*/ 411840 w 53352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9" name="AutoShape 29"/>
          <p:cNvSpPr/>
          <p:nvPr/>
        </p:nvSpPr>
        <p:spPr>
          <a:xfrm>
            <a:off x="5257800" y="3352680"/>
            <a:ext cx="685800" cy="457200"/>
          </a:xfrm>
          <a:custGeom>
            <a:avLst/>
            <a:gdLst>
              <a:gd name="textAreaLeft" fmla="*/ 156600 w 685800"/>
              <a:gd name="textAreaRight" fmla="*/ 529200 w 68580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0" name="AutoShape 30"/>
          <p:cNvSpPr/>
          <p:nvPr/>
        </p:nvSpPr>
        <p:spPr>
          <a:xfrm>
            <a:off x="8001000" y="2133720"/>
            <a:ext cx="762120" cy="457200"/>
          </a:xfrm>
          <a:custGeom>
            <a:avLst/>
            <a:gdLst>
              <a:gd name="textAreaLeft" fmla="*/ 173880 w 762120"/>
              <a:gd name="textAreaRight" fmla="*/ 588240 w 76212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1"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442"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917DA8-AA14-4505-A0C4-FDA80EC2EFBE}"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443" name="Text Box 7"/>
          <p:cNvSpPr/>
          <p:nvPr/>
        </p:nvSpPr>
        <p:spPr>
          <a:xfrm>
            <a:off x="3429000" y="2874960"/>
            <a:ext cx="28195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ПОДТВЕРЖДЕНО</a:t>
            </a:r>
            <a:endParaRPr b="0" lang="en-US" sz="2000" spc="-1" strike="noStrike">
              <a:solidFill>
                <a:srgbClr val="000000"/>
              </a:solidFill>
              <a:latin typeface="Arial"/>
            </a:endParaRPr>
          </a:p>
        </p:txBody>
      </p:sp>
      <p:sp>
        <p:nvSpPr>
          <p:cNvPr id="444" name="Text Box 7"/>
          <p:cNvSpPr/>
          <p:nvPr/>
        </p:nvSpPr>
        <p:spPr>
          <a:xfrm>
            <a:off x="6248520" y="1752480"/>
            <a:ext cx="281916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ПОДТВЕРЖДЕНО</a:t>
            </a:r>
            <a:endParaRPr b="0" lang="en-US" sz="2000" spc="-1" strike="noStrike">
              <a:solidFill>
                <a:srgbClr val="000000"/>
              </a:solidFill>
              <a:latin typeface="Arial"/>
            </a:endParaRPr>
          </a:p>
        </p:txBody>
      </p:sp>
      <p:sp>
        <p:nvSpPr>
          <p:cNvPr id="445" name="Text Box 26"/>
          <p:cNvSpPr/>
          <p:nvPr/>
        </p:nvSpPr>
        <p:spPr>
          <a:xfrm>
            <a:off x="3886200" y="3809880"/>
            <a:ext cx="5029200" cy="2057400"/>
          </a:xfrm>
          <a:prstGeom prst="rect">
            <a:avLst/>
          </a:prstGeom>
          <a:solidFill>
            <a:srgbClr val="00007d"/>
          </a:solidFill>
          <a:ln w="0">
            <a:noFill/>
          </a:ln>
        </p:spPr>
        <p:style>
          <a:lnRef idx="0"/>
          <a:fillRef idx="0"/>
          <a:effectRef idx="0"/>
          <a:fontRef idx="minor"/>
        </p:style>
        <p:txBody>
          <a:bodyPr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66"/>
                </a:solidFill>
                <a:latin typeface="Verdana"/>
              </a:rPr>
              <a:t>Поддержание аккредитации – это </a:t>
            </a:r>
            <a:r>
              <a:rPr b="1" lang="ru-RU" sz="3600" spc="-1" strike="noStrike">
                <a:solidFill>
                  <a:srgbClr val="ffff66"/>
                </a:solidFill>
                <a:latin typeface="Verdana"/>
              </a:rPr>
              <a:t>ДОСТИЖЕНИЕ</a:t>
            </a:r>
            <a:endParaRPr b="0" lang="en-US" sz="36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PlaceHolder 1"/>
          <p:cNvSpPr>
            <a:spLocks noGrp="1"/>
          </p:cNvSpPr>
          <p:nvPr>
            <p:ph type="title"/>
          </p:nvPr>
        </p:nvSpPr>
        <p:spPr>
          <a:xfrm>
            <a:off x="456840" y="495360"/>
            <a:ext cx="8381880" cy="419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Выводы</a:t>
            </a:r>
            <a:endParaRPr b="0" lang="en-US" sz="3600" spc="-1" strike="noStrike">
              <a:solidFill>
                <a:srgbClr val="00007d"/>
              </a:solidFill>
              <a:latin typeface="Verdana"/>
            </a:endParaRPr>
          </a:p>
        </p:txBody>
      </p:sp>
      <p:sp>
        <p:nvSpPr>
          <p:cNvPr id="448" name="PlaceHolder 2"/>
          <p:cNvSpPr>
            <a:spLocks noGrp="1"/>
          </p:cNvSpPr>
          <p:nvPr>
            <p:ph/>
          </p:nvPr>
        </p:nvSpPr>
        <p:spPr>
          <a:xfrm>
            <a:off x="533520" y="1294920"/>
            <a:ext cx="8534160" cy="4665960"/>
          </a:xfrm>
          <a:prstGeom prst="rect">
            <a:avLst/>
          </a:prstGeom>
          <a:noFill/>
          <a:ln w="0">
            <a:noFill/>
          </a:ln>
        </p:spPr>
        <p:txBody>
          <a:bodyPr anchor="t">
            <a:normAutofit/>
          </a:bodyPr>
          <a:p>
            <a:pPr marL="343080" indent="-343080">
              <a:lnSpc>
                <a:spcPct val="90000"/>
              </a:lnSpc>
              <a:spcBef>
                <a:spcPts val="1199"/>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Стандарты содержат рекомендации, формирующие основу для качественной работы. Они разрабатываются организациями</a:t>
            </a:r>
            <a:r>
              <a:rPr b="0" lang="en-US" sz="2800" spc="-1" strike="noStrike">
                <a:solidFill>
                  <a:srgbClr val="000000"/>
                </a:solidFill>
                <a:latin typeface="Verdana"/>
              </a:rPr>
              <a:t>.</a:t>
            </a:r>
            <a:endParaRPr b="0" lang="en-US" sz="2800" spc="-1" strike="noStrike">
              <a:solidFill>
                <a:srgbClr val="000000"/>
              </a:solidFill>
              <a:latin typeface="Verdana"/>
            </a:endParaRPr>
          </a:p>
          <a:p>
            <a:pPr marL="343080" indent="-343080">
              <a:lnSpc>
                <a:spcPct val="90000"/>
              </a:lnSpc>
              <a:spcBef>
                <a:spcPts val="1199"/>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Аккредитация и сертификация – это процессы, приводящие к признанию того, что лаборатория соответствует установленным стандартам</a:t>
            </a:r>
            <a:r>
              <a:rPr b="0" lang="en-US" sz="2800" spc="-1" strike="noStrike">
                <a:solidFill>
                  <a:srgbClr val="000000"/>
                </a:solidFill>
                <a:latin typeface="Verdana"/>
              </a:rPr>
              <a:t>.</a:t>
            </a:r>
            <a:endParaRPr b="0" lang="en-US" sz="2800" spc="-1" strike="noStrike">
              <a:solidFill>
                <a:srgbClr val="000000"/>
              </a:solidFill>
              <a:latin typeface="Verdana"/>
            </a:endParaRPr>
          </a:p>
          <a:p>
            <a:pPr marL="343080" indent="-343080">
              <a:lnSpc>
                <a:spcPct val="90000"/>
              </a:lnSpc>
              <a:spcBef>
                <a:spcPts val="1199"/>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Действующая программа управления качеством обеспечит для лаборатории постоянную «готовность к аккредитации».</a:t>
            </a:r>
            <a:endParaRPr b="0" lang="en-US" sz="2800" spc="-1" strike="noStrike">
              <a:solidFill>
                <a:srgbClr val="000000"/>
              </a:solidFill>
              <a:latin typeface="Verdana"/>
            </a:endParaRPr>
          </a:p>
        </p:txBody>
      </p:sp>
      <p:sp>
        <p:nvSpPr>
          <p:cNvPr id="449"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450"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52B97D-BC69-4C7D-98E9-19C207B99242}"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2" name="PlaceHolder 1"/>
          <p:cNvSpPr>
            <a:spLocks noGrp="1"/>
          </p:cNvSpPr>
          <p:nvPr>
            <p:ph type="title"/>
          </p:nvPr>
        </p:nvSpPr>
        <p:spPr>
          <a:xfrm>
            <a:off x="456840" y="484200"/>
            <a:ext cx="8381880" cy="658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Основные положения</a:t>
            </a:r>
            <a:endParaRPr b="0" lang="en-US" sz="3600" spc="-1" strike="noStrike">
              <a:solidFill>
                <a:srgbClr val="00007d"/>
              </a:solidFill>
              <a:latin typeface="Verdana"/>
            </a:endParaRPr>
          </a:p>
        </p:txBody>
      </p:sp>
      <p:sp>
        <p:nvSpPr>
          <p:cNvPr id="453" name="PlaceHolder 2"/>
          <p:cNvSpPr>
            <a:spLocks noGrp="1"/>
          </p:cNvSpPr>
          <p:nvPr>
            <p:ph/>
          </p:nvPr>
        </p:nvSpPr>
        <p:spPr>
          <a:xfrm>
            <a:off x="457200" y="1447560"/>
            <a:ext cx="8229600" cy="422892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Аккредитация является важным шагом на пути постоянного улучшения системы управления качеством.</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олучение аккредитации – это выполнение задачи, поддержание аккредитации – это достижение</a:t>
            </a:r>
            <a:r>
              <a:rPr b="0" lang="en-US" sz="3200" spc="-1" strike="noStrike">
                <a:solidFill>
                  <a:srgbClr val="000000"/>
                </a:solidFill>
                <a:latin typeface="Verdana"/>
              </a:rPr>
              <a:t>. </a:t>
            </a:r>
            <a:endParaRPr b="0" lang="en-US" sz="3200" spc="-1" strike="noStrike">
              <a:solidFill>
                <a:srgbClr val="000000"/>
              </a:solidFill>
              <a:latin typeface="Verdana"/>
            </a:endParaRPr>
          </a:p>
        </p:txBody>
      </p:sp>
      <p:sp>
        <p:nvSpPr>
          <p:cNvPr id="454"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455"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EA782F-FCD3-4DDA-9368-61E939390EB3}"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Footer Placeholder 2"/>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457"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A17134-7C59-47DC-B388-5811E758CC13}"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458" name="PlaceHolder 1"/>
          <p:cNvSpPr>
            <a:spLocks noGrp="1"/>
          </p:cNvSpPr>
          <p:nvPr>
            <p:ph type="title"/>
          </p:nvPr>
        </p:nvSpPr>
        <p:spPr>
          <a:xfrm>
            <a:off x="5105520" y="1218960"/>
            <a:ext cx="4038480" cy="1920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7d"/>
                </a:solidFill>
                <a:latin typeface="Verdana"/>
              </a:rPr>
              <a:t>Вопросы</a:t>
            </a:r>
            <a:r>
              <a:rPr b="0" lang="en-US" sz="4000" spc="-1" strike="noStrike">
                <a:solidFill>
                  <a:srgbClr val="00007d"/>
                </a:solidFill>
                <a:latin typeface="Verdana"/>
              </a:rPr>
              <a:t>?</a:t>
            </a:r>
            <a:br>
              <a:rPr sz="4000"/>
            </a:br>
            <a:br>
              <a:rPr sz="4000"/>
            </a:br>
            <a:r>
              <a:rPr b="0" lang="ru-RU" sz="4000" spc="-1" strike="noStrike">
                <a:solidFill>
                  <a:srgbClr val="00007d"/>
                </a:solidFill>
                <a:latin typeface="Verdana"/>
              </a:rPr>
              <a:t>Комментарии</a:t>
            </a:r>
            <a:r>
              <a:rPr b="0" lang="en-US" sz="4000" spc="-1" strike="noStrike">
                <a:solidFill>
                  <a:srgbClr val="00007d"/>
                </a:solidFill>
                <a:latin typeface="Verdana"/>
              </a:rPr>
              <a:t>?</a:t>
            </a:r>
            <a:endParaRPr b="0" lang="en-US" sz="4000" spc="-1" strike="noStrike">
              <a:solidFill>
                <a:srgbClr val="00007d"/>
              </a:solidFill>
              <a:latin typeface="Verdana"/>
            </a:endParaRPr>
          </a:p>
        </p:txBody>
      </p:sp>
      <p:grpSp>
        <p:nvGrpSpPr>
          <p:cNvPr id="459" name="Group 99"/>
          <p:cNvGrpSpPr/>
          <p:nvPr/>
        </p:nvGrpSpPr>
        <p:grpSpPr>
          <a:xfrm>
            <a:off x="264960" y="1143000"/>
            <a:ext cx="4700880" cy="4708440"/>
            <a:chOff x="264960" y="1143000"/>
            <a:chExt cx="4700880" cy="4708440"/>
          </a:xfrm>
        </p:grpSpPr>
        <p:sp>
          <p:nvSpPr>
            <p:cNvPr id="460" name="AutoShape 4"/>
            <p:cNvSpPr/>
            <p:nvPr/>
          </p:nvSpPr>
          <p:spPr>
            <a:xfrm>
              <a:off x="264960" y="1143000"/>
              <a:ext cx="4700880" cy="4708440"/>
            </a:xfrm>
            <a:custGeom>
              <a:avLst/>
              <a:gdLst>
                <a:gd name="textAreaLeft" fmla="*/ 229320 w 4700880"/>
                <a:gd name="textAreaRight" fmla="*/ 4471560 w 4700880"/>
                <a:gd name="textAreaTop" fmla="*/ 229320 h 4708440"/>
                <a:gd name="textAreaBottom" fmla="*/ 4479120 h 4708440"/>
              </a:gdLst>
              <a:ahLst/>
              <a:rect l="textAreaLeft" t="textAreaTop" r="textAreaRight" b="textAreaBottom"/>
              <a:pathLst>
                <a:path w="21600" h="21635">
                  <a:moveTo>
                    <a:pt x="3600" y="0"/>
                  </a:moveTo>
                  <a:arcTo wR="3600" hR="3600" stAng="16200000" swAng="-5400000"/>
                  <a:lnTo>
                    <a:pt x="0" y="18035"/>
                  </a:lnTo>
                  <a:arcTo wR="3600" hR="3600" stAng="10800000" swAng="-5400000"/>
                  <a:lnTo>
                    <a:pt x="18000" y="21635"/>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Freeform 9"/>
            <p:cNvSpPr/>
            <p:nvPr/>
          </p:nvSpPr>
          <p:spPr>
            <a:xfrm>
              <a:off x="2301120" y="3621240"/>
              <a:ext cx="109080" cy="63360"/>
            </a:xfrm>
            <a:custGeom>
              <a:avLst/>
              <a:gdLst>
                <a:gd name="textAreaLeft" fmla="*/ 0 w 109080"/>
                <a:gd name="textAreaRight" fmla="*/ 109440 w 109080"/>
                <a:gd name="textAreaTop" fmla="*/ 0 h 63360"/>
                <a:gd name="textAreaBottom" fmla="*/ 63720 h 63360"/>
              </a:gdLst>
              <a:ahLst/>
              <a:rect l="textAreaLeft" t="textAreaTop" r="textAreaRight" b="textAreaBottom"/>
              <a:pathLst>
                <a:path w="392" h="230">
                  <a:moveTo>
                    <a:pt x="377" y="0"/>
                  </a:moveTo>
                  <a:lnTo>
                    <a:pt x="378" y="21"/>
                  </a:lnTo>
                  <a:lnTo>
                    <a:pt x="378" y="40"/>
                  </a:lnTo>
                  <a:lnTo>
                    <a:pt x="380" y="58"/>
                  </a:lnTo>
                  <a:lnTo>
                    <a:pt x="381" y="75"/>
                  </a:lnTo>
                  <a:lnTo>
                    <a:pt x="386" y="104"/>
                  </a:lnTo>
                  <a:lnTo>
                    <a:pt x="390" y="130"/>
                  </a:lnTo>
                  <a:lnTo>
                    <a:pt x="392" y="151"/>
                  </a:lnTo>
                  <a:lnTo>
                    <a:pt x="392" y="169"/>
                  </a:lnTo>
                  <a:lnTo>
                    <a:pt x="392" y="175"/>
                  </a:lnTo>
                  <a:lnTo>
                    <a:pt x="390" y="183"/>
                  </a:lnTo>
                  <a:lnTo>
                    <a:pt x="387" y="188"/>
                  </a:lnTo>
                  <a:lnTo>
                    <a:pt x="382" y="194"/>
                  </a:lnTo>
                  <a:lnTo>
                    <a:pt x="377" y="198"/>
                  </a:lnTo>
                  <a:lnTo>
                    <a:pt x="369" y="203"/>
                  </a:lnTo>
                  <a:lnTo>
                    <a:pt x="361" y="206"/>
                  </a:lnTo>
                  <a:lnTo>
                    <a:pt x="351" y="209"/>
                  </a:lnTo>
                  <a:lnTo>
                    <a:pt x="338" y="211"/>
                  </a:lnTo>
                  <a:lnTo>
                    <a:pt x="324" y="213"/>
                  </a:lnTo>
                  <a:lnTo>
                    <a:pt x="307" y="216"/>
                  </a:lnTo>
                  <a:lnTo>
                    <a:pt x="289" y="218"/>
                  </a:lnTo>
                  <a:lnTo>
                    <a:pt x="188" y="224"/>
                  </a:lnTo>
                  <a:lnTo>
                    <a:pt x="41" y="230"/>
                  </a:lnTo>
                  <a:lnTo>
                    <a:pt x="35" y="223"/>
                  </a:lnTo>
                  <a:lnTo>
                    <a:pt x="21" y="202"/>
                  </a:lnTo>
                  <a:lnTo>
                    <a:pt x="13" y="186"/>
                  </a:lnTo>
                  <a:lnTo>
                    <a:pt x="6" y="169"/>
                  </a:lnTo>
                  <a:lnTo>
                    <a:pt x="3" y="159"/>
                  </a:lnTo>
                  <a:lnTo>
                    <a:pt x="1" y="148"/>
                  </a:lnTo>
                  <a:lnTo>
                    <a:pt x="0" y="137"/>
                  </a:lnTo>
                  <a:lnTo>
                    <a:pt x="0" y="125"/>
                  </a:lnTo>
                  <a:lnTo>
                    <a:pt x="0" y="114"/>
                  </a:lnTo>
                  <a:lnTo>
                    <a:pt x="1" y="103"/>
                  </a:lnTo>
                  <a:lnTo>
                    <a:pt x="2" y="94"/>
                  </a:lnTo>
                  <a:lnTo>
                    <a:pt x="3" y="85"/>
                  </a:lnTo>
                  <a:lnTo>
                    <a:pt x="5" y="77"/>
                  </a:lnTo>
                  <a:lnTo>
                    <a:pt x="9" y="69"/>
                  </a:lnTo>
                  <a:lnTo>
                    <a:pt x="12" y="62"/>
                  </a:lnTo>
                  <a:lnTo>
                    <a:pt x="15" y="54"/>
                  </a:lnTo>
                  <a:lnTo>
                    <a:pt x="24" y="41"/>
                  </a:lnTo>
                  <a:lnTo>
                    <a:pt x="35" y="28"/>
                  </a:lnTo>
                  <a:lnTo>
                    <a:pt x="48" y="14"/>
                  </a:lnTo>
                  <a:lnTo>
                    <a:pt x="63" y="0"/>
                  </a:lnTo>
                  <a:lnTo>
                    <a:pt x="377" y="0"/>
                  </a:lnTo>
                  <a:close/>
                </a:path>
              </a:pathLst>
            </a:custGeom>
            <a:solidFill>
              <a:srgbClr val="dededd"/>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462" name="Freeform 10"/>
            <p:cNvSpPr/>
            <p:nvPr/>
          </p:nvSpPr>
          <p:spPr>
            <a:xfrm>
              <a:off x="2272320" y="3614040"/>
              <a:ext cx="291960" cy="338760"/>
            </a:xfrm>
            <a:custGeom>
              <a:avLst/>
              <a:gdLst>
                <a:gd name="textAreaLeft" fmla="*/ 0 w 291960"/>
                <a:gd name="textAreaRight" fmla="*/ 292320 w 291960"/>
                <a:gd name="textAreaTop" fmla="*/ 0 h 338760"/>
                <a:gd name="textAreaBottom" fmla="*/ 339120 h 338760"/>
              </a:gdLst>
              <a:ahLst/>
              <a:rect l="textAreaLeft" t="textAreaTop" r="textAreaRight" b="textAreaBottom"/>
              <a:pathLst>
                <a:path w="1056" h="1238">
                  <a:moveTo>
                    <a:pt x="797" y="22"/>
                  </a:moveTo>
                  <a:lnTo>
                    <a:pt x="793" y="28"/>
                  </a:lnTo>
                  <a:lnTo>
                    <a:pt x="783" y="48"/>
                  </a:lnTo>
                  <a:lnTo>
                    <a:pt x="777" y="61"/>
                  </a:lnTo>
                  <a:lnTo>
                    <a:pt x="773" y="75"/>
                  </a:lnTo>
                  <a:lnTo>
                    <a:pt x="769" y="92"/>
                  </a:lnTo>
                  <a:lnTo>
                    <a:pt x="765" y="108"/>
                  </a:lnTo>
                  <a:lnTo>
                    <a:pt x="764" y="117"/>
                  </a:lnTo>
                  <a:lnTo>
                    <a:pt x="764" y="124"/>
                  </a:lnTo>
                  <a:lnTo>
                    <a:pt x="765" y="133"/>
                  </a:lnTo>
                  <a:lnTo>
                    <a:pt x="766" y="142"/>
                  </a:lnTo>
                  <a:lnTo>
                    <a:pt x="769" y="149"/>
                  </a:lnTo>
                  <a:lnTo>
                    <a:pt x="771" y="157"/>
                  </a:lnTo>
                  <a:lnTo>
                    <a:pt x="774" y="165"/>
                  </a:lnTo>
                  <a:lnTo>
                    <a:pt x="779" y="172"/>
                  </a:lnTo>
                  <a:lnTo>
                    <a:pt x="785" y="179"/>
                  </a:lnTo>
                  <a:lnTo>
                    <a:pt x="791" y="185"/>
                  </a:lnTo>
                  <a:lnTo>
                    <a:pt x="800" y="191"/>
                  </a:lnTo>
                  <a:lnTo>
                    <a:pt x="809" y="196"/>
                  </a:lnTo>
                  <a:lnTo>
                    <a:pt x="820" y="201"/>
                  </a:lnTo>
                  <a:lnTo>
                    <a:pt x="832" y="205"/>
                  </a:lnTo>
                  <a:lnTo>
                    <a:pt x="845" y="208"/>
                  </a:lnTo>
                  <a:lnTo>
                    <a:pt x="860" y="210"/>
                  </a:lnTo>
                  <a:lnTo>
                    <a:pt x="867" y="207"/>
                  </a:lnTo>
                  <a:lnTo>
                    <a:pt x="886" y="200"/>
                  </a:lnTo>
                  <a:lnTo>
                    <a:pt x="898" y="195"/>
                  </a:lnTo>
                  <a:lnTo>
                    <a:pt x="911" y="191"/>
                  </a:lnTo>
                  <a:lnTo>
                    <a:pt x="927" y="186"/>
                  </a:lnTo>
                  <a:lnTo>
                    <a:pt x="941" y="184"/>
                  </a:lnTo>
                  <a:lnTo>
                    <a:pt x="956" y="183"/>
                  </a:lnTo>
                  <a:lnTo>
                    <a:pt x="969" y="184"/>
                  </a:lnTo>
                  <a:lnTo>
                    <a:pt x="976" y="185"/>
                  </a:lnTo>
                  <a:lnTo>
                    <a:pt x="982" y="186"/>
                  </a:lnTo>
                  <a:lnTo>
                    <a:pt x="988" y="190"/>
                  </a:lnTo>
                  <a:lnTo>
                    <a:pt x="993" y="193"/>
                  </a:lnTo>
                  <a:lnTo>
                    <a:pt x="997" y="196"/>
                  </a:lnTo>
                  <a:lnTo>
                    <a:pt x="1001" y="202"/>
                  </a:lnTo>
                  <a:lnTo>
                    <a:pt x="1004" y="207"/>
                  </a:lnTo>
                  <a:lnTo>
                    <a:pt x="1006" y="215"/>
                  </a:lnTo>
                  <a:lnTo>
                    <a:pt x="1008" y="222"/>
                  </a:lnTo>
                  <a:lnTo>
                    <a:pt x="1008" y="231"/>
                  </a:lnTo>
                  <a:lnTo>
                    <a:pt x="1008" y="241"/>
                  </a:lnTo>
                  <a:lnTo>
                    <a:pt x="1007" y="252"/>
                  </a:lnTo>
                  <a:lnTo>
                    <a:pt x="1016" y="256"/>
                  </a:lnTo>
                  <a:lnTo>
                    <a:pt x="1024" y="262"/>
                  </a:lnTo>
                  <a:lnTo>
                    <a:pt x="1029" y="267"/>
                  </a:lnTo>
                  <a:lnTo>
                    <a:pt x="1034" y="273"/>
                  </a:lnTo>
                  <a:lnTo>
                    <a:pt x="1038" y="279"/>
                  </a:lnTo>
                  <a:lnTo>
                    <a:pt x="1040" y="286"/>
                  </a:lnTo>
                  <a:lnTo>
                    <a:pt x="1041" y="292"/>
                  </a:lnTo>
                  <a:lnTo>
                    <a:pt x="1041" y="300"/>
                  </a:lnTo>
                  <a:lnTo>
                    <a:pt x="1040" y="307"/>
                  </a:lnTo>
                  <a:lnTo>
                    <a:pt x="1039" y="315"/>
                  </a:lnTo>
                  <a:lnTo>
                    <a:pt x="1036" y="323"/>
                  </a:lnTo>
                  <a:lnTo>
                    <a:pt x="1033" y="330"/>
                  </a:lnTo>
                  <a:lnTo>
                    <a:pt x="1025" y="347"/>
                  </a:lnTo>
                  <a:lnTo>
                    <a:pt x="1015" y="362"/>
                  </a:lnTo>
                  <a:lnTo>
                    <a:pt x="1003" y="378"/>
                  </a:lnTo>
                  <a:lnTo>
                    <a:pt x="991" y="392"/>
                  </a:lnTo>
                  <a:lnTo>
                    <a:pt x="980" y="406"/>
                  </a:lnTo>
                  <a:lnTo>
                    <a:pt x="968" y="418"/>
                  </a:lnTo>
                  <a:lnTo>
                    <a:pt x="951" y="435"/>
                  </a:lnTo>
                  <a:lnTo>
                    <a:pt x="944" y="442"/>
                  </a:lnTo>
                  <a:lnTo>
                    <a:pt x="949" y="447"/>
                  </a:lnTo>
                  <a:lnTo>
                    <a:pt x="966" y="462"/>
                  </a:lnTo>
                  <a:lnTo>
                    <a:pt x="977" y="473"/>
                  </a:lnTo>
                  <a:lnTo>
                    <a:pt x="988" y="486"/>
                  </a:lnTo>
                  <a:lnTo>
                    <a:pt x="1000" y="501"/>
                  </a:lnTo>
                  <a:lnTo>
                    <a:pt x="1012" y="517"/>
                  </a:lnTo>
                  <a:lnTo>
                    <a:pt x="1024" y="534"/>
                  </a:lnTo>
                  <a:lnTo>
                    <a:pt x="1033" y="553"/>
                  </a:lnTo>
                  <a:lnTo>
                    <a:pt x="1043" y="572"/>
                  </a:lnTo>
                  <a:lnTo>
                    <a:pt x="1050" y="592"/>
                  </a:lnTo>
                  <a:lnTo>
                    <a:pt x="1053" y="602"/>
                  </a:lnTo>
                  <a:lnTo>
                    <a:pt x="1054" y="612"/>
                  </a:lnTo>
                  <a:lnTo>
                    <a:pt x="1056" y="621"/>
                  </a:lnTo>
                  <a:lnTo>
                    <a:pt x="1056" y="632"/>
                  </a:lnTo>
                  <a:lnTo>
                    <a:pt x="1056" y="642"/>
                  </a:lnTo>
                  <a:lnTo>
                    <a:pt x="1054" y="652"/>
                  </a:lnTo>
                  <a:lnTo>
                    <a:pt x="1052" y="662"/>
                  </a:lnTo>
                  <a:lnTo>
                    <a:pt x="1049" y="671"/>
                  </a:lnTo>
                  <a:lnTo>
                    <a:pt x="1049" y="683"/>
                  </a:lnTo>
                  <a:lnTo>
                    <a:pt x="1046" y="714"/>
                  </a:lnTo>
                  <a:lnTo>
                    <a:pt x="1043" y="734"/>
                  </a:lnTo>
                  <a:lnTo>
                    <a:pt x="1040" y="755"/>
                  </a:lnTo>
                  <a:lnTo>
                    <a:pt x="1034" y="777"/>
                  </a:lnTo>
                  <a:lnTo>
                    <a:pt x="1028" y="800"/>
                  </a:lnTo>
                  <a:lnTo>
                    <a:pt x="1024" y="812"/>
                  </a:lnTo>
                  <a:lnTo>
                    <a:pt x="1019" y="823"/>
                  </a:lnTo>
                  <a:lnTo>
                    <a:pt x="1014" y="833"/>
                  </a:lnTo>
                  <a:lnTo>
                    <a:pt x="1007" y="843"/>
                  </a:lnTo>
                  <a:lnTo>
                    <a:pt x="1001" y="852"/>
                  </a:lnTo>
                  <a:lnTo>
                    <a:pt x="994" y="861"/>
                  </a:lnTo>
                  <a:lnTo>
                    <a:pt x="987" y="869"/>
                  </a:lnTo>
                  <a:lnTo>
                    <a:pt x="978" y="875"/>
                  </a:lnTo>
                  <a:lnTo>
                    <a:pt x="969" y="882"/>
                  </a:lnTo>
                  <a:lnTo>
                    <a:pt x="958" y="886"/>
                  </a:lnTo>
                  <a:lnTo>
                    <a:pt x="947" y="889"/>
                  </a:lnTo>
                  <a:lnTo>
                    <a:pt x="936" y="891"/>
                  </a:lnTo>
                  <a:lnTo>
                    <a:pt x="923" y="892"/>
                  </a:lnTo>
                  <a:lnTo>
                    <a:pt x="910" y="889"/>
                  </a:lnTo>
                  <a:lnTo>
                    <a:pt x="896" y="886"/>
                  </a:lnTo>
                  <a:lnTo>
                    <a:pt x="881" y="882"/>
                  </a:lnTo>
                  <a:lnTo>
                    <a:pt x="870" y="891"/>
                  </a:lnTo>
                  <a:lnTo>
                    <a:pt x="859" y="897"/>
                  </a:lnTo>
                  <a:lnTo>
                    <a:pt x="849" y="901"/>
                  </a:lnTo>
                  <a:lnTo>
                    <a:pt x="839" y="904"/>
                  </a:lnTo>
                  <a:lnTo>
                    <a:pt x="832" y="905"/>
                  </a:lnTo>
                  <a:lnTo>
                    <a:pt x="823" y="905"/>
                  </a:lnTo>
                  <a:lnTo>
                    <a:pt x="817" y="903"/>
                  </a:lnTo>
                  <a:lnTo>
                    <a:pt x="809" y="899"/>
                  </a:lnTo>
                  <a:lnTo>
                    <a:pt x="802" y="895"/>
                  </a:lnTo>
                  <a:lnTo>
                    <a:pt x="796" y="891"/>
                  </a:lnTo>
                  <a:lnTo>
                    <a:pt x="790" y="884"/>
                  </a:lnTo>
                  <a:lnTo>
                    <a:pt x="785" y="879"/>
                  </a:lnTo>
                  <a:lnTo>
                    <a:pt x="774" y="864"/>
                  </a:lnTo>
                  <a:lnTo>
                    <a:pt x="763" y="850"/>
                  </a:lnTo>
                  <a:lnTo>
                    <a:pt x="752" y="837"/>
                  </a:lnTo>
                  <a:lnTo>
                    <a:pt x="740" y="826"/>
                  </a:lnTo>
                  <a:lnTo>
                    <a:pt x="734" y="822"/>
                  </a:lnTo>
                  <a:lnTo>
                    <a:pt x="727" y="820"/>
                  </a:lnTo>
                  <a:lnTo>
                    <a:pt x="721" y="818"/>
                  </a:lnTo>
                  <a:lnTo>
                    <a:pt x="713" y="816"/>
                  </a:lnTo>
                  <a:lnTo>
                    <a:pt x="704" y="818"/>
                  </a:lnTo>
                  <a:lnTo>
                    <a:pt x="696" y="821"/>
                  </a:lnTo>
                  <a:lnTo>
                    <a:pt x="687" y="825"/>
                  </a:lnTo>
                  <a:lnTo>
                    <a:pt x="677" y="832"/>
                  </a:lnTo>
                  <a:lnTo>
                    <a:pt x="666" y="840"/>
                  </a:lnTo>
                  <a:lnTo>
                    <a:pt x="655" y="851"/>
                  </a:lnTo>
                  <a:lnTo>
                    <a:pt x="642" y="866"/>
                  </a:lnTo>
                  <a:lnTo>
                    <a:pt x="629" y="882"/>
                  </a:lnTo>
                  <a:lnTo>
                    <a:pt x="623" y="882"/>
                  </a:lnTo>
                  <a:lnTo>
                    <a:pt x="605" y="886"/>
                  </a:lnTo>
                  <a:lnTo>
                    <a:pt x="594" y="889"/>
                  </a:lnTo>
                  <a:lnTo>
                    <a:pt x="583" y="895"/>
                  </a:lnTo>
                  <a:lnTo>
                    <a:pt x="578" y="898"/>
                  </a:lnTo>
                  <a:lnTo>
                    <a:pt x="573" y="903"/>
                  </a:lnTo>
                  <a:lnTo>
                    <a:pt x="568" y="908"/>
                  </a:lnTo>
                  <a:lnTo>
                    <a:pt x="564" y="913"/>
                  </a:lnTo>
                  <a:lnTo>
                    <a:pt x="559" y="920"/>
                  </a:lnTo>
                  <a:lnTo>
                    <a:pt x="556" y="927"/>
                  </a:lnTo>
                  <a:lnTo>
                    <a:pt x="553" y="934"/>
                  </a:lnTo>
                  <a:lnTo>
                    <a:pt x="551" y="943"/>
                  </a:lnTo>
                  <a:lnTo>
                    <a:pt x="548" y="953"/>
                  </a:lnTo>
                  <a:lnTo>
                    <a:pt x="547" y="964"/>
                  </a:lnTo>
                  <a:lnTo>
                    <a:pt x="548" y="976"/>
                  </a:lnTo>
                  <a:lnTo>
                    <a:pt x="549" y="988"/>
                  </a:lnTo>
                  <a:lnTo>
                    <a:pt x="552" y="1002"/>
                  </a:lnTo>
                  <a:lnTo>
                    <a:pt x="555" y="1017"/>
                  </a:lnTo>
                  <a:lnTo>
                    <a:pt x="560" y="1033"/>
                  </a:lnTo>
                  <a:lnTo>
                    <a:pt x="567" y="1051"/>
                  </a:lnTo>
                  <a:lnTo>
                    <a:pt x="575" y="1069"/>
                  </a:lnTo>
                  <a:lnTo>
                    <a:pt x="584" y="1089"/>
                  </a:lnTo>
                  <a:lnTo>
                    <a:pt x="595" y="1111"/>
                  </a:lnTo>
                  <a:lnTo>
                    <a:pt x="608" y="1134"/>
                  </a:lnTo>
                  <a:lnTo>
                    <a:pt x="604" y="1130"/>
                  </a:lnTo>
                  <a:lnTo>
                    <a:pt x="593" y="1124"/>
                  </a:lnTo>
                  <a:lnTo>
                    <a:pt x="585" y="1119"/>
                  </a:lnTo>
                  <a:lnTo>
                    <a:pt x="576" y="1117"/>
                  </a:lnTo>
                  <a:lnTo>
                    <a:pt x="565" y="1115"/>
                  </a:lnTo>
                  <a:lnTo>
                    <a:pt x="553" y="1115"/>
                  </a:lnTo>
                  <a:lnTo>
                    <a:pt x="546" y="1116"/>
                  </a:lnTo>
                  <a:lnTo>
                    <a:pt x="540" y="1117"/>
                  </a:lnTo>
                  <a:lnTo>
                    <a:pt x="532" y="1119"/>
                  </a:lnTo>
                  <a:lnTo>
                    <a:pt x="526" y="1123"/>
                  </a:lnTo>
                  <a:lnTo>
                    <a:pt x="518" y="1126"/>
                  </a:lnTo>
                  <a:lnTo>
                    <a:pt x="509" y="1130"/>
                  </a:lnTo>
                  <a:lnTo>
                    <a:pt x="502" y="1136"/>
                  </a:lnTo>
                  <a:lnTo>
                    <a:pt x="493" y="1142"/>
                  </a:lnTo>
                  <a:lnTo>
                    <a:pt x="484" y="1150"/>
                  </a:lnTo>
                  <a:lnTo>
                    <a:pt x="475" y="1159"/>
                  </a:lnTo>
                  <a:lnTo>
                    <a:pt x="467" y="1169"/>
                  </a:lnTo>
                  <a:lnTo>
                    <a:pt x="458" y="1179"/>
                  </a:lnTo>
                  <a:lnTo>
                    <a:pt x="448" y="1193"/>
                  </a:lnTo>
                  <a:lnTo>
                    <a:pt x="438" y="1207"/>
                  </a:lnTo>
                  <a:lnTo>
                    <a:pt x="429" y="1222"/>
                  </a:lnTo>
                  <a:lnTo>
                    <a:pt x="420" y="1238"/>
                  </a:lnTo>
                  <a:lnTo>
                    <a:pt x="400" y="1220"/>
                  </a:lnTo>
                  <a:lnTo>
                    <a:pt x="377" y="1197"/>
                  </a:lnTo>
                  <a:lnTo>
                    <a:pt x="354" y="1174"/>
                  </a:lnTo>
                  <a:lnTo>
                    <a:pt x="336" y="1154"/>
                  </a:lnTo>
                  <a:lnTo>
                    <a:pt x="329" y="1134"/>
                  </a:lnTo>
                  <a:lnTo>
                    <a:pt x="322" y="1113"/>
                  </a:lnTo>
                  <a:lnTo>
                    <a:pt x="313" y="1094"/>
                  </a:lnTo>
                  <a:lnTo>
                    <a:pt x="303" y="1076"/>
                  </a:lnTo>
                  <a:lnTo>
                    <a:pt x="292" y="1058"/>
                  </a:lnTo>
                  <a:lnTo>
                    <a:pt x="281" y="1042"/>
                  </a:lnTo>
                  <a:lnTo>
                    <a:pt x="269" y="1026"/>
                  </a:lnTo>
                  <a:lnTo>
                    <a:pt x="256" y="1010"/>
                  </a:lnTo>
                  <a:lnTo>
                    <a:pt x="229" y="981"/>
                  </a:lnTo>
                  <a:lnTo>
                    <a:pt x="202" y="953"/>
                  </a:lnTo>
                  <a:lnTo>
                    <a:pt x="172" y="925"/>
                  </a:lnTo>
                  <a:lnTo>
                    <a:pt x="144" y="897"/>
                  </a:lnTo>
                  <a:lnTo>
                    <a:pt x="116" y="870"/>
                  </a:lnTo>
                  <a:lnTo>
                    <a:pt x="90" y="840"/>
                  </a:lnTo>
                  <a:lnTo>
                    <a:pt x="77" y="825"/>
                  </a:lnTo>
                  <a:lnTo>
                    <a:pt x="65" y="810"/>
                  </a:lnTo>
                  <a:lnTo>
                    <a:pt x="54" y="794"/>
                  </a:lnTo>
                  <a:lnTo>
                    <a:pt x="44" y="777"/>
                  </a:lnTo>
                  <a:lnTo>
                    <a:pt x="34" y="760"/>
                  </a:lnTo>
                  <a:lnTo>
                    <a:pt x="25" y="741"/>
                  </a:lnTo>
                  <a:lnTo>
                    <a:pt x="18" y="722"/>
                  </a:lnTo>
                  <a:lnTo>
                    <a:pt x="11" y="701"/>
                  </a:lnTo>
                  <a:lnTo>
                    <a:pt x="7" y="680"/>
                  </a:lnTo>
                  <a:lnTo>
                    <a:pt x="2" y="657"/>
                  </a:lnTo>
                  <a:lnTo>
                    <a:pt x="0" y="634"/>
                  </a:lnTo>
                  <a:lnTo>
                    <a:pt x="0" y="609"/>
                  </a:lnTo>
                  <a:lnTo>
                    <a:pt x="0" y="594"/>
                  </a:lnTo>
                  <a:lnTo>
                    <a:pt x="2" y="580"/>
                  </a:lnTo>
                  <a:lnTo>
                    <a:pt x="5" y="566"/>
                  </a:lnTo>
                  <a:lnTo>
                    <a:pt x="9" y="554"/>
                  </a:lnTo>
                  <a:lnTo>
                    <a:pt x="13" y="542"/>
                  </a:lnTo>
                  <a:lnTo>
                    <a:pt x="19" y="530"/>
                  </a:lnTo>
                  <a:lnTo>
                    <a:pt x="24" y="519"/>
                  </a:lnTo>
                  <a:lnTo>
                    <a:pt x="32" y="509"/>
                  </a:lnTo>
                  <a:lnTo>
                    <a:pt x="46" y="489"/>
                  </a:lnTo>
                  <a:lnTo>
                    <a:pt x="62" y="472"/>
                  </a:lnTo>
                  <a:lnTo>
                    <a:pt x="80" y="456"/>
                  </a:lnTo>
                  <a:lnTo>
                    <a:pt x="97" y="438"/>
                  </a:lnTo>
                  <a:lnTo>
                    <a:pt x="112" y="422"/>
                  </a:lnTo>
                  <a:lnTo>
                    <a:pt x="128" y="404"/>
                  </a:lnTo>
                  <a:lnTo>
                    <a:pt x="134" y="395"/>
                  </a:lnTo>
                  <a:lnTo>
                    <a:pt x="141" y="385"/>
                  </a:lnTo>
                  <a:lnTo>
                    <a:pt x="145" y="375"/>
                  </a:lnTo>
                  <a:lnTo>
                    <a:pt x="151" y="364"/>
                  </a:lnTo>
                  <a:lnTo>
                    <a:pt x="154" y="353"/>
                  </a:lnTo>
                  <a:lnTo>
                    <a:pt x="156" y="341"/>
                  </a:lnTo>
                  <a:lnTo>
                    <a:pt x="158" y="328"/>
                  </a:lnTo>
                  <a:lnTo>
                    <a:pt x="158" y="315"/>
                  </a:lnTo>
                  <a:lnTo>
                    <a:pt x="157" y="301"/>
                  </a:lnTo>
                  <a:lnTo>
                    <a:pt x="155" y="286"/>
                  </a:lnTo>
                  <a:lnTo>
                    <a:pt x="152" y="269"/>
                  </a:lnTo>
                  <a:lnTo>
                    <a:pt x="146" y="252"/>
                  </a:lnTo>
                  <a:lnTo>
                    <a:pt x="193" y="256"/>
                  </a:lnTo>
                  <a:lnTo>
                    <a:pt x="237" y="258"/>
                  </a:lnTo>
                  <a:lnTo>
                    <a:pt x="276" y="261"/>
                  </a:lnTo>
                  <a:lnTo>
                    <a:pt x="312" y="262"/>
                  </a:lnTo>
                  <a:lnTo>
                    <a:pt x="344" y="262"/>
                  </a:lnTo>
                  <a:lnTo>
                    <a:pt x="372" y="261"/>
                  </a:lnTo>
                  <a:lnTo>
                    <a:pt x="398" y="259"/>
                  </a:lnTo>
                  <a:lnTo>
                    <a:pt x="420" y="257"/>
                  </a:lnTo>
                  <a:lnTo>
                    <a:pt x="439" y="254"/>
                  </a:lnTo>
                  <a:lnTo>
                    <a:pt x="457" y="251"/>
                  </a:lnTo>
                  <a:lnTo>
                    <a:pt x="471" y="246"/>
                  </a:lnTo>
                  <a:lnTo>
                    <a:pt x="483" y="241"/>
                  </a:lnTo>
                  <a:lnTo>
                    <a:pt x="493" y="235"/>
                  </a:lnTo>
                  <a:lnTo>
                    <a:pt x="500" y="228"/>
                  </a:lnTo>
                  <a:lnTo>
                    <a:pt x="507" y="221"/>
                  </a:lnTo>
                  <a:lnTo>
                    <a:pt x="511" y="213"/>
                  </a:lnTo>
                  <a:lnTo>
                    <a:pt x="514" y="204"/>
                  </a:lnTo>
                  <a:lnTo>
                    <a:pt x="515" y="195"/>
                  </a:lnTo>
                  <a:lnTo>
                    <a:pt x="516" y="185"/>
                  </a:lnTo>
                  <a:lnTo>
                    <a:pt x="515" y="174"/>
                  </a:lnTo>
                  <a:lnTo>
                    <a:pt x="510" y="152"/>
                  </a:lnTo>
                  <a:lnTo>
                    <a:pt x="504" y="125"/>
                  </a:lnTo>
                  <a:lnTo>
                    <a:pt x="496" y="97"/>
                  </a:lnTo>
                  <a:lnTo>
                    <a:pt x="490" y="68"/>
                  </a:lnTo>
                  <a:lnTo>
                    <a:pt x="486" y="51"/>
                  </a:lnTo>
                  <a:lnTo>
                    <a:pt x="484" y="35"/>
                  </a:lnTo>
                  <a:lnTo>
                    <a:pt x="483" y="17"/>
                  </a:lnTo>
                  <a:lnTo>
                    <a:pt x="482" y="0"/>
                  </a:lnTo>
                  <a:lnTo>
                    <a:pt x="797" y="22"/>
                  </a:lnTo>
                  <a:close/>
                </a:path>
              </a:pathLst>
            </a:custGeom>
            <a:solidFill>
              <a:srgbClr val="dede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3" name="Freeform 11"/>
            <p:cNvSpPr/>
            <p:nvPr/>
          </p:nvSpPr>
          <p:spPr>
            <a:xfrm>
              <a:off x="2272320" y="3614040"/>
              <a:ext cx="291960" cy="338760"/>
            </a:xfrm>
            <a:custGeom>
              <a:avLst/>
              <a:gdLst>
                <a:gd name="textAreaLeft" fmla="*/ 0 w 291960"/>
                <a:gd name="textAreaRight" fmla="*/ 292320 w 291960"/>
                <a:gd name="textAreaTop" fmla="*/ 0 h 338760"/>
                <a:gd name="textAreaBottom" fmla="*/ 339120 h 338760"/>
              </a:gdLst>
              <a:ahLst/>
              <a:rect l="textAreaLeft" t="textAreaTop" r="textAreaRight" b="textAreaBottom"/>
              <a:pathLst>
                <a:path w="1056" h="1238">
                  <a:moveTo>
                    <a:pt x="797" y="22"/>
                  </a:moveTo>
                  <a:lnTo>
                    <a:pt x="793" y="28"/>
                  </a:lnTo>
                  <a:lnTo>
                    <a:pt x="783" y="48"/>
                  </a:lnTo>
                  <a:lnTo>
                    <a:pt x="777" y="61"/>
                  </a:lnTo>
                  <a:lnTo>
                    <a:pt x="773" y="75"/>
                  </a:lnTo>
                  <a:lnTo>
                    <a:pt x="769" y="92"/>
                  </a:lnTo>
                  <a:lnTo>
                    <a:pt x="765" y="108"/>
                  </a:lnTo>
                  <a:lnTo>
                    <a:pt x="764" y="117"/>
                  </a:lnTo>
                  <a:lnTo>
                    <a:pt x="764" y="124"/>
                  </a:lnTo>
                  <a:lnTo>
                    <a:pt x="765" y="133"/>
                  </a:lnTo>
                  <a:lnTo>
                    <a:pt x="766" y="142"/>
                  </a:lnTo>
                  <a:lnTo>
                    <a:pt x="769" y="149"/>
                  </a:lnTo>
                  <a:lnTo>
                    <a:pt x="771" y="157"/>
                  </a:lnTo>
                  <a:lnTo>
                    <a:pt x="774" y="165"/>
                  </a:lnTo>
                  <a:lnTo>
                    <a:pt x="779" y="172"/>
                  </a:lnTo>
                  <a:lnTo>
                    <a:pt x="785" y="179"/>
                  </a:lnTo>
                  <a:lnTo>
                    <a:pt x="791" y="185"/>
                  </a:lnTo>
                  <a:lnTo>
                    <a:pt x="800" y="191"/>
                  </a:lnTo>
                  <a:lnTo>
                    <a:pt x="809" y="196"/>
                  </a:lnTo>
                  <a:lnTo>
                    <a:pt x="820" y="201"/>
                  </a:lnTo>
                  <a:lnTo>
                    <a:pt x="832" y="205"/>
                  </a:lnTo>
                  <a:lnTo>
                    <a:pt x="845" y="208"/>
                  </a:lnTo>
                  <a:lnTo>
                    <a:pt x="860" y="210"/>
                  </a:lnTo>
                  <a:lnTo>
                    <a:pt x="867" y="207"/>
                  </a:lnTo>
                  <a:lnTo>
                    <a:pt x="886" y="200"/>
                  </a:lnTo>
                  <a:lnTo>
                    <a:pt x="898" y="195"/>
                  </a:lnTo>
                  <a:lnTo>
                    <a:pt x="911" y="191"/>
                  </a:lnTo>
                  <a:lnTo>
                    <a:pt x="927" y="186"/>
                  </a:lnTo>
                  <a:lnTo>
                    <a:pt x="941" y="184"/>
                  </a:lnTo>
                  <a:lnTo>
                    <a:pt x="956" y="183"/>
                  </a:lnTo>
                  <a:lnTo>
                    <a:pt x="969" y="184"/>
                  </a:lnTo>
                  <a:lnTo>
                    <a:pt x="976" y="185"/>
                  </a:lnTo>
                  <a:lnTo>
                    <a:pt x="982" y="186"/>
                  </a:lnTo>
                  <a:lnTo>
                    <a:pt x="988" y="190"/>
                  </a:lnTo>
                  <a:lnTo>
                    <a:pt x="993" y="193"/>
                  </a:lnTo>
                  <a:lnTo>
                    <a:pt x="997" y="196"/>
                  </a:lnTo>
                  <a:lnTo>
                    <a:pt x="1001" y="202"/>
                  </a:lnTo>
                  <a:lnTo>
                    <a:pt x="1004" y="207"/>
                  </a:lnTo>
                  <a:lnTo>
                    <a:pt x="1006" y="215"/>
                  </a:lnTo>
                  <a:lnTo>
                    <a:pt x="1008" y="222"/>
                  </a:lnTo>
                  <a:lnTo>
                    <a:pt x="1008" y="231"/>
                  </a:lnTo>
                  <a:lnTo>
                    <a:pt x="1008" y="241"/>
                  </a:lnTo>
                  <a:lnTo>
                    <a:pt x="1007" y="252"/>
                  </a:lnTo>
                  <a:lnTo>
                    <a:pt x="1016" y="256"/>
                  </a:lnTo>
                  <a:lnTo>
                    <a:pt x="1024" y="262"/>
                  </a:lnTo>
                  <a:lnTo>
                    <a:pt x="1029" y="267"/>
                  </a:lnTo>
                  <a:lnTo>
                    <a:pt x="1034" y="273"/>
                  </a:lnTo>
                  <a:lnTo>
                    <a:pt x="1038" y="279"/>
                  </a:lnTo>
                  <a:lnTo>
                    <a:pt x="1040" y="286"/>
                  </a:lnTo>
                  <a:lnTo>
                    <a:pt x="1041" y="292"/>
                  </a:lnTo>
                  <a:lnTo>
                    <a:pt x="1041" y="300"/>
                  </a:lnTo>
                  <a:lnTo>
                    <a:pt x="1040" y="307"/>
                  </a:lnTo>
                  <a:lnTo>
                    <a:pt x="1039" y="315"/>
                  </a:lnTo>
                  <a:lnTo>
                    <a:pt x="1036" y="323"/>
                  </a:lnTo>
                  <a:lnTo>
                    <a:pt x="1033" y="330"/>
                  </a:lnTo>
                  <a:lnTo>
                    <a:pt x="1025" y="347"/>
                  </a:lnTo>
                  <a:lnTo>
                    <a:pt x="1015" y="362"/>
                  </a:lnTo>
                  <a:lnTo>
                    <a:pt x="1003" y="378"/>
                  </a:lnTo>
                  <a:lnTo>
                    <a:pt x="991" y="392"/>
                  </a:lnTo>
                  <a:lnTo>
                    <a:pt x="980" y="406"/>
                  </a:lnTo>
                  <a:lnTo>
                    <a:pt x="968" y="418"/>
                  </a:lnTo>
                  <a:lnTo>
                    <a:pt x="951" y="435"/>
                  </a:lnTo>
                  <a:lnTo>
                    <a:pt x="944" y="442"/>
                  </a:lnTo>
                  <a:lnTo>
                    <a:pt x="949" y="447"/>
                  </a:lnTo>
                  <a:lnTo>
                    <a:pt x="966" y="462"/>
                  </a:lnTo>
                  <a:lnTo>
                    <a:pt x="977" y="473"/>
                  </a:lnTo>
                  <a:lnTo>
                    <a:pt x="988" y="486"/>
                  </a:lnTo>
                  <a:lnTo>
                    <a:pt x="1000" y="501"/>
                  </a:lnTo>
                  <a:lnTo>
                    <a:pt x="1012" y="517"/>
                  </a:lnTo>
                  <a:lnTo>
                    <a:pt x="1024" y="534"/>
                  </a:lnTo>
                  <a:lnTo>
                    <a:pt x="1033" y="553"/>
                  </a:lnTo>
                  <a:lnTo>
                    <a:pt x="1043" y="572"/>
                  </a:lnTo>
                  <a:lnTo>
                    <a:pt x="1050" y="592"/>
                  </a:lnTo>
                  <a:lnTo>
                    <a:pt x="1053" y="602"/>
                  </a:lnTo>
                  <a:lnTo>
                    <a:pt x="1054" y="612"/>
                  </a:lnTo>
                  <a:lnTo>
                    <a:pt x="1056" y="621"/>
                  </a:lnTo>
                  <a:lnTo>
                    <a:pt x="1056" y="632"/>
                  </a:lnTo>
                  <a:lnTo>
                    <a:pt x="1056" y="642"/>
                  </a:lnTo>
                  <a:lnTo>
                    <a:pt x="1054" y="652"/>
                  </a:lnTo>
                  <a:lnTo>
                    <a:pt x="1052" y="662"/>
                  </a:lnTo>
                  <a:lnTo>
                    <a:pt x="1049" y="671"/>
                  </a:lnTo>
                  <a:lnTo>
                    <a:pt x="1049" y="683"/>
                  </a:lnTo>
                  <a:lnTo>
                    <a:pt x="1046" y="714"/>
                  </a:lnTo>
                  <a:lnTo>
                    <a:pt x="1043" y="734"/>
                  </a:lnTo>
                  <a:lnTo>
                    <a:pt x="1040" y="755"/>
                  </a:lnTo>
                  <a:lnTo>
                    <a:pt x="1034" y="777"/>
                  </a:lnTo>
                  <a:lnTo>
                    <a:pt x="1028" y="800"/>
                  </a:lnTo>
                  <a:lnTo>
                    <a:pt x="1024" y="812"/>
                  </a:lnTo>
                  <a:lnTo>
                    <a:pt x="1019" y="823"/>
                  </a:lnTo>
                  <a:lnTo>
                    <a:pt x="1014" y="833"/>
                  </a:lnTo>
                  <a:lnTo>
                    <a:pt x="1007" y="843"/>
                  </a:lnTo>
                  <a:lnTo>
                    <a:pt x="1001" y="852"/>
                  </a:lnTo>
                  <a:lnTo>
                    <a:pt x="994" y="861"/>
                  </a:lnTo>
                  <a:lnTo>
                    <a:pt x="987" y="869"/>
                  </a:lnTo>
                  <a:lnTo>
                    <a:pt x="978" y="875"/>
                  </a:lnTo>
                  <a:lnTo>
                    <a:pt x="969" y="882"/>
                  </a:lnTo>
                  <a:lnTo>
                    <a:pt x="958" y="886"/>
                  </a:lnTo>
                  <a:lnTo>
                    <a:pt x="947" y="889"/>
                  </a:lnTo>
                  <a:lnTo>
                    <a:pt x="936" y="891"/>
                  </a:lnTo>
                  <a:lnTo>
                    <a:pt x="923" y="892"/>
                  </a:lnTo>
                  <a:lnTo>
                    <a:pt x="910" y="889"/>
                  </a:lnTo>
                  <a:lnTo>
                    <a:pt x="896" y="886"/>
                  </a:lnTo>
                  <a:lnTo>
                    <a:pt x="881" y="882"/>
                  </a:lnTo>
                  <a:lnTo>
                    <a:pt x="870" y="891"/>
                  </a:lnTo>
                  <a:lnTo>
                    <a:pt x="859" y="897"/>
                  </a:lnTo>
                  <a:lnTo>
                    <a:pt x="849" y="901"/>
                  </a:lnTo>
                  <a:lnTo>
                    <a:pt x="839" y="904"/>
                  </a:lnTo>
                  <a:lnTo>
                    <a:pt x="832" y="905"/>
                  </a:lnTo>
                  <a:lnTo>
                    <a:pt x="823" y="905"/>
                  </a:lnTo>
                  <a:lnTo>
                    <a:pt x="817" y="903"/>
                  </a:lnTo>
                  <a:lnTo>
                    <a:pt x="809" y="899"/>
                  </a:lnTo>
                  <a:lnTo>
                    <a:pt x="802" y="895"/>
                  </a:lnTo>
                  <a:lnTo>
                    <a:pt x="796" y="891"/>
                  </a:lnTo>
                  <a:lnTo>
                    <a:pt x="790" y="884"/>
                  </a:lnTo>
                  <a:lnTo>
                    <a:pt x="785" y="879"/>
                  </a:lnTo>
                  <a:lnTo>
                    <a:pt x="774" y="864"/>
                  </a:lnTo>
                  <a:lnTo>
                    <a:pt x="763" y="850"/>
                  </a:lnTo>
                  <a:lnTo>
                    <a:pt x="752" y="837"/>
                  </a:lnTo>
                  <a:lnTo>
                    <a:pt x="740" y="826"/>
                  </a:lnTo>
                  <a:lnTo>
                    <a:pt x="734" y="822"/>
                  </a:lnTo>
                  <a:lnTo>
                    <a:pt x="727" y="820"/>
                  </a:lnTo>
                  <a:lnTo>
                    <a:pt x="721" y="818"/>
                  </a:lnTo>
                  <a:lnTo>
                    <a:pt x="713" y="816"/>
                  </a:lnTo>
                  <a:lnTo>
                    <a:pt x="704" y="818"/>
                  </a:lnTo>
                  <a:lnTo>
                    <a:pt x="696" y="821"/>
                  </a:lnTo>
                  <a:lnTo>
                    <a:pt x="687" y="825"/>
                  </a:lnTo>
                  <a:lnTo>
                    <a:pt x="677" y="832"/>
                  </a:lnTo>
                  <a:lnTo>
                    <a:pt x="666" y="840"/>
                  </a:lnTo>
                  <a:lnTo>
                    <a:pt x="655" y="851"/>
                  </a:lnTo>
                  <a:lnTo>
                    <a:pt x="642" y="866"/>
                  </a:lnTo>
                  <a:lnTo>
                    <a:pt x="629" y="882"/>
                  </a:lnTo>
                  <a:lnTo>
                    <a:pt x="623" y="882"/>
                  </a:lnTo>
                  <a:lnTo>
                    <a:pt x="605" y="886"/>
                  </a:lnTo>
                  <a:lnTo>
                    <a:pt x="594" y="889"/>
                  </a:lnTo>
                  <a:lnTo>
                    <a:pt x="583" y="895"/>
                  </a:lnTo>
                  <a:lnTo>
                    <a:pt x="578" y="898"/>
                  </a:lnTo>
                  <a:lnTo>
                    <a:pt x="573" y="903"/>
                  </a:lnTo>
                  <a:lnTo>
                    <a:pt x="568" y="908"/>
                  </a:lnTo>
                  <a:lnTo>
                    <a:pt x="564" y="913"/>
                  </a:lnTo>
                  <a:lnTo>
                    <a:pt x="559" y="920"/>
                  </a:lnTo>
                  <a:lnTo>
                    <a:pt x="556" y="927"/>
                  </a:lnTo>
                  <a:lnTo>
                    <a:pt x="553" y="934"/>
                  </a:lnTo>
                  <a:lnTo>
                    <a:pt x="551" y="943"/>
                  </a:lnTo>
                  <a:lnTo>
                    <a:pt x="548" y="953"/>
                  </a:lnTo>
                  <a:lnTo>
                    <a:pt x="547" y="964"/>
                  </a:lnTo>
                  <a:lnTo>
                    <a:pt x="548" y="976"/>
                  </a:lnTo>
                  <a:lnTo>
                    <a:pt x="549" y="988"/>
                  </a:lnTo>
                  <a:lnTo>
                    <a:pt x="552" y="1002"/>
                  </a:lnTo>
                  <a:lnTo>
                    <a:pt x="555" y="1017"/>
                  </a:lnTo>
                  <a:lnTo>
                    <a:pt x="560" y="1033"/>
                  </a:lnTo>
                  <a:lnTo>
                    <a:pt x="567" y="1051"/>
                  </a:lnTo>
                  <a:lnTo>
                    <a:pt x="575" y="1069"/>
                  </a:lnTo>
                  <a:lnTo>
                    <a:pt x="584" y="1089"/>
                  </a:lnTo>
                  <a:lnTo>
                    <a:pt x="595" y="1111"/>
                  </a:lnTo>
                  <a:lnTo>
                    <a:pt x="608" y="1134"/>
                  </a:lnTo>
                  <a:lnTo>
                    <a:pt x="604" y="1130"/>
                  </a:lnTo>
                  <a:lnTo>
                    <a:pt x="593" y="1124"/>
                  </a:lnTo>
                  <a:lnTo>
                    <a:pt x="585" y="1119"/>
                  </a:lnTo>
                  <a:lnTo>
                    <a:pt x="576" y="1117"/>
                  </a:lnTo>
                  <a:lnTo>
                    <a:pt x="565" y="1115"/>
                  </a:lnTo>
                  <a:lnTo>
                    <a:pt x="553" y="1115"/>
                  </a:lnTo>
                  <a:lnTo>
                    <a:pt x="546" y="1116"/>
                  </a:lnTo>
                  <a:lnTo>
                    <a:pt x="540" y="1117"/>
                  </a:lnTo>
                  <a:lnTo>
                    <a:pt x="532" y="1119"/>
                  </a:lnTo>
                  <a:lnTo>
                    <a:pt x="526" y="1123"/>
                  </a:lnTo>
                  <a:lnTo>
                    <a:pt x="518" y="1126"/>
                  </a:lnTo>
                  <a:lnTo>
                    <a:pt x="509" y="1130"/>
                  </a:lnTo>
                  <a:lnTo>
                    <a:pt x="502" y="1136"/>
                  </a:lnTo>
                  <a:lnTo>
                    <a:pt x="493" y="1142"/>
                  </a:lnTo>
                  <a:lnTo>
                    <a:pt x="484" y="1150"/>
                  </a:lnTo>
                  <a:lnTo>
                    <a:pt x="475" y="1159"/>
                  </a:lnTo>
                  <a:lnTo>
                    <a:pt x="467" y="1169"/>
                  </a:lnTo>
                  <a:lnTo>
                    <a:pt x="458" y="1179"/>
                  </a:lnTo>
                  <a:lnTo>
                    <a:pt x="448" y="1193"/>
                  </a:lnTo>
                  <a:lnTo>
                    <a:pt x="438" y="1207"/>
                  </a:lnTo>
                  <a:lnTo>
                    <a:pt x="429" y="1222"/>
                  </a:lnTo>
                  <a:lnTo>
                    <a:pt x="420" y="1238"/>
                  </a:lnTo>
                  <a:lnTo>
                    <a:pt x="400" y="1220"/>
                  </a:lnTo>
                  <a:lnTo>
                    <a:pt x="377" y="1197"/>
                  </a:lnTo>
                  <a:lnTo>
                    <a:pt x="354" y="1174"/>
                  </a:lnTo>
                  <a:lnTo>
                    <a:pt x="336" y="1154"/>
                  </a:lnTo>
                  <a:lnTo>
                    <a:pt x="329" y="1134"/>
                  </a:lnTo>
                  <a:lnTo>
                    <a:pt x="322" y="1113"/>
                  </a:lnTo>
                  <a:lnTo>
                    <a:pt x="313" y="1094"/>
                  </a:lnTo>
                  <a:lnTo>
                    <a:pt x="303" y="1076"/>
                  </a:lnTo>
                  <a:lnTo>
                    <a:pt x="292" y="1058"/>
                  </a:lnTo>
                  <a:lnTo>
                    <a:pt x="281" y="1042"/>
                  </a:lnTo>
                  <a:lnTo>
                    <a:pt x="269" y="1026"/>
                  </a:lnTo>
                  <a:lnTo>
                    <a:pt x="256" y="1010"/>
                  </a:lnTo>
                  <a:lnTo>
                    <a:pt x="229" y="981"/>
                  </a:lnTo>
                  <a:lnTo>
                    <a:pt x="202" y="953"/>
                  </a:lnTo>
                  <a:lnTo>
                    <a:pt x="172" y="925"/>
                  </a:lnTo>
                  <a:lnTo>
                    <a:pt x="144" y="897"/>
                  </a:lnTo>
                  <a:lnTo>
                    <a:pt x="116" y="870"/>
                  </a:lnTo>
                  <a:lnTo>
                    <a:pt x="90" y="840"/>
                  </a:lnTo>
                  <a:lnTo>
                    <a:pt x="77" y="825"/>
                  </a:lnTo>
                  <a:lnTo>
                    <a:pt x="65" y="810"/>
                  </a:lnTo>
                  <a:lnTo>
                    <a:pt x="54" y="794"/>
                  </a:lnTo>
                  <a:lnTo>
                    <a:pt x="44" y="777"/>
                  </a:lnTo>
                  <a:lnTo>
                    <a:pt x="34" y="760"/>
                  </a:lnTo>
                  <a:lnTo>
                    <a:pt x="25" y="741"/>
                  </a:lnTo>
                  <a:lnTo>
                    <a:pt x="18" y="722"/>
                  </a:lnTo>
                  <a:lnTo>
                    <a:pt x="11" y="701"/>
                  </a:lnTo>
                  <a:lnTo>
                    <a:pt x="7" y="680"/>
                  </a:lnTo>
                  <a:lnTo>
                    <a:pt x="2" y="657"/>
                  </a:lnTo>
                  <a:lnTo>
                    <a:pt x="0" y="634"/>
                  </a:lnTo>
                  <a:lnTo>
                    <a:pt x="0" y="609"/>
                  </a:lnTo>
                  <a:lnTo>
                    <a:pt x="0" y="594"/>
                  </a:lnTo>
                  <a:lnTo>
                    <a:pt x="2" y="580"/>
                  </a:lnTo>
                  <a:lnTo>
                    <a:pt x="5" y="566"/>
                  </a:lnTo>
                  <a:lnTo>
                    <a:pt x="9" y="554"/>
                  </a:lnTo>
                  <a:lnTo>
                    <a:pt x="13" y="542"/>
                  </a:lnTo>
                  <a:lnTo>
                    <a:pt x="19" y="530"/>
                  </a:lnTo>
                  <a:lnTo>
                    <a:pt x="24" y="519"/>
                  </a:lnTo>
                  <a:lnTo>
                    <a:pt x="32" y="509"/>
                  </a:lnTo>
                  <a:lnTo>
                    <a:pt x="46" y="489"/>
                  </a:lnTo>
                  <a:lnTo>
                    <a:pt x="62" y="472"/>
                  </a:lnTo>
                  <a:lnTo>
                    <a:pt x="80" y="456"/>
                  </a:lnTo>
                  <a:lnTo>
                    <a:pt x="97" y="438"/>
                  </a:lnTo>
                  <a:lnTo>
                    <a:pt x="112" y="422"/>
                  </a:lnTo>
                  <a:lnTo>
                    <a:pt x="128" y="404"/>
                  </a:lnTo>
                  <a:lnTo>
                    <a:pt x="134" y="395"/>
                  </a:lnTo>
                  <a:lnTo>
                    <a:pt x="141" y="385"/>
                  </a:lnTo>
                  <a:lnTo>
                    <a:pt x="145" y="375"/>
                  </a:lnTo>
                  <a:lnTo>
                    <a:pt x="151" y="364"/>
                  </a:lnTo>
                  <a:lnTo>
                    <a:pt x="154" y="353"/>
                  </a:lnTo>
                  <a:lnTo>
                    <a:pt x="156" y="341"/>
                  </a:lnTo>
                  <a:lnTo>
                    <a:pt x="158" y="328"/>
                  </a:lnTo>
                  <a:lnTo>
                    <a:pt x="158" y="315"/>
                  </a:lnTo>
                  <a:lnTo>
                    <a:pt x="157" y="301"/>
                  </a:lnTo>
                  <a:lnTo>
                    <a:pt x="155" y="286"/>
                  </a:lnTo>
                  <a:lnTo>
                    <a:pt x="152" y="269"/>
                  </a:lnTo>
                  <a:lnTo>
                    <a:pt x="146" y="252"/>
                  </a:lnTo>
                  <a:lnTo>
                    <a:pt x="193" y="256"/>
                  </a:lnTo>
                  <a:lnTo>
                    <a:pt x="237" y="258"/>
                  </a:lnTo>
                  <a:lnTo>
                    <a:pt x="276" y="261"/>
                  </a:lnTo>
                  <a:lnTo>
                    <a:pt x="312" y="262"/>
                  </a:lnTo>
                  <a:lnTo>
                    <a:pt x="344" y="262"/>
                  </a:lnTo>
                  <a:lnTo>
                    <a:pt x="372" y="261"/>
                  </a:lnTo>
                  <a:lnTo>
                    <a:pt x="398" y="259"/>
                  </a:lnTo>
                  <a:lnTo>
                    <a:pt x="420" y="257"/>
                  </a:lnTo>
                  <a:lnTo>
                    <a:pt x="439" y="254"/>
                  </a:lnTo>
                  <a:lnTo>
                    <a:pt x="457" y="251"/>
                  </a:lnTo>
                  <a:lnTo>
                    <a:pt x="471" y="246"/>
                  </a:lnTo>
                  <a:lnTo>
                    <a:pt x="483" y="241"/>
                  </a:lnTo>
                  <a:lnTo>
                    <a:pt x="493" y="235"/>
                  </a:lnTo>
                  <a:lnTo>
                    <a:pt x="500" y="228"/>
                  </a:lnTo>
                  <a:lnTo>
                    <a:pt x="507" y="221"/>
                  </a:lnTo>
                  <a:lnTo>
                    <a:pt x="511" y="213"/>
                  </a:lnTo>
                  <a:lnTo>
                    <a:pt x="514" y="204"/>
                  </a:lnTo>
                  <a:lnTo>
                    <a:pt x="515" y="195"/>
                  </a:lnTo>
                  <a:lnTo>
                    <a:pt x="516" y="185"/>
                  </a:lnTo>
                  <a:lnTo>
                    <a:pt x="515" y="174"/>
                  </a:lnTo>
                  <a:lnTo>
                    <a:pt x="510" y="152"/>
                  </a:lnTo>
                  <a:lnTo>
                    <a:pt x="504" y="125"/>
                  </a:lnTo>
                  <a:lnTo>
                    <a:pt x="496" y="97"/>
                  </a:lnTo>
                  <a:lnTo>
                    <a:pt x="490" y="68"/>
                  </a:lnTo>
                  <a:lnTo>
                    <a:pt x="486" y="51"/>
                  </a:lnTo>
                  <a:lnTo>
                    <a:pt x="484" y="35"/>
                  </a:lnTo>
                  <a:lnTo>
                    <a:pt x="483" y="17"/>
                  </a:lnTo>
                  <a:lnTo>
                    <a:pt x="482" y="0"/>
                  </a:lnTo>
                  <a:lnTo>
                    <a:pt x="797" y="22"/>
                  </a:lnTo>
                </a:path>
              </a:pathLst>
            </a:custGeom>
            <a:noFill/>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4" name="Freeform 12"/>
            <p:cNvSpPr/>
            <p:nvPr/>
          </p:nvSpPr>
          <p:spPr>
            <a:xfrm>
              <a:off x="2509920" y="2487240"/>
              <a:ext cx="486720" cy="846360"/>
            </a:xfrm>
            <a:custGeom>
              <a:avLst/>
              <a:gdLst>
                <a:gd name="textAreaLeft" fmla="*/ 0 w 486720"/>
                <a:gd name="textAreaRight" fmla="*/ 487080 w 486720"/>
                <a:gd name="textAreaTop" fmla="*/ 0 h 846360"/>
                <a:gd name="textAreaBottom" fmla="*/ 846720 h 846360"/>
              </a:gdLst>
              <a:ahLst/>
              <a:rect l="textAreaLeft" t="textAreaTop" r="textAreaRight" b="textAreaBottom"/>
              <a:pathLst>
                <a:path w="1762" h="3105">
                  <a:moveTo>
                    <a:pt x="252" y="84"/>
                  </a:moveTo>
                  <a:lnTo>
                    <a:pt x="231" y="335"/>
                  </a:lnTo>
                  <a:lnTo>
                    <a:pt x="247" y="363"/>
                  </a:lnTo>
                  <a:lnTo>
                    <a:pt x="263" y="388"/>
                  </a:lnTo>
                  <a:lnTo>
                    <a:pt x="276" y="412"/>
                  </a:lnTo>
                  <a:lnTo>
                    <a:pt x="289" y="434"/>
                  </a:lnTo>
                  <a:lnTo>
                    <a:pt x="299" y="454"/>
                  </a:lnTo>
                  <a:lnTo>
                    <a:pt x="309" y="475"/>
                  </a:lnTo>
                  <a:lnTo>
                    <a:pt x="316" y="494"/>
                  </a:lnTo>
                  <a:lnTo>
                    <a:pt x="324" y="511"/>
                  </a:lnTo>
                  <a:lnTo>
                    <a:pt x="329" y="527"/>
                  </a:lnTo>
                  <a:lnTo>
                    <a:pt x="334" y="543"/>
                  </a:lnTo>
                  <a:lnTo>
                    <a:pt x="337" y="557"/>
                  </a:lnTo>
                  <a:lnTo>
                    <a:pt x="340" y="571"/>
                  </a:lnTo>
                  <a:lnTo>
                    <a:pt x="342" y="584"/>
                  </a:lnTo>
                  <a:lnTo>
                    <a:pt x="343" y="596"/>
                  </a:lnTo>
                  <a:lnTo>
                    <a:pt x="343" y="608"/>
                  </a:lnTo>
                  <a:lnTo>
                    <a:pt x="343" y="619"/>
                  </a:lnTo>
                  <a:lnTo>
                    <a:pt x="341" y="640"/>
                  </a:lnTo>
                  <a:lnTo>
                    <a:pt x="338" y="659"/>
                  </a:lnTo>
                  <a:lnTo>
                    <a:pt x="334" y="678"/>
                  </a:lnTo>
                  <a:lnTo>
                    <a:pt x="328" y="695"/>
                  </a:lnTo>
                  <a:lnTo>
                    <a:pt x="323" y="714"/>
                  </a:lnTo>
                  <a:lnTo>
                    <a:pt x="318" y="733"/>
                  </a:lnTo>
                  <a:lnTo>
                    <a:pt x="316" y="754"/>
                  </a:lnTo>
                  <a:lnTo>
                    <a:pt x="315" y="776"/>
                  </a:lnTo>
                  <a:lnTo>
                    <a:pt x="316" y="912"/>
                  </a:lnTo>
                  <a:lnTo>
                    <a:pt x="318" y="1023"/>
                  </a:lnTo>
                  <a:lnTo>
                    <a:pt x="318" y="1072"/>
                  </a:lnTo>
                  <a:lnTo>
                    <a:pt x="317" y="1116"/>
                  </a:lnTo>
                  <a:lnTo>
                    <a:pt x="316" y="1137"/>
                  </a:lnTo>
                  <a:lnTo>
                    <a:pt x="314" y="1157"/>
                  </a:lnTo>
                  <a:lnTo>
                    <a:pt x="312" y="1177"/>
                  </a:lnTo>
                  <a:lnTo>
                    <a:pt x="310" y="1196"/>
                  </a:lnTo>
                  <a:lnTo>
                    <a:pt x="306" y="1214"/>
                  </a:lnTo>
                  <a:lnTo>
                    <a:pt x="302" y="1233"/>
                  </a:lnTo>
                  <a:lnTo>
                    <a:pt x="298" y="1250"/>
                  </a:lnTo>
                  <a:lnTo>
                    <a:pt x="292" y="1267"/>
                  </a:lnTo>
                  <a:lnTo>
                    <a:pt x="286" y="1285"/>
                  </a:lnTo>
                  <a:lnTo>
                    <a:pt x="279" y="1302"/>
                  </a:lnTo>
                  <a:lnTo>
                    <a:pt x="270" y="1320"/>
                  </a:lnTo>
                  <a:lnTo>
                    <a:pt x="262" y="1337"/>
                  </a:lnTo>
                  <a:lnTo>
                    <a:pt x="251" y="1355"/>
                  </a:lnTo>
                  <a:lnTo>
                    <a:pt x="240" y="1372"/>
                  </a:lnTo>
                  <a:lnTo>
                    <a:pt x="228" y="1391"/>
                  </a:lnTo>
                  <a:lnTo>
                    <a:pt x="214" y="1409"/>
                  </a:lnTo>
                  <a:lnTo>
                    <a:pt x="200" y="1428"/>
                  </a:lnTo>
                  <a:lnTo>
                    <a:pt x="183" y="1448"/>
                  </a:lnTo>
                  <a:lnTo>
                    <a:pt x="166" y="1468"/>
                  </a:lnTo>
                  <a:lnTo>
                    <a:pt x="147" y="1490"/>
                  </a:lnTo>
                  <a:lnTo>
                    <a:pt x="135" y="1502"/>
                  </a:lnTo>
                  <a:lnTo>
                    <a:pt x="124" y="1515"/>
                  </a:lnTo>
                  <a:lnTo>
                    <a:pt x="115" y="1529"/>
                  </a:lnTo>
                  <a:lnTo>
                    <a:pt x="106" y="1543"/>
                  </a:lnTo>
                  <a:lnTo>
                    <a:pt x="97" y="1557"/>
                  </a:lnTo>
                  <a:lnTo>
                    <a:pt x="89" y="1574"/>
                  </a:lnTo>
                  <a:lnTo>
                    <a:pt x="83" y="1589"/>
                  </a:lnTo>
                  <a:lnTo>
                    <a:pt x="76" y="1605"/>
                  </a:lnTo>
                  <a:lnTo>
                    <a:pt x="65" y="1638"/>
                  </a:lnTo>
                  <a:lnTo>
                    <a:pt x="56" y="1672"/>
                  </a:lnTo>
                  <a:lnTo>
                    <a:pt x="48" y="1706"/>
                  </a:lnTo>
                  <a:lnTo>
                    <a:pt x="42" y="1738"/>
                  </a:lnTo>
                  <a:lnTo>
                    <a:pt x="32" y="1800"/>
                  </a:lnTo>
                  <a:lnTo>
                    <a:pt x="23" y="1853"/>
                  </a:lnTo>
                  <a:lnTo>
                    <a:pt x="19" y="1873"/>
                  </a:lnTo>
                  <a:lnTo>
                    <a:pt x="13" y="1890"/>
                  </a:lnTo>
                  <a:lnTo>
                    <a:pt x="10" y="1897"/>
                  </a:lnTo>
                  <a:lnTo>
                    <a:pt x="7" y="1903"/>
                  </a:lnTo>
                  <a:lnTo>
                    <a:pt x="3" y="1906"/>
                  </a:lnTo>
                  <a:lnTo>
                    <a:pt x="0" y="1909"/>
                  </a:lnTo>
                  <a:lnTo>
                    <a:pt x="15" y="1931"/>
                  </a:lnTo>
                  <a:lnTo>
                    <a:pt x="31" y="1950"/>
                  </a:lnTo>
                  <a:lnTo>
                    <a:pt x="45" y="1966"/>
                  </a:lnTo>
                  <a:lnTo>
                    <a:pt x="58" y="1980"/>
                  </a:lnTo>
                  <a:lnTo>
                    <a:pt x="69" y="1993"/>
                  </a:lnTo>
                  <a:lnTo>
                    <a:pt x="76" y="2006"/>
                  </a:lnTo>
                  <a:lnTo>
                    <a:pt x="80" y="2013"/>
                  </a:lnTo>
                  <a:lnTo>
                    <a:pt x="82" y="2021"/>
                  </a:lnTo>
                  <a:lnTo>
                    <a:pt x="83" y="2027"/>
                  </a:lnTo>
                  <a:lnTo>
                    <a:pt x="84" y="2035"/>
                  </a:lnTo>
                  <a:lnTo>
                    <a:pt x="87" y="2037"/>
                  </a:lnTo>
                  <a:lnTo>
                    <a:pt x="98" y="2041"/>
                  </a:lnTo>
                  <a:lnTo>
                    <a:pt x="115" y="2049"/>
                  </a:lnTo>
                  <a:lnTo>
                    <a:pt x="136" y="2057"/>
                  </a:lnTo>
                  <a:lnTo>
                    <a:pt x="161" y="2064"/>
                  </a:lnTo>
                  <a:lnTo>
                    <a:pt x="190" y="2071"/>
                  </a:lnTo>
                  <a:lnTo>
                    <a:pt x="205" y="2073"/>
                  </a:lnTo>
                  <a:lnTo>
                    <a:pt x="220" y="2075"/>
                  </a:lnTo>
                  <a:lnTo>
                    <a:pt x="235" y="2076"/>
                  </a:lnTo>
                  <a:lnTo>
                    <a:pt x="252" y="2077"/>
                  </a:lnTo>
                  <a:lnTo>
                    <a:pt x="249" y="2082"/>
                  </a:lnTo>
                  <a:lnTo>
                    <a:pt x="245" y="2086"/>
                  </a:lnTo>
                  <a:lnTo>
                    <a:pt x="244" y="2091"/>
                  </a:lnTo>
                  <a:lnTo>
                    <a:pt x="243" y="2097"/>
                  </a:lnTo>
                  <a:lnTo>
                    <a:pt x="242" y="2110"/>
                  </a:lnTo>
                  <a:lnTo>
                    <a:pt x="244" y="2124"/>
                  </a:lnTo>
                  <a:lnTo>
                    <a:pt x="246" y="2141"/>
                  </a:lnTo>
                  <a:lnTo>
                    <a:pt x="249" y="2160"/>
                  </a:lnTo>
                  <a:lnTo>
                    <a:pt x="251" y="2181"/>
                  </a:lnTo>
                  <a:lnTo>
                    <a:pt x="252" y="2203"/>
                  </a:lnTo>
                  <a:lnTo>
                    <a:pt x="252" y="2234"/>
                  </a:lnTo>
                  <a:lnTo>
                    <a:pt x="254" y="2267"/>
                  </a:lnTo>
                  <a:lnTo>
                    <a:pt x="256" y="2299"/>
                  </a:lnTo>
                  <a:lnTo>
                    <a:pt x="259" y="2330"/>
                  </a:lnTo>
                  <a:lnTo>
                    <a:pt x="263" y="2362"/>
                  </a:lnTo>
                  <a:lnTo>
                    <a:pt x="268" y="2392"/>
                  </a:lnTo>
                  <a:lnTo>
                    <a:pt x="274" y="2422"/>
                  </a:lnTo>
                  <a:lnTo>
                    <a:pt x="280" y="2450"/>
                  </a:lnTo>
                  <a:lnTo>
                    <a:pt x="288" y="2476"/>
                  </a:lnTo>
                  <a:lnTo>
                    <a:pt x="295" y="2501"/>
                  </a:lnTo>
                  <a:lnTo>
                    <a:pt x="304" y="2524"/>
                  </a:lnTo>
                  <a:lnTo>
                    <a:pt x="314" y="2545"/>
                  </a:lnTo>
                  <a:lnTo>
                    <a:pt x="324" y="2563"/>
                  </a:lnTo>
                  <a:lnTo>
                    <a:pt x="334" y="2580"/>
                  </a:lnTo>
                  <a:lnTo>
                    <a:pt x="339" y="2586"/>
                  </a:lnTo>
                  <a:lnTo>
                    <a:pt x="344" y="2592"/>
                  </a:lnTo>
                  <a:lnTo>
                    <a:pt x="351" y="2597"/>
                  </a:lnTo>
                  <a:lnTo>
                    <a:pt x="356" y="2602"/>
                  </a:lnTo>
                  <a:lnTo>
                    <a:pt x="335" y="2601"/>
                  </a:lnTo>
                  <a:lnTo>
                    <a:pt x="303" y="2596"/>
                  </a:lnTo>
                  <a:lnTo>
                    <a:pt x="265" y="2593"/>
                  </a:lnTo>
                  <a:lnTo>
                    <a:pt x="226" y="2591"/>
                  </a:lnTo>
                  <a:lnTo>
                    <a:pt x="206" y="2592"/>
                  </a:lnTo>
                  <a:lnTo>
                    <a:pt x="188" y="2594"/>
                  </a:lnTo>
                  <a:lnTo>
                    <a:pt x="171" y="2597"/>
                  </a:lnTo>
                  <a:lnTo>
                    <a:pt x="156" y="2602"/>
                  </a:lnTo>
                  <a:lnTo>
                    <a:pt x="149" y="2605"/>
                  </a:lnTo>
                  <a:lnTo>
                    <a:pt x="143" y="2608"/>
                  </a:lnTo>
                  <a:lnTo>
                    <a:pt x="138" y="2613"/>
                  </a:lnTo>
                  <a:lnTo>
                    <a:pt x="134" y="2618"/>
                  </a:lnTo>
                  <a:lnTo>
                    <a:pt x="131" y="2623"/>
                  </a:lnTo>
                  <a:lnTo>
                    <a:pt x="128" y="2629"/>
                  </a:lnTo>
                  <a:lnTo>
                    <a:pt x="127" y="2636"/>
                  </a:lnTo>
                  <a:lnTo>
                    <a:pt x="125" y="2644"/>
                  </a:lnTo>
                  <a:lnTo>
                    <a:pt x="127" y="2663"/>
                  </a:lnTo>
                  <a:lnTo>
                    <a:pt x="128" y="2681"/>
                  </a:lnTo>
                  <a:lnTo>
                    <a:pt x="131" y="2698"/>
                  </a:lnTo>
                  <a:lnTo>
                    <a:pt x="135" y="2714"/>
                  </a:lnTo>
                  <a:lnTo>
                    <a:pt x="140" y="2728"/>
                  </a:lnTo>
                  <a:lnTo>
                    <a:pt x="145" y="2742"/>
                  </a:lnTo>
                  <a:lnTo>
                    <a:pt x="152" y="2756"/>
                  </a:lnTo>
                  <a:lnTo>
                    <a:pt x="158" y="2769"/>
                  </a:lnTo>
                  <a:lnTo>
                    <a:pt x="166" y="2781"/>
                  </a:lnTo>
                  <a:lnTo>
                    <a:pt x="174" y="2793"/>
                  </a:lnTo>
                  <a:lnTo>
                    <a:pt x="183" y="2804"/>
                  </a:lnTo>
                  <a:lnTo>
                    <a:pt x="192" y="2815"/>
                  </a:lnTo>
                  <a:lnTo>
                    <a:pt x="212" y="2837"/>
                  </a:lnTo>
                  <a:lnTo>
                    <a:pt x="231" y="2859"/>
                  </a:lnTo>
                  <a:lnTo>
                    <a:pt x="250" y="2881"/>
                  </a:lnTo>
                  <a:lnTo>
                    <a:pt x="269" y="2904"/>
                  </a:lnTo>
                  <a:lnTo>
                    <a:pt x="278" y="2917"/>
                  </a:lnTo>
                  <a:lnTo>
                    <a:pt x="287" y="2929"/>
                  </a:lnTo>
                  <a:lnTo>
                    <a:pt x="295" y="2943"/>
                  </a:lnTo>
                  <a:lnTo>
                    <a:pt x="303" y="2957"/>
                  </a:lnTo>
                  <a:lnTo>
                    <a:pt x="310" y="2971"/>
                  </a:lnTo>
                  <a:lnTo>
                    <a:pt x="316" y="2987"/>
                  </a:lnTo>
                  <a:lnTo>
                    <a:pt x="322" y="3004"/>
                  </a:lnTo>
                  <a:lnTo>
                    <a:pt x="327" y="3021"/>
                  </a:lnTo>
                  <a:lnTo>
                    <a:pt x="330" y="3041"/>
                  </a:lnTo>
                  <a:lnTo>
                    <a:pt x="334" y="3060"/>
                  </a:lnTo>
                  <a:lnTo>
                    <a:pt x="335" y="3082"/>
                  </a:lnTo>
                  <a:lnTo>
                    <a:pt x="336" y="3105"/>
                  </a:lnTo>
                  <a:lnTo>
                    <a:pt x="483" y="3105"/>
                  </a:lnTo>
                  <a:lnTo>
                    <a:pt x="498" y="3098"/>
                  </a:lnTo>
                  <a:lnTo>
                    <a:pt x="514" y="3091"/>
                  </a:lnTo>
                  <a:lnTo>
                    <a:pt x="532" y="3086"/>
                  </a:lnTo>
                  <a:lnTo>
                    <a:pt x="548" y="3080"/>
                  </a:lnTo>
                  <a:lnTo>
                    <a:pt x="583" y="3071"/>
                  </a:lnTo>
                  <a:lnTo>
                    <a:pt x="619" y="3064"/>
                  </a:lnTo>
                  <a:lnTo>
                    <a:pt x="689" y="3052"/>
                  </a:lnTo>
                  <a:lnTo>
                    <a:pt x="755" y="3040"/>
                  </a:lnTo>
                  <a:lnTo>
                    <a:pt x="771" y="3037"/>
                  </a:lnTo>
                  <a:lnTo>
                    <a:pt x="786" y="3032"/>
                  </a:lnTo>
                  <a:lnTo>
                    <a:pt x="800" y="3028"/>
                  </a:lnTo>
                  <a:lnTo>
                    <a:pt x="813" y="3022"/>
                  </a:lnTo>
                  <a:lnTo>
                    <a:pt x="826" y="3017"/>
                  </a:lnTo>
                  <a:lnTo>
                    <a:pt x="838" y="3011"/>
                  </a:lnTo>
                  <a:lnTo>
                    <a:pt x="850" y="3004"/>
                  </a:lnTo>
                  <a:lnTo>
                    <a:pt x="860" y="2996"/>
                  </a:lnTo>
                  <a:lnTo>
                    <a:pt x="870" y="2987"/>
                  </a:lnTo>
                  <a:lnTo>
                    <a:pt x="877" y="2978"/>
                  </a:lnTo>
                  <a:lnTo>
                    <a:pt x="885" y="2967"/>
                  </a:lnTo>
                  <a:lnTo>
                    <a:pt x="890" y="2955"/>
                  </a:lnTo>
                  <a:lnTo>
                    <a:pt x="896" y="2943"/>
                  </a:lnTo>
                  <a:lnTo>
                    <a:pt x="899" y="2928"/>
                  </a:lnTo>
                  <a:lnTo>
                    <a:pt x="901" y="2912"/>
                  </a:lnTo>
                  <a:lnTo>
                    <a:pt x="902" y="2896"/>
                  </a:lnTo>
                  <a:lnTo>
                    <a:pt x="902" y="2880"/>
                  </a:lnTo>
                  <a:lnTo>
                    <a:pt x="902" y="2864"/>
                  </a:lnTo>
                  <a:lnTo>
                    <a:pt x="902" y="2848"/>
                  </a:lnTo>
                  <a:lnTo>
                    <a:pt x="902" y="2833"/>
                  </a:lnTo>
                  <a:lnTo>
                    <a:pt x="944" y="2839"/>
                  </a:lnTo>
                  <a:lnTo>
                    <a:pt x="982" y="2842"/>
                  </a:lnTo>
                  <a:lnTo>
                    <a:pt x="1017" y="2842"/>
                  </a:lnTo>
                  <a:lnTo>
                    <a:pt x="1050" y="2840"/>
                  </a:lnTo>
                  <a:lnTo>
                    <a:pt x="1079" y="2836"/>
                  </a:lnTo>
                  <a:lnTo>
                    <a:pt x="1106" y="2828"/>
                  </a:lnTo>
                  <a:lnTo>
                    <a:pt x="1131" y="2820"/>
                  </a:lnTo>
                  <a:lnTo>
                    <a:pt x="1154" y="2809"/>
                  </a:lnTo>
                  <a:lnTo>
                    <a:pt x="1175" y="2797"/>
                  </a:lnTo>
                  <a:lnTo>
                    <a:pt x="1195" y="2783"/>
                  </a:lnTo>
                  <a:lnTo>
                    <a:pt x="1212" y="2766"/>
                  </a:lnTo>
                  <a:lnTo>
                    <a:pt x="1228" y="2750"/>
                  </a:lnTo>
                  <a:lnTo>
                    <a:pt x="1244" y="2732"/>
                  </a:lnTo>
                  <a:lnTo>
                    <a:pt x="1258" y="2714"/>
                  </a:lnTo>
                  <a:lnTo>
                    <a:pt x="1272" y="2694"/>
                  </a:lnTo>
                  <a:lnTo>
                    <a:pt x="1285" y="2675"/>
                  </a:lnTo>
                  <a:lnTo>
                    <a:pt x="1310" y="2635"/>
                  </a:lnTo>
                  <a:lnTo>
                    <a:pt x="1335" y="2596"/>
                  </a:lnTo>
                  <a:lnTo>
                    <a:pt x="1348" y="2578"/>
                  </a:lnTo>
                  <a:lnTo>
                    <a:pt x="1361" y="2559"/>
                  </a:lnTo>
                  <a:lnTo>
                    <a:pt x="1377" y="2542"/>
                  </a:lnTo>
                  <a:lnTo>
                    <a:pt x="1392" y="2525"/>
                  </a:lnTo>
                  <a:lnTo>
                    <a:pt x="1408" y="2510"/>
                  </a:lnTo>
                  <a:lnTo>
                    <a:pt x="1427" y="2497"/>
                  </a:lnTo>
                  <a:lnTo>
                    <a:pt x="1446" y="2485"/>
                  </a:lnTo>
                  <a:lnTo>
                    <a:pt x="1467" y="2474"/>
                  </a:lnTo>
                  <a:lnTo>
                    <a:pt x="1490" y="2466"/>
                  </a:lnTo>
                  <a:lnTo>
                    <a:pt x="1516" y="2460"/>
                  </a:lnTo>
                  <a:lnTo>
                    <a:pt x="1543" y="2457"/>
                  </a:lnTo>
                  <a:lnTo>
                    <a:pt x="1574" y="2454"/>
                  </a:lnTo>
                  <a:lnTo>
                    <a:pt x="1574" y="2434"/>
                  </a:lnTo>
                  <a:lnTo>
                    <a:pt x="1559" y="2406"/>
                  </a:lnTo>
                  <a:lnTo>
                    <a:pt x="1547" y="2379"/>
                  </a:lnTo>
                  <a:lnTo>
                    <a:pt x="1536" y="2352"/>
                  </a:lnTo>
                  <a:lnTo>
                    <a:pt x="1527" y="2325"/>
                  </a:lnTo>
                  <a:lnTo>
                    <a:pt x="1511" y="2272"/>
                  </a:lnTo>
                  <a:lnTo>
                    <a:pt x="1497" y="2221"/>
                  </a:lnTo>
                  <a:lnTo>
                    <a:pt x="1490" y="2197"/>
                  </a:lnTo>
                  <a:lnTo>
                    <a:pt x="1482" y="2174"/>
                  </a:lnTo>
                  <a:lnTo>
                    <a:pt x="1474" y="2151"/>
                  </a:lnTo>
                  <a:lnTo>
                    <a:pt x="1464" y="2130"/>
                  </a:lnTo>
                  <a:lnTo>
                    <a:pt x="1458" y="2120"/>
                  </a:lnTo>
                  <a:lnTo>
                    <a:pt x="1453" y="2110"/>
                  </a:lnTo>
                  <a:lnTo>
                    <a:pt x="1446" y="2100"/>
                  </a:lnTo>
                  <a:lnTo>
                    <a:pt x="1440" y="2090"/>
                  </a:lnTo>
                  <a:lnTo>
                    <a:pt x="1432" y="2082"/>
                  </a:lnTo>
                  <a:lnTo>
                    <a:pt x="1423" y="2073"/>
                  </a:lnTo>
                  <a:lnTo>
                    <a:pt x="1415" y="2064"/>
                  </a:lnTo>
                  <a:lnTo>
                    <a:pt x="1406" y="2057"/>
                  </a:lnTo>
                  <a:lnTo>
                    <a:pt x="1420" y="2040"/>
                  </a:lnTo>
                  <a:lnTo>
                    <a:pt x="1432" y="2025"/>
                  </a:lnTo>
                  <a:lnTo>
                    <a:pt x="1443" y="2009"/>
                  </a:lnTo>
                  <a:lnTo>
                    <a:pt x="1451" y="1992"/>
                  </a:lnTo>
                  <a:lnTo>
                    <a:pt x="1458" y="1976"/>
                  </a:lnTo>
                  <a:lnTo>
                    <a:pt x="1464" y="1960"/>
                  </a:lnTo>
                  <a:lnTo>
                    <a:pt x="1468" y="1942"/>
                  </a:lnTo>
                  <a:lnTo>
                    <a:pt x="1471" y="1925"/>
                  </a:lnTo>
                  <a:lnTo>
                    <a:pt x="1476" y="1889"/>
                  </a:lnTo>
                  <a:lnTo>
                    <a:pt x="1479" y="1850"/>
                  </a:lnTo>
                  <a:lnTo>
                    <a:pt x="1483" y="1808"/>
                  </a:lnTo>
                  <a:lnTo>
                    <a:pt x="1490" y="1762"/>
                  </a:lnTo>
                  <a:lnTo>
                    <a:pt x="1493" y="1749"/>
                  </a:lnTo>
                  <a:lnTo>
                    <a:pt x="1499" y="1735"/>
                  </a:lnTo>
                  <a:lnTo>
                    <a:pt x="1504" y="1723"/>
                  </a:lnTo>
                  <a:lnTo>
                    <a:pt x="1509" y="1710"/>
                  </a:lnTo>
                  <a:lnTo>
                    <a:pt x="1516" y="1698"/>
                  </a:lnTo>
                  <a:lnTo>
                    <a:pt x="1523" y="1686"/>
                  </a:lnTo>
                  <a:lnTo>
                    <a:pt x="1530" y="1675"/>
                  </a:lnTo>
                  <a:lnTo>
                    <a:pt x="1538" y="1664"/>
                  </a:lnTo>
                  <a:lnTo>
                    <a:pt x="1554" y="1642"/>
                  </a:lnTo>
                  <a:lnTo>
                    <a:pt x="1572" y="1623"/>
                  </a:lnTo>
                  <a:lnTo>
                    <a:pt x="1590" y="1604"/>
                  </a:lnTo>
                  <a:lnTo>
                    <a:pt x="1610" y="1587"/>
                  </a:lnTo>
                  <a:lnTo>
                    <a:pt x="1629" y="1570"/>
                  </a:lnTo>
                  <a:lnTo>
                    <a:pt x="1650" y="1555"/>
                  </a:lnTo>
                  <a:lnTo>
                    <a:pt x="1670" y="1542"/>
                  </a:lnTo>
                  <a:lnTo>
                    <a:pt x="1690" y="1529"/>
                  </a:lnTo>
                  <a:lnTo>
                    <a:pt x="1729" y="1507"/>
                  </a:lnTo>
                  <a:lnTo>
                    <a:pt x="1762" y="1490"/>
                  </a:lnTo>
                  <a:lnTo>
                    <a:pt x="1762" y="776"/>
                  </a:lnTo>
                  <a:lnTo>
                    <a:pt x="420" y="0"/>
                  </a:lnTo>
                  <a:lnTo>
                    <a:pt x="398" y="1"/>
                  </a:lnTo>
                  <a:lnTo>
                    <a:pt x="379" y="3"/>
                  </a:lnTo>
                  <a:lnTo>
                    <a:pt x="363" y="6"/>
                  </a:lnTo>
                  <a:lnTo>
                    <a:pt x="349" y="11"/>
                  </a:lnTo>
                  <a:lnTo>
                    <a:pt x="336" y="14"/>
                  </a:lnTo>
                  <a:lnTo>
                    <a:pt x="322" y="17"/>
                  </a:lnTo>
                  <a:lnTo>
                    <a:pt x="309" y="19"/>
                  </a:lnTo>
                  <a:lnTo>
                    <a:pt x="293" y="20"/>
                  </a:lnTo>
                  <a:lnTo>
                    <a:pt x="285" y="30"/>
                  </a:lnTo>
                  <a:lnTo>
                    <a:pt x="265" y="52"/>
                  </a:lnTo>
                  <a:lnTo>
                    <a:pt x="255" y="64"/>
                  </a:lnTo>
                  <a:lnTo>
                    <a:pt x="250" y="74"/>
                  </a:lnTo>
                  <a:lnTo>
                    <a:pt x="247" y="78"/>
                  </a:lnTo>
                  <a:lnTo>
                    <a:pt x="247" y="82"/>
                  </a:lnTo>
                  <a:lnTo>
                    <a:pt x="249" y="83"/>
                  </a:lnTo>
                  <a:lnTo>
                    <a:pt x="252" y="84"/>
                  </a:lnTo>
                  <a:close/>
                </a:path>
              </a:pathLst>
            </a:custGeom>
            <a:solidFill>
              <a:srgbClr val="dede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Freeform 13"/>
            <p:cNvSpPr/>
            <p:nvPr/>
          </p:nvSpPr>
          <p:spPr>
            <a:xfrm>
              <a:off x="2509920" y="2487240"/>
              <a:ext cx="486720" cy="846360"/>
            </a:xfrm>
            <a:custGeom>
              <a:avLst/>
              <a:gdLst>
                <a:gd name="textAreaLeft" fmla="*/ 0 w 486720"/>
                <a:gd name="textAreaRight" fmla="*/ 487080 w 486720"/>
                <a:gd name="textAreaTop" fmla="*/ 0 h 846360"/>
                <a:gd name="textAreaBottom" fmla="*/ 846720 h 846360"/>
              </a:gdLst>
              <a:ahLst/>
              <a:rect l="textAreaLeft" t="textAreaTop" r="textAreaRight" b="textAreaBottom"/>
              <a:pathLst>
                <a:path w="1762" h="3105">
                  <a:moveTo>
                    <a:pt x="252" y="84"/>
                  </a:moveTo>
                  <a:lnTo>
                    <a:pt x="231" y="335"/>
                  </a:lnTo>
                  <a:lnTo>
                    <a:pt x="247" y="363"/>
                  </a:lnTo>
                  <a:lnTo>
                    <a:pt x="263" y="388"/>
                  </a:lnTo>
                  <a:lnTo>
                    <a:pt x="276" y="412"/>
                  </a:lnTo>
                  <a:lnTo>
                    <a:pt x="289" y="434"/>
                  </a:lnTo>
                  <a:lnTo>
                    <a:pt x="299" y="454"/>
                  </a:lnTo>
                  <a:lnTo>
                    <a:pt x="309" y="475"/>
                  </a:lnTo>
                  <a:lnTo>
                    <a:pt x="316" y="494"/>
                  </a:lnTo>
                  <a:lnTo>
                    <a:pt x="324" y="511"/>
                  </a:lnTo>
                  <a:lnTo>
                    <a:pt x="329" y="527"/>
                  </a:lnTo>
                  <a:lnTo>
                    <a:pt x="334" y="543"/>
                  </a:lnTo>
                  <a:lnTo>
                    <a:pt x="337" y="557"/>
                  </a:lnTo>
                  <a:lnTo>
                    <a:pt x="340" y="571"/>
                  </a:lnTo>
                  <a:lnTo>
                    <a:pt x="342" y="584"/>
                  </a:lnTo>
                  <a:lnTo>
                    <a:pt x="343" y="596"/>
                  </a:lnTo>
                  <a:lnTo>
                    <a:pt x="343" y="608"/>
                  </a:lnTo>
                  <a:lnTo>
                    <a:pt x="343" y="619"/>
                  </a:lnTo>
                  <a:lnTo>
                    <a:pt x="341" y="640"/>
                  </a:lnTo>
                  <a:lnTo>
                    <a:pt x="338" y="659"/>
                  </a:lnTo>
                  <a:lnTo>
                    <a:pt x="334" y="678"/>
                  </a:lnTo>
                  <a:lnTo>
                    <a:pt x="328" y="695"/>
                  </a:lnTo>
                  <a:lnTo>
                    <a:pt x="323" y="714"/>
                  </a:lnTo>
                  <a:lnTo>
                    <a:pt x="318" y="733"/>
                  </a:lnTo>
                  <a:lnTo>
                    <a:pt x="316" y="754"/>
                  </a:lnTo>
                  <a:lnTo>
                    <a:pt x="315" y="776"/>
                  </a:lnTo>
                  <a:lnTo>
                    <a:pt x="316" y="912"/>
                  </a:lnTo>
                  <a:lnTo>
                    <a:pt x="318" y="1023"/>
                  </a:lnTo>
                  <a:lnTo>
                    <a:pt x="318" y="1072"/>
                  </a:lnTo>
                  <a:lnTo>
                    <a:pt x="317" y="1116"/>
                  </a:lnTo>
                  <a:lnTo>
                    <a:pt x="316" y="1137"/>
                  </a:lnTo>
                  <a:lnTo>
                    <a:pt x="314" y="1157"/>
                  </a:lnTo>
                  <a:lnTo>
                    <a:pt x="312" y="1177"/>
                  </a:lnTo>
                  <a:lnTo>
                    <a:pt x="310" y="1196"/>
                  </a:lnTo>
                  <a:lnTo>
                    <a:pt x="306" y="1214"/>
                  </a:lnTo>
                  <a:lnTo>
                    <a:pt x="302" y="1233"/>
                  </a:lnTo>
                  <a:lnTo>
                    <a:pt x="298" y="1250"/>
                  </a:lnTo>
                  <a:lnTo>
                    <a:pt x="292" y="1267"/>
                  </a:lnTo>
                  <a:lnTo>
                    <a:pt x="286" y="1285"/>
                  </a:lnTo>
                  <a:lnTo>
                    <a:pt x="279" y="1302"/>
                  </a:lnTo>
                  <a:lnTo>
                    <a:pt x="270" y="1320"/>
                  </a:lnTo>
                  <a:lnTo>
                    <a:pt x="262" y="1337"/>
                  </a:lnTo>
                  <a:lnTo>
                    <a:pt x="251" y="1355"/>
                  </a:lnTo>
                  <a:lnTo>
                    <a:pt x="240" y="1372"/>
                  </a:lnTo>
                  <a:lnTo>
                    <a:pt x="228" y="1391"/>
                  </a:lnTo>
                  <a:lnTo>
                    <a:pt x="214" y="1409"/>
                  </a:lnTo>
                  <a:lnTo>
                    <a:pt x="200" y="1428"/>
                  </a:lnTo>
                  <a:lnTo>
                    <a:pt x="183" y="1448"/>
                  </a:lnTo>
                  <a:lnTo>
                    <a:pt x="166" y="1468"/>
                  </a:lnTo>
                  <a:lnTo>
                    <a:pt x="147" y="1490"/>
                  </a:lnTo>
                  <a:lnTo>
                    <a:pt x="135" y="1502"/>
                  </a:lnTo>
                  <a:lnTo>
                    <a:pt x="124" y="1515"/>
                  </a:lnTo>
                  <a:lnTo>
                    <a:pt x="115" y="1529"/>
                  </a:lnTo>
                  <a:lnTo>
                    <a:pt x="106" y="1543"/>
                  </a:lnTo>
                  <a:lnTo>
                    <a:pt x="97" y="1557"/>
                  </a:lnTo>
                  <a:lnTo>
                    <a:pt x="89" y="1574"/>
                  </a:lnTo>
                  <a:lnTo>
                    <a:pt x="83" y="1589"/>
                  </a:lnTo>
                  <a:lnTo>
                    <a:pt x="76" y="1605"/>
                  </a:lnTo>
                  <a:lnTo>
                    <a:pt x="65" y="1638"/>
                  </a:lnTo>
                  <a:lnTo>
                    <a:pt x="56" y="1672"/>
                  </a:lnTo>
                  <a:lnTo>
                    <a:pt x="48" y="1706"/>
                  </a:lnTo>
                  <a:lnTo>
                    <a:pt x="42" y="1738"/>
                  </a:lnTo>
                  <a:lnTo>
                    <a:pt x="32" y="1800"/>
                  </a:lnTo>
                  <a:lnTo>
                    <a:pt x="23" y="1853"/>
                  </a:lnTo>
                  <a:lnTo>
                    <a:pt x="19" y="1873"/>
                  </a:lnTo>
                  <a:lnTo>
                    <a:pt x="13" y="1890"/>
                  </a:lnTo>
                  <a:lnTo>
                    <a:pt x="10" y="1897"/>
                  </a:lnTo>
                  <a:lnTo>
                    <a:pt x="7" y="1903"/>
                  </a:lnTo>
                  <a:lnTo>
                    <a:pt x="3" y="1906"/>
                  </a:lnTo>
                  <a:lnTo>
                    <a:pt x="0" y="1909"/>
                  </a:lnTo>
                  <a:lnTo>
                    <a:pt x="15" y="1931"/>
                  </a:lnTo>
                  <a:lnTo>
                    <a:pt x="31" y="1950"/>
                  </a:lnTo>
                  <a:lnTo>
                    <a:pt x="45" y="1966"/>
                  </a:lnTo>
                  <a:lnTo>
                    <a:pt x="58" y="1980"/>
                  </a:lnTo>
                  <a:lnTo>
                    <a:pt x="69" y="1993"/>
                  </a:lnTo>
                  <a:lnTo>
                    <a:pt x="76" y="2006"/>
                  </a:lnTo>
                  <a:lnTo>
                    <a:pt x="80" y="2013"/>
                  </a:lnTo>
                  <a:lnTo>
                    <a:pt x="82" y="2021"/>
                  </a:lnTo>
                  <a:lnTo>
                    <a:pt x="83" y="2027"/>
                  </a:lnTo>
                  <a:lnTo>
                    <a:pt x="84" y="2035"/>
                  </a:lnTo>
                  <a:lnTo>
                    <a:pt x="87" y="2037"/>
                  </a:lnTo>
                  <a:lnTo>
                    <a:pt x="98" y="2041"/>
                  </a:lnTo>
                  <a:lnTo>
                    <a:pt x="115" y="2049"/>
                  </a:lnTo>
                  <a:lnTo>
                    <a:pt x="136" y="2057"/>
                  </a:lnTo>
                  <a:lnTo>
                    <a:pt x="161" y="2064"/>
                  </a:lnTo>
                  <a:lnTo>
                    <a:pt x="190" y="2071"/>
                  </a:lnTo>
                  <a:lnTo>
                    <a:pt x="205" y="2073"/>
                  </a:lnTo>
                  <a:lnTo>
                    <a:pt x="220" y="2075"/>
                  </a:lnTo>
                  <a:lnTo>
                    <a:pt x="235" y="2076"/>
                  </a:lnTo>
                  <a:lnTo>
                    <a:pt x="252" y="2077"/>
                  </a:lnTo>
                  <a:lnTo>
                    <a:pt x="249" y="2082"/>
                  </a:lnTo>
                  <a:lnTo>
                    <a:pt x="245" y="2086"/>
                  </a:lnTo>
                  <a:lnTo>
                    <a:pt x="244" y="2091"/>
                  </a:lnTo>
                  <a:lnTo>
                    <a:pt x="243" y="2097"/>
                  </a:lnTo>
                  <a:lnTo>
                    <a:pt x="242" y="2110"/>
                  </a:lnTo>
                  <a:lnTo>
                    <a:pt x="244" y="2124"/>
                  </a:lnTo>
                  <a:lnTo>
                    <a:pt x="246" y="2141"/>
                  </a:lnTo>
                  <a:lnTo>
                    <a:pt x="249" y="2160"/>
                  </a:lnTo>
                  <a:lnTo>
                    <a:pt x="251" y="2181"/>
                  </a:lnTo>
                  <a:lnTo>
                    <a:pt x="252" y="2203"/>
                  </a:lnTo>
                  <a:lnTo>
                    <a:pt x="252" y="2234"/>
                  </a:lnTo>
                  <a:lnTo>
                    <a:pt x="254" y="2267"/>
                  </a:lnTo>
                  <a:lnTo>
                    <a:pt x="256" y="2299"/>
                  </a:lnTo>
                  <a:lnTo>
                    <a:pt x="259" y="2330"/>
                  </a:lnTo>
                  <a:lnTo>
                    <a:pt x="263" y="2362"/>
                  </a:lnTo>
                  <a:lnTo>
                    <a:pt x="268" y="2392"/>
                  </a:lnTo>
                  <a:lnTo>
                    <a:pt x="274" y="2422"/>
                  </a:lnTo>
                  <a:lnTo>
                    <a:pt x="280" y="2450"/>
                  </a:lnTo>
                  <a:lnTo>
                    <a:pt x="288" y="2476"/>
                  </a:lnTo>
                  <a:lnTo>
                    <a:pt x="295" y="2501"/>
                  </a:lnTo>
                  <a:lnTo>
                    <a:pt x="304" y="2524"/>
                  </a:lnTo>
                  <a:lnTo>
                    <a:pt x="314" y="2545"/>
                  </a:lnTo>
                  <a:lnTo>
                    <a:pt x="324" y="2563"/>
                  </a:lnTo>
                  <a:lnTo>
                    <a:pt x="334" y="2580"/>
                  </a:lnTo>
                  <a:lnTo>
                    <a:pt x="339" y="2586"/>
                  </a:lnTo>
                  <a:lnTo>
                    <a:pt x="344" y="2592"/>
                  </a:lnTo>
                  <a:lnTo>
                    <a:pt x="351" y="2597"/>
                  </a:lnTo>
                  <a:lnTo>
                    <a:pt x="356" y="2602"/>
                  </a:lnTo>
                  <a:lnTo>
                    <a:pt x="335" y="2601"/>
                  </a:lnTo>
                  <a:lnTo>
                    <a:pt x="303" y="2596"/>
                  </a:lnTo>
                  <a:lnTo>
                    <a:pt x="265" y="2593"/>
                  </a:lnTo>
                  <a:lnTo>
                    <a:pt x="226" y="2591"/>
                  </a:lnTo>
                  <a:lnTo>
                    <a:pt x="206" y="2592"/>
                  </a:lnTo>
                  <a:lnTo>
                    <a:pt x="188" y="2594"/>
                  </a:lnTo>
                  <a:lnTo>
                    <a:pt x="171" y="2597"/>
                  </a:lnTo>
                  <a:lnTo>
                    <a:pt x="156" y="2602"/>
                  </a:lnTo>
                  <a:lnTo>
                    <a:pt x="149" y="2605"/>
                  </a:lnTo>
                  <a:lnTo>
                    <a:pt x="143" y="2608"/>
                  </a:lnTo>
                  <a:lnTo>
                    <a:pt x="138" y="2613"/>
                  </a:lnTo>
                  <a:lnTo>
                    <a:pt x="134" y="2618"/>
                  </a:lnTo>
                  <a:lnTo>
                    <a:pt x="131" y="2623"/>
                  </a:lnTo>
                  <a:lnTo>
                    <a:pt x="128" y="2629"/>
                  </a:lnTo>
                  <a:lnTo>
                    <a:pt x="127" y="2636"/>
                  </a:lnTo>
                  <a:lnTo>
                    <a:pt x="125" y="2644"/>
                  </a:lnTo>
                  <a:lnTo>
                    <a:pt x="127" y="2663"/>
                  </a:lnTo>
                  <a:lnTo>
                    <a:pt x="128" y="2681"/>
                  </a:lnTo>
                  <a:lnTo>
                    <a:pt x="131" y="2698"/>
                  </a:lnTo>
                  <a:lnTo>
                    <a:pt x="135" y="2714"/>
                  </a:lnTo>
                  <a:lnTo>
                    <a:pt x="140" y="2728"/>
                  </a:lnTo>
                  <a:lnTo>
                    <a:pt x="145" y="2742"/>
                  </a:lnTo>
                  <a:lnTo>
                    <a:pt x="152" y="2756"/>
                  </a:lnTo>
                  <a:lnTo>
                    <a:pt x="158" y="2769"/>
                  </a:lnTo>
                  <a:lnTo>
                    <a:pt x="166" y="2781"/>
                  </a:lnTo>
                  <a:lnTo>
                    <a:pt x="174" y="2793"/>
                  </a:lnTo>
                  <a:lnTo>
                    <a:pt x="183" y="2804"/>
                  </a:lnTo>
                  <a:lnTo>
                    <a:pt x="192" y="2815"/>
                  </a:lnTo>
                  <a:lnTo>
                    <a:pt x="212" y="2837"/>
                  </a:lnTo>
                  <a:lnTo>
                    <a:pt x="231" y="2859"/>
                  </a:lnTo>
                  <a:lnTo>
                    <a:pt x="250" y="2881"/>
                  </a:lnTo>
                  <a:lnTo>
                    <a:pt x="269" y="2904"/>
                  </a:lnTo>
                  <a:lnTo>
                    <a:pt x="278" y="2917"/>
                  </a:lnTo>
                  <a:lnTo>
                    <a:pt x="287" y="2929"/>
                  </a:lnTo>
                  <a:lnTo>
                    <a:pt x="295" y="2943"/>
                  </a:lnTo>
                  <a:lnTo>
                    <a:pt x="303" y="2957"/>
                  </a:lnTo>
                  <a:lnTo>
                    <a:pt x="310" y="2971"/>
                  </a:lnTo>
                  <a:lnTo>
                    <a:pt x="316" y="2987"/>
                  </a:lnTo>
                  <a:lnTo>
                    <a:pt x="322" y="3004"/>
                  </a:lnTo>
                  <a:lnTo>
                    <a:pt x="327" y="3021"/>
                  </a:lnTo>
                  <a:lnTo>
                    <a:pt x="330" y="3041"/>
                  </a:lnTo>
                  <a:lnTo>
                    <a:pt x="334" y="3060"/>
                  </a:lnTo>
                  <a:lnTo>
                    <a:pt x="335" y="3082"/>
                  </a:lnTo>
                  <a:lnTo>
                    <a:pt x="336" y="3105"/>
                  </a:lnTo>
                  <a:lnTo>
                    <a:pt x="483" y="3105"/>
                  </a:lnTo>
                  <a:lnTo>
                    <a:pt x="498" y="3098"/>
                  </a:lnTo>
                  <a:lnTo>
                    <a:pt x="514" y="3091"/>
                  </a:lnTo>
                  <a:lnTo>
                    <a:pt x="532" y="3086"/>
                  </a:lnTo>
                  <a:lnTo>
                    <a:pt x="548" y="3080"/>
                  </a:lnTo>
                  <a:lnTo>
                    <a:pt x="583" y="3071"/>
                  </a:lnTo>
                  <a:lnTo>
                    <a:pt x="619" y="3064"/>
                  </a:lnTo>
                  <a:lnTo>
                    <a:pt x="689" y="3052"/>
                  </a:lnTo>
                  <a:lnTo>
                    <a:pt x="755" y="3040"/>
                  </a:lnTo>
                  <a:lnTo>
                    <a:pt x="771" y="3037"/>
                  </a:lnTo>
                  <a:lnTo>
                    <a:pt x="786" y="3032"/>
                  </a:lnTo>
                  <a:lnTo>
                    <a:pt x="800" y="3028"/>
                  </a:lnTo>
                  <a:lnTo>
                    <a:pt x="813" y="3022"/>
                  </a:lnTo>
                  <a:lnTo>
                    <a:pt x="826" y="3017"/>
                  </a:lnTo>
                  <a:lnTo>
                    <a:pt x="838" y="3011"/>
                  </a:lnTo>
                  <a:lnTo>
                    <a:pt x="850" y="3004"/>
                  </a:lnTo>
                  <a:lnTo>
                    <a:pt x="860" y="2996"/>
                  </a:lnTo>
                  <a:lnTo>
                    <a:pt x="870" y="2987"/>
                  </a:lnTo>
                  <a:lnTo>
                    <a:pt x="877" y="2978"/>
                  </a:lnTo>
                  <a:lnTo>
                    <a:pt x="885" y="2967"/>
                  </a:lnTo>
                  <a:lnTo>
                    <a:pt x="890" y="2955"/>
                  </a:lnTo>
                  <a:lnTo>
                    <a:pt x="896" y="2943"/>
                  </a:lnTo>
                  <a:lnTo>
                    <a:pt x="899" y="2928"/>
                  </a:lnTo>
                  <a:lnTo>
                    <a:pt x="901" y="2912"/>
                  </a:lnTo>
                  <a:lnTo>
                    <a:pt x="902" y="2896"/>
                  </a:lnTo>
                  <a:lnTo>
                    <a:pt x="902" y="2880"/>
                  </a:lnTo>
                  <a:lnTo>
                    <a:pt x="902" y="2864"/>
                  </a:lnTo>
                  <a:lnTo>
                    <a:pt x="902" y="2848"/>
                  </a:lnTo>
                  <a:lnTo>
                    <a:pt x="902" y="2833"/>
                  </a:lnTo>
                  <a:lnTo>
                    <a:pt x="944" y="2839"/>
                  </a:lnTo>
                  <a:lnTo>
                    <a:pt x="982" y="2842"/>
                  </a:lnTo>
                  <a:lnTo>
                    <a:pt x="1017" y="2842"/>
                  </a:lnTo>
                  <a:lnTo>
                    <a:pt x="1050" y="2840"/>
                  </a:lnTo>
                  <a:lnTo>
                    <a:pt x="1079" y="2836"/>
                  </a:lnTo>
                  <a:lnTo>
                    <a:pt x="1106" y="2828"/>
                  </a:lnTo>
                  <a:lnTo>
                    <a:pt x="1131" y="2820"/>
                  </a:lnTo>
                  <a:lnTo>
                    <a:pt x="1154" y="2809"/>
                  </a:lnTo>
                  <a:lnTo>
                    <a:pt x="1175" y="2797"/>
                  </a:lnTo>
                  <a:lnTo>
                    <a:pt x="1195" y="2783"/>
                  </a:lnTo>
                  <a:lnTo>
                    <a:pt x="1212" y="2766"/>
                  </a:lnTo>
                  <a:lnTo>
                    <a:pt x="1228" y="2750"/>
                  </a:lnTo>
                  <a:lnTo>
                    <a:pt x="1244" y="2732"/>
                  </a:lnTo>
                  <a:lnTo>
                    <a:pt x="1258" y="2714"/>
                  </a:lnTo>
                  <a:lnTo>
                    <a:pt x="1272" y="2694"/>
                  </a:lnTo>
                  <a:lnTo>
                    <a:pt x="1285" y="2675"/>
                  </a:lnTo>
                  <a:lnTo>
                    <a:pt x="1310" y="2635"/>
                  </a:lnTo>
                  <a:lnTo>
                    <a:pt x="1335" y="2596"/>
                  </a:lnTo>
                  <a:lnTo>
                    <a:pt x="1348" y="2578"/>
                  </a:lnTo>
                  <a:lnTo>
                    <a:pt x="1361" y="2559"/>
                  </a:lnTo>
                  <a:lnTo>
                    <a:pt x="1377" y="2542"/>
                  </a:lnTo>
                  <a:lnTo>
                    <a:pt x="1392" y="2525"/>
                  </a:lnTo>
                  <a:lnTo>
                    <a:pt x="1408" y="2510"/>
                  </a:lnTo>
                  <a:lnTo>
                    <a:pt x="1427" y="2497"/>
                  </a:lnTo>
                  <a:lnTo>
                    <a:pt x="1446" y="2485"/>
                  </a:lnTo>
                  <a:lnTo>
                    <a:pt x="1467" y="2474"/>
                  </a:lnTo>
                  <a:lnTo>
                    <a:pt x="1490" y="2466"/>
                  </a:lnTo>
                  <a:lnTo>
                    <a:pt x="1516" y="2460"/>
                  </a:lnTo>
                  <a:lnTo>
                    <a:pt x="1543" y="2457"/>
                  </a:lnTo>
                  <a:lnTo>
                    <a:pt x="1574" y="2454"/>
                  </a:lnTo>
                  <a:lnTo>
                    <a:pt x="1574" y="2434"/>
                  </a:lnTo>
                  <a:lnTo>
                    <a:pt x="1559" y="2406"/>
                  </a:lnTo>
                  <a:lnTo>
                    <a:pt x="1547" y="2379"/>
                  </a:lnTo>
                  <a:lnTo>
                    <a:pt x="1536" y="2352"/>
                  </a:lnTo>
                  <a:lnTo>
                    <a:pt x="1527" y="2325"/>
                  </a:lnTo>
                  <a:lnTo>
                    <a:pt x="1511" y="2272"/>
                  </a:lnTo>
                  <a:lnTo>
                    <a:pt x="1497" y="2221"/>
                  </a:lnTo>
                  <a:lnTo>
                    <a:pt x="1490" y="2197"/>
                  </a:lnTo>
                  <a:lnTo>
                    <a:pt x="1482" y="2174"/>
                  </a:lnTo>
                  <a:lnTo>
                    <a:pt x="1474" y="2151"/>
                  </a:lnTo>
                  <a:lnTo>
                    <a:pt x="1464" y="2130"/>
                  </a:lnTo>
                  <a:lnTo>
                    <a:pt x="1458" y="2120"/>
                  </a:lnTo>
                  <a:lnTo>
                    <a:pt x="1453" y="2110"/>
                  </a:lnTo>
                  <a:lnTo>
                    <a:pt x="1446" y="2100"/>
                  </a:lnTo>
                  <a:lnTo>
                    <a:pt x="1440" y="2090"/>
                  </a:lnTo>
                  <a:lnTo>
                    <a:pt x="1432" y="2082"/>
                  </a:lnTo>
                  <a:lnTo>
                    <a:pt x="1423" y="2073"/>
                  </a:lnTo>
                  <a:lnTo>
                    <a:pt x="1415" y="2064"/>
                  </a:lnTo>
                  <a:lnTo>
                    <a:pt x="1406" y="2057"/>
                  </a:lnTo>
                  <a:lnTo>
                    <a:pt x="1420" y="2040"/>
                  </a:lnTo>
                  <a:lnTo>
                    <a:pt x="1432" y="2025"/>
                  </a:lnTo>
                  <a:lnTo>
                    <a:pt x="1443" y="2009"/>
                  </a:lnTo>
                  <a:lnTo>
                    <a:pt x="1451" y="1992"/>
                  </a:lnTo>
                  <a:lnTo>
                    <a:pt x="1458" y="1976"/>
                  </a:lnTo>
                  <a:lnTo>
                    <a:pt x="1464" y="1960"/>
                  </a:lnTo>
                  <a:lnTo>
                    <a:pt x="1468" y="1942"/>
                  </a:lnTo>
                  <a:lnTo>
                    <a:pt x="1471" y="1925"/>
                  </a:lnTo>
                  <a:lnTo>
                    <a:pt x="1476" y="1889"/>
                  </a:lnTo>
                  <a:lnTo>
                    <a:pt x="1479" y="1850"/>
                  </a:lnTo>
                  <a:lnTo>
                    <a:pt x="1483" y="1808"/>
                  </a:lnTo>
                  <a:lnTo>
                    <a:pt x="1490" y="1762"/>
                  </a:lnTo>
                  <a:lnTo>
                    <a:pt x="1493" y="1749"/>
                  </a:lnTo>
                  <a:lnTo>
                    <a:pt x="1499" y="1735"/>
                  </a:lnTo>
                  <a:lnTo>
                    <a:pt x="1504" y="1723"/>
                  </a:lnTo>
                  <a:lnTo>
                    <a:pt x="1509" y="1710"/>
                  </a:lnTo>
                  <a:lnTo>
                    <a:pt x="1516" y="1698"/>
                  </a:lnTo>
                  <a:lnTo>
                    <a:pt x="1523" y="1686"/>
                  </a:lnTo>
                  <a:lnTo>
                    <a:pt x="1530" y="1675"/>
                  </a:lnTo>
                  <a:lnTo>
                    <a:pt x="1538" y="1664"/>
                  </a:lnTo>
                  <a:lnTo>
                    <a:pt x="1554" y="1642"/>
                  </a:lnTo>
                  <a:lnTo>
                    <a:pt x="1572" y="1623"/>
                  </a:lnTo>
                  <a:lnTo>
                    <a:pt x="1590" y="1604"/>
                  </a:lnTo>
                  <a:lnTo>
                    <a:pt x="1610" y="1587"/>
                  </a:lnTo>
                  <a:lnTo>
                    <a:pt x="1629" y="1570"/>
                  </a:lnTo>
                  <a:lnTo>
                    <a:pt x="1650" y="1555"/>
                  </a:lnTo>
                  <a:lnTo>
                    <a:pt x="1670" y="1542"/>
                  </a:lnTo>
                  <a:lnTo>
                    <a:pt x="1690" y="1529"/>
                  </a:lnTo>
                  <a:lnTo>
                    <a:pt x="1729" y="1507"/>
                  </a:lnTo>
                  <a:lnTo>
                    <a:pt x="1762" y="1490"/>
                  </a:lnTo>
                  <a:lnTo>
                    <a:pt x="1762" y="776"/>
                  </a:lnTo>
                  <a:lnTo>
                    <a:pt x="420" y="0"/>
                  </a:lnTo>
                  <a:lnTo>
                    <a:pt x="398" y="1"/>
                  </a:lnTo>
                  <a:lnTo>
                    <a:pt x="379" y="3"/>
                  </a:lnTo>
                  <a:lnTo>
                    <a:pt x="363" y="6"/>
                  </a:lnTo>
                  <a:lnTo>
                    <a:pt x="349" y="11"/>
                  </a:lnTo>
                  <a:lnTo>
                    <a:pt x="336" y="14"/>
                  </a:lnTo>
                  <a:lnTo>
                    <a:pt x="322" y="17"/>
                  </a:lnTo>
                  <a:lnTo>
                    <a:pt x="309" y="19"/>
                  </a:lnTo>
                  <a:lnTo>
                    <a:pt x="293" y="20"/>
                  </a:lnTo>
                  <a:lnTo>
                    <a:pt x="285" y="30"/>
                  </a:lnTo>
                  <a:lnTo>
                    <a:pt x="265" y="52"/>
                  </a:lnTo>
                  <a:lnTo>
                    <a:pt x="255" y="64"/>
                  </a:lnTo>
                  <a:lnTo>
                    <a:pt x="250" y="74"/>
                  </a:lnTo>
                  <a:lnTo>
                    <a:pt x="247" y="78"/>
                  </a:lnTo>
                  <a:lnTo>
                    <a:pt x="247" y="82"/>
                  </a:lnTo>
                  <a:lnTo>
                    <a:pt x="249" y="83"/>
                  </a:lnTo>
                  <a:lnTo>
                    <a:pt x="252" y="84"/>
                  </a:lnTo>
                </a:path>
              </a:pathLst>
            </a:custGeom>
            <a:noFill/>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 name="Freeform 16"/>
            <p:cNvSpPr/>
            <p:nvPr/>
          </p:nvSpPr>
          <p:spPr>
            <a:xfrm>
              <a:off x="1062720" y="3062880"/>
              <a:ext cx="152280" cy="99360"/>
            </a:xfrm>
            <a:custGeom>
              <a:avLst/>
              <a:gdLst>
                <a:gd name="textAreaLeft" fmla="*/ 0 w 152280"/>
                <a:gd name="textAreaRight" fmla="*/ 152640 w 152280"/>
                <a:gd name="textAreaTop" fmla="*/ 0 h 99360"/>
                <a:gd name="textAreaBottom" fmla="*/ 99720 h 99360"/>
              </a:gdLst>
              <a:ahLst/>
              <a:rect l="textAreaLeft" t="textAreaTop" r="textAreaRight" b="textAreaBottom"/>
              <a:pathLst>
                <a:path w="546" h="365">
                  <a:moveTo>
                    <a:pt x="546" y="30"/>
                  </a:moveTo>
                  <a:lnTo>
                    <a:pt x="533" y="52"/>
                  </a:lnTo>
                  <a:lnTo>
                    <a:pt x="520" y="76"/>
                  </a:lnTo>
                  <a:lnTo>
                    <a:pt x="506" y="99"/>
                  </a:lnTo>
                  <a:lnTo>
                    <a:pt x="490" y="123"/>
                  </a:lnTo>
                  <a:lnTo>
                    <a:pt x="475" y="146"/>
                  </a:lnTo>
                  <a:lnTo>
                    <a:pt x="458" y="169"/>
                  </a:lnTo>
                  <a:lnTo>
                    <a:pt x="440" y="191"/>
                  </a:lnTo>
                  <a:lnTo>
                    <a:pt x="423" y="213"/>
                  </a:lnTo>
                  <a:lnTo>
                    <a:pt x="403" y="234"/>
                  </a:lnTo>
                  <a:lnTo>
                    <a:pt x="383" y="255"/>
                  </a:lnTo>
                  <a:lnTo>
                    <a:pt x="363" y="275"/>
                  </a:lnTo>
                  <a:lnTo>
                    <a:pt x="342" y="294"/>
                  </a:lnTo>
                  <a:lnTo>
                    <a:pt x="320" y="313"/>
                  </a:lnTo>
                  <a:lnTo>
                    <a:pt x="298" y="331"/>
                  </a:lnTo>
                  <a:lnTo>
                    <a:pt x="276" y="349"/>
                  </a:lnTo>
                  <a:lnTo>
                    <a:pt x="252" y="365"/>
                  </a:lnTo>
                  <a:lnTo>
                    <a:pt x="244" y="353"/>
                  </a:lnTo>
                  <a:lnTo>
                    <a:pt x="237" y="341"/>
                  </a:lnTo>
                  <a:lnTo>
                    <a:pt x="232" y="329"/>
                  </a:lnTo>
                  <a:lnTo>
                    <a:pt x="227" y="318"/>
                  </a:lnTo>
                  <a:lnTo>
                    <a:pt x="218" y="295"/>
                  </a:lnTo>
                  <a:lnTo>
                    <a:pt x="210" y="273"/>
                  </a:lnTo>
                  <a:lnTo>
                    <a:pt x="201" y="252"/>
                  </a:lnTo>
                  <a:lnTo>
                    <a:pt x="193" y="232"/>
                  </a:lnTo>
                  <a:lnTo>
                    <a:pt x="187" y="222"/>
                  </a:lnTo>
                  <a:lnTo>
                    <a:pt x="182" y="214"/>
                  </a:lnTo>
                  <a:lnTo>
                    <a:pt x="175" y="205"/>
                  </a:lnTo>
                  <a:lnTo>
                    <a:pt x="168" y="197"/>
                  </a:lnTo>
                  <a:lnTo>
                    <a:pt x="122" y="152"/>
                  </a:lnTo>
                  <a:lnTo>
                    <a:pt x="91" y="121"/>
                  </a:lnTo>
                  <a:lnTo>
                    <a:pt x="72" y="104"/>
                  </a:lnTo>
                  <a:lnTo>
                    <a:pt x="60" y="95"/>
                  </a:lnTo>
                  <a:lnTo>
                    <a:pt x="51" y="91"/>
                  </a:lnTo>
                  <a:lnTo>
                    <a:pt x="41" y="87"/>
                  </a:lnTo>
                  <a:lnTo>
                    <a:pt x="25" y="83"/>
                  </a:lnTo>
                  <a:lnTo>
                    <a:pt x="0" y="71"/>
                  </a:lnTo>
                  <a:lnTo>
                    <a:pt x="63" y="50"/>
                  </a:lnTo>
                  <a:lnTo>
                    <a:pt x="84" y="39"/>
                  </a:lnTo>
                  <a:lnTo>
                    <a:pt x="106" y="30"/>
                  </a:lnTo>
                  <a:lnTo>
                    <a:pt x="128" y="21"/>
                  </a:lnTo>
                  <a:lnTo>
                    <a:pt x="154" y="14"/>
                  </a:lnTo>
                  <a:lnTo>
                    <a:pt x="179" y="9"/>
                  </a:lnTo>
                  <a:lnTo>
                    <a:pt x="207" y="4"/>
                  </a:lnTo>
                  <a:lnTo>
                    <a:pt x="235" y="2"/>
                  </a:lnTo>
                  <a:lnTo>
                    <a:pt x="265" y="0"/>
                  </a:lnTo>
                  <a:lnTo>
                    <a:pt x="296" y="0"/>
                  </a:lnTo>
                  <a:lnTo>
                    <a:pt x="328" y="1"/>
                  </a:lnTo>
                  <a:lnTo>
                    <a:pt x="362" y="2"/>
                  </a:lnTo>
                  <a:lnTo>
                    <a:pt x="397" y="6"/>
                  </a:lnTo>
                  <a:lnTo>
                    <a:pt x="433" y="10"/>
                  </a:lnTo>
                  <a:lnTo>
                    <a:pt x="468" y="15"/>
                  </a:lnTo>
                  <a:lnTo>
                    <a:pt x="507" y="22"/>
                  </a:lnTo>
                  <a:lnTo>
                    <a:pt x="546" y="30"/>
                  </a:lnTo>
                  <a:close/>
                </a:path>
              </a:pathLst>
            </a:custGeom>
            <a:solidFill>
              <a:srgbClr val="dede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Freeform 22"/>
            <p:cNvSpPr/>
            <p:nvPr/>
          </p:nvSpPr>
          <p:spPr>
            <a:xfrm>
              <a:off x="1052640" y="3007800"/>
              <a:ext cx="155160" cy="34560"/>
            </a:xfrm>
            <a:custGeom>
              <a:avLst/>
              <a:gdLst>
                <a:gd name="textAreaLeft" fmla="*/ 0 w 155160"/>
                <a:gd name="textAreaRight" fmla="*/ 155520 w 155160"/>
                <a:gd name="textAreaTop" fmla="*/ 0 h 34560"/>
                <a:gd name="textAreaBottom" fmla="*/ 34920 h 34560"/>
              </a:gdLst>
              <a:ahLst/>
              <a:rect l="textAreaLeft" t="textAreaTop" r="textAreaRight" b="textAreaBottom"/>
              <a:pathLst>
                <a:path w="566" h="126">
                  <a:moveTo>
                    <a:pt x="0" y="64"/>
                  </a:moveTo>
                  <a:lnTo>
                    <a:pt x="53" y="48"/>
                  </a:lnTo>
                  <a:lnTo>
                    <a:pt x="101" y="35"/>
                  </a:lnTo>
                  <a:lnTo>
                    <a:pt x="145" y="24"/>
                  </a:lnTo>
                  <a:lnTo>
                    <a:pt x="189" y="16"/>
                  </a:lnTo>
                  <a:lnTo>
                    <a:pt x="233" y="9"/>
                  </a:lnTo>
                  <a:lnTo>
                    <a:pt x="277" y="4"/>
                  </a:lnTo>
                  <a:lnTo>
                    <a:pt x="325" y="2"/>
                  </a:lnTo>
                  <a:lnTo>
                    <a:pt x="378" y="0"/>
                  </a:lnTo>
                  <a:lnTo>
                    <a:pt x="416" y="0"/>
                  </a:lnTo>
                  <a:lnTo>
                    <a:pt x="452" y="2"/>
                  </a:lnTo>
                  <a:lnTo>
                    <a:pt x="468" y="3"/>
                  </a:lnTo>
                  <a:lnTo>
                    <a:pt x="483" y="5"/>
                  </a:lnTo>
                  <a:lnTo>
                    <a:pt x="498" y="7"/>
                  </a:lnTo>
                  <a:lnTo>
                    <a:pt x="512" y="10"/>
                  </a:lnTo>
                  <a:lnTo>
                    <a:pt x="524" y="16"/>
                  </a:lnTo>
                  <a:lnTo>
                    <a:pt x="534" y="21"/>
                  </a:lnTo>
                  <a:lnTo>
                    <a:pt x="544" y="28"/>
                  </a:lnTo>
                  <a:lnTo>
                    <a:pt x="552" y="35"/>
                  </a:lnTo>
                  <a:lnTo>
                    <a:pt x="555" y="41"/>
                  </a:lnTo>
                  <a:lnTo>
                    <a:pt x="558" y="45"/>
                  </a:lnTo>
                  <a:lnTo>
                    <a:pt x="561" y="51"/>
                  </a:lnTo>
                  <a:lnTo>
                    <a:pt x="563" y="56"/>
                  </a:lnTo>
                  <a:lnTo>
                    <a:pt x="566" y="69"/>
                  </a:lnTo>
                  <a:lnTo>
                    <a:pt x="566" y="84"/>
                  </a:lnTo>
                  <a:lnTo>
                    <a:pt x="555" y="88"/>
                  </a:lnTo>
                  <a:lnTo>
                    <a:pt x="543" y="90"/>
                  </a:lnTo>
                  <a:lnTo>
                    <a:pt x="531" y="92"/>
                  </a:lnTo>
                  <a:lnTo>
                    <a:pt x="519" y="93"/>
                  </a:lnTo>
                  <a:lnTo>
                    <a:pt x="494" y="93"/>
                  </a:lnTo>
                  <a:lnTo>
                    <a:pt x="469" y="92"/>
                  </a:lnTo>
                  <a:lnTo>
                    <a:pt x="443" y="90"/>
                  </a:lnTo>
                  <a:lnTo>
                    <a:pt x="416" y="88"/>
                  </a:lnTo>
                  <a:lnTo>
                    <a:pt x="387" y="85"/>
                  </a:lnTo>
                  <a:lnTo>
                    <a:pt x="357" y="84"/>
                  </a:lnTo>
                  <a:lnTo>
                    <a:pt x="331" y="84"/>
                  </a:lnTo>
                  <a:lnTo>
                    <a:pt x="306" y="85"/>
                  </a:lnTo>
                  <a:lnTo>
                    <a:pt x="282" y="88"/>
                  </a:lnTo>
                  <a:lnTo>
                    <a:pt x="260" y="91"/>
                  </a:lnTo>
                  <a:lnTo>
                    <a:pt x="218" y="97"/>
                  </a:lnTo>
                  <a:lnTo>
                    <a:pt x="178" y="105"/>
                  </a:lnTo>
                  <a:lnTo>
                    <a:pt x="139" y="113"/>
                  </a:lnTo>
                  <a:lnTo>
                    <a:pt x="97" y="119"/>
                  </a:lnTo>
                  <a:lnTo>
                    <a:pt x="75" y="123"/>
                  </a:lnTo>
                  <a:lnTo>
                    <a:pt x="52" y="125"/>
                  </a:lnTo>
                  <a:lnTo>
                    <a:pt x="27" y="126"/>
                  </a:lnTo>
                  <a:lnTo>
                    <a:pt x="0" y="126"/>
                  </a:lnTo>
                  <a:lnTo>
                    <a:pt x="0" y="111"/>
                  </a:lnTo>
                  <a:lnTo>
                    <a:pt x="0" y="94"/>
                  </a:lnTo>
                  <a:lnTo>
                    <a:pt x="0" y="79"/>
                  </a:lnTo>
                  <a:lnTo>
                    <a:pt x="0" y="64"/>
                  </a:lnTo>
                  <a:close/>
                </a:path>
              </a:pathLst>
            </a:custGeom>
            <a:solidFill>
              <a:srgbClr val="dededd"/>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468" name="Line 24"/>
            <p:cNvSpPr/>
            <p:nvPr/>
          </p:nvSpPr>
          <p:spPr>
            <a:xfrm flipH="1" flipV="1">
              <a:off x="2673000" y="5500440"/>
              <a:ext cx="10080" cy="40320"/>
            </a:xfrm>
            <a:prstGeom prst="line">
              <a:avLst/>
            </a:prstGeom>
            <a:ln w="0">
              <a:solidFill>
                <a:srgbClr val="949393"/>
              </a:solid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469" name="Line 25"/>
            <p:cNvSpPr/>
            <p:nvPr/>
          </p:nvSpPr>
          <p:spPr>
            <a:xfrm flipV="1">
              <a:off x="2435040" y="4480920"/>
              <a:ext cx="1440" cy="90720"/>
            </a:xfrm>
            <a:prstGeom prst="line">
              <a:avLst/>
            </a:prstGeom>
            <a:ln w="0">
              <a:solidFill>
                <a:srgbClr val="949393"/>
              </a:solid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470" name="Line 27"/>
            <p:cNvSpPr/>
            <p:nvPr/>
          </p:nvSpPr>
          <p:spPr>
            <a:xfrm>
              <a:off x="4066920" y="1722600"/>
              <a:ext cx="1440" cy="35676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 name="Line 27"/>
            <p:cNvSpPr/>
            <p:nvPr/>
          </p:nvSpPr>
          <p:spPr>
            <a:xfrm>
              <a:off x="2615040" y="1861200"/>
              <a:ext cx="1440" cy="356724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2" name="Line 27"/>
            <p:cNvSpPr/>
            <p:nvPr/>
          </p:nvSpPr>
          <p:spPr>
            <a:xfrm>
              <a:off x="1094400" y="1904400"/>
              <a:ext cx="1080" cy="356724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3" name="Line 27"/>
            <p:cNvSpPr/>
            <p:nvPr/>
          </p:nvSpPr>
          <p:spPr>
            <a:xfrm flipH="1">
              <a:off x="817200" y="1764360"/>
              <a:ext cx="356148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74" name="Group 65"/>
            <p:cNvGrpSpPr/>
            <p:nvPr/>
          </p:nvGrpSpPr>
          <p:grpSpPr>
            <a:xfrm>
              <a:off x="541080" y="1223640"/>
              <a:ext cx="1144440" cy="1035360"/>
              <a:chOff x="541080" y="1223640"/>
              <a:chExt cx="1144440" cy="1035360"/>
            </a:xfrm>
          </p:grpSpPr>
          <p:grpSp>
            <p:nvGrpSpPr>
              <p:cNvPr id="475" name="Group 66"/>
              <p:cNvGrpSpPr/>
              <p:nvPr/>
            </p:nvGrpSpPr>
            <p:grpSpPr>
              <a:xfrm>
                <a:off x="541080" y="1223640"/>
                <a:ext cx="1123920" cy="1035360"/>
                <a:chOff x="541080" y="1223640"/>
                <a:chExt cx="1123920" cy="1035360"/>
              </a:xfrm>
            </p:grpSpPr>
            <p:grpSp>
              <p:nvGrpSpPr>
                <p:cNvPr id="476" name="Group 67"/>
                <p:cNvGrpSpPr/>
                <p:nvPr/>
              </p:nvGrpSpPr>
              <p:grpSpPr>
                <a:xfrm>
                  <a:off x="587880" y="1223640"/>
                  <a:ext cx="1045440" cy="1035360"/>
                  <a:chOff x="587880" y="1223640"/>
                  <a:chExt cx="1045440" cy="1035360"/>
                </a:xfrm>
              </p:grpSpPr>
              <p:sp>
                <p:nvSpPr>
                  <p:cNvPr id="477" name="Freeform 68"/>
                  <p:cNvSpPr/>
                  <p:nvPr/>
                </p:nvSpPr>
                <p:spPr>
                  <a:xfrm>
                    <a:off x="587880" y="1223640"/>
                    <a:ext cx="1045440" cy="1035360"/>
                  </a:xfrm>
                  <a:custGeom>
                    <a:avLst/>
                    <a:gdLst>
                      <a:gd name="textAreaLeft" fmla="*/ 0 w 1045440"/>
                      <a:gd name="textAreaRight" fmla="*/ 1045800 w 1045440"/>
                      <a:gd name="textAreaTop" fmla="*/ 0 h 1035360"/>
                      <a:gd name="textAreaBottom" fmla="*/ 1035720 h 1035360"/>
                    </a:gdLst>
                    <a:ahLst/>
                    <a:rect l="textAreaLeft" t="textAreaTop" r="textAreaRight" b="textAreaBottom"/>
                    <a:pathLst>
                      <a:path w="3795" h="3795">
                        <a:moveTo>
                          <a:pt x="1898" y="3795"/>
                        </a:moveTo>
                        <a:lnTo>
                          <a:pt x="1995" y="3793"/>
                        </a:lnTo>
                        <a:lnTo>
                          <a:pt x="2091" y="3786"/>
                        </a:lnTo>
                        <a:lnTo>
                          <a:pt x="2185" y="3774"/>
                        </a:lnTo>
                        <a:lnTo>
                          <a:pt x="2279" y="3756"/>
                        </a:lnTo>
                        <a:lnTo>
                          <a:pt x="2371" y="3735"/>
                        </a:lnTo>
                        <a:lnTo>
                          <a:pt x="2461" y="3709"/>
                        </a:lnTo>
                        <a:lnTo>
                          <a:pt x="2548" y="3680"/>
                        </a:lnTo>
                        <a:lnTo>
                          <a:pt x="2634" y="3646"/>
                        </a:lnTo>
                        <a:lnTo>
                          <a:pt x="2718" y="3608"/>
                        </a:lnTo>
                        <a:lnTo>
                          <a:pt x="2800" y="3565"/>
                        </a:lnTo>
                        <a:lnTo>
                          <a:pt x="2880" y="3520"/>
                        </a:lnTo>
                        <a:lnTo>
                          <a:pt x="2957" y="3471"/>
                        </a:lnTo>
                        <a:lnTo>
                          <a:pt x="3031" y="3417"/>
                        </a:lnTo>
                        <a:lnTo>
                          <a:pt x="3103" y="3360"/>
                        </a:lnTo>
                        <a:lnTo>
                          <a:pt x="3172" y="3302"/>
                        </a:lnTo>
                        <a:lnTo>
                          <a:pt x="3238" y="3238"/>
                        </a:lnTo>
                        <a:lnTo>
                          <a:pt x="3301" y="3172"/>
                        </a:lnTo>
                        <a:lnTo>
                          <a:pt x="3360" y="3103"/>
                        </a:lnTo>
                        <a:lnTo>
                          <a:pt x="3417" y="3031"/>
                        </a:lnTo>
                        <a:lnTo>
                          <a:pt x="3470" y="2957"/>
                        </a:lnTo>
                        <a:lnTo>
                          <a:pt x="3519" y="2880"/>
                        </a:lnTo>
                        <a:lnTo>
                          <a:pt x="3565" y="2801"/>
                        </a:lnTo>
                        <a:lnTo>
                          <a:pt x="3608" y="2720"/>
                        </a:lnTo>
                        <a:lnTo>
                          <a:pt x="3646" y="2635"/>
                        </a:lnTo>
                        <a:lnTo>
                          <a:pt x="3679" y="2548"/>
                        </a:lnTo>
                        <a:lnTo>
                          <a:pt x="3709" y="2461"/>
                        </a:lnTo>
                        <a:lnTo>
                          <a:pt x="3735" y="2371"/>
                        </a:lnTo>
                        <a:lnTo>
                          <a:pt x="3756" y="2279"/>
                        </a:lnTo>
                        <a:lnTo>
                          <a:pt x="3773" y="2185"/>
                        </a:lnTo>
                        <a:lnTo>
                          <a:pt x="3785" y="2091"/>
                        </a:lnTo>
                        <a:lnTo>
                          <a:pt x="3792" y="1995"/>
                        </a:lnTo>
                        <a:lnTo>
                          <a:pt x="3795" y="1898"/>
                        </a:lnTo>
                        <a:lnTo>
                          <a:pt x="3792" y="1801"/>
                        </a:lnTo>
                        <a:lnTo>
                          <a:pt x="3785" y="1704"/>
                        </a:lnTo>
                        <a:lnTo>
                          <a:pt x="3773" y="1609"/>
                        </a:lnTo>
                        <a:lnTo>
                          <a:pt x="3756" y="1516"/>
                        </a:lnTo>
                        <a:lnTo>
                          <a:pt x="3735" y="1425"/>
                        </a:lnTo>
                        <a:lnTo>
                          <a:pt x="3709" y="1334"/>
                        </a:lnTo>
                        <a:lnTo>
                          <a:pt x="3679" y="1246"/>
                        </a:lnTo>
                        <a:lnTo>
                          <a:pt x="3646" y="1160"/>
                        </a:lnTo>
                        <a:lnTo>
                          <a:pt x="3608" y="1076"/>
                        </a:lnTo>
                        <a:lnTo>
                          <a:pt x="3565" y="994"/>
                        </a:lnTo>
                        <a:lnTo>
                          <a:pt x="3519" y="915"/>
                        </a:lnTo>
                        <a:lnTo>
                          <a:pt x="3470" y="838"/>
                        </a:lnTo>
                        <a:lnTo>
                          <a:pt x="3417" y="763"/>
                        </a:lnTo>
                        <a:lnTo>
                          <a:pt x="3360" y="692"/>
                        </a:lnTo>
                        <a:lnTo>
                          <a:pt x="3301" y="622"/>
                        </a:lnTo>
                        <a:lnTo>
                          <a:pt x="3238" y="557"/>
                        </a:lnTo>
                        <a:lnTo>
                          <a:pt x="3172" y="494"/>
                        </a:lnTo>
                        <a:lnTo>
                          <a:pt x="3103" y="434"/>
                        </a:lnTo>
                        <a:lnTo>
                          <a:pt x="3031" y="378"/>
                        </a:lnTo>
                        <a:lnTo>
                          <a:pt x="2957" y="325"/>
                        </a:lnTo>
                        <a:lnTo>
                          <a:pt x="2880" y="276"/>
                        </a:lnTo>
                        <a:lnTo>
                          <a:pt x="2800" y="230"/>
                        </a:lnTo>
                        <a:lnTo>
                          <a:pt x="2718" y="187"/>
                        </a:lnTo>
                        <a:lnTo>
                          <a:pt x="2634" y="149"/>
                        </a:lnTo>
                        <a:lnTo>
                          <a:pt x="2548" y="116"/>
                        </a:lnTo>
                        <a:lnTo>
                          <a:pt x="2461" y="85"/>
                        </a:lnTo>
                        <a:lnTo>
                          <a:pt x="2371" y="60"/>
                        </a:lnTo>
                        <a:lnTo>
                          <a:pt x="2279" y="38"/>
                        </a:lnTo>
                        <a:lnTo>
                          <a:pt x="2185" y="22"/>
                        </a:lnTo>
                        <a:lnTo>
                          <a:pt x="2091" y="10"/>
                        </a:lnTo>
                        <a:lnTo>
                          <a:pt x="1995" y="2"/>
                        </a:lnTo>
                        <a:lnTo>
                          <a:pt x="1898" y="0"/>
                        </a:lnTo>
                        <a:lnTo>
                          <a:pt x="1800" y="2"/>
                        </a:lnTo>
                        <a:lnTo>
                          <a:pt x="1704" y="10"/>
                        </a:lnTo>
                        <a:lnTo>
                          <a:pt x="1609" y="22"/>
                        </a:lnTo>
                        <a:lnTo>
                          <a:pt x="1516" y="38"/>
                        </a:lnTo>
                        <a:lnTo>
                          <a:pt x="1425" y="60"/>
                        </a:lnTo>
                        <a:lnTo>
                          <a:pt x="1334" y="85"/>
                        </a:lnTo>
                        <a:lnTo>
                          <a:pt x="1246" y="116"/>
                        </a:lnTo>
                        <a:lnTo>
                          <a:pt x="1160" y="149"/>
                        </a:lnTo>
                        <a:lnTo>
                          <a:pt x="1076" y="187"/>
                        </a:lnTo>
                        <a:lnTo>
                          <a:pt x="994" y="230"/>
                        </a:lnTo>
                        <a:lnTo>
                          <a:pt x="915" y="276"/>
                        </a:lnTo>
                        <a:lnTo>
                          <a:pt x="838" y="325"/>
                        </a:lnTo>
                        <a:lnTo>
                          <a:pt x="763" y="378"/>
                        </a:lnTo>
                        <a:lnTo>
                          <a:pt x="692" y="434"/>
                        </a:lnTo>
                        <a:lnTo>
                          <a:pt x="623" y="494"/>
                        </a:lnTo>
                        <a:lnTo>
                          <a:pt x="557" y="557"/>
                        </a:lnTo>
                        <a:lnTo>
                          <a:pt x="494" y="622"/>
                        </a:lnTo>
                        <a:lnTo>
                          <a:pt x="434" y="692"/>
                        </a:lnTo>
                        <a:lnTo>
                          <a:pt x="378" y="763"/>
                        </a:lnTo>
                        <a:lnTo>
                          <a:pt x="325" y="838"/>
                        </a:lnTo>
                        <a:lnTo>
                          <a:pt x="276" y="915"/>
                        </a:lnTo>
                        <a:lnTo>
                          <a:pt x="230" y="994"/>
                        </a:lnTo>
                        <a:lnTo>
                          <a:pt x="188" y="1076"/>
                        </a:lnTo>
                        <a:lnTo>
                          <a:pt x="150" y="1160"/>
                        </a:lnTo>
                        <a:lnTo>
                          <a:pt x="116" y="1246"/>
                        </a:lnTo>
                        <a:lnTo>
                          <a:pt x="85" y="1334"/>
                        </a:lnTo>
                        <a:lnTo>
                          <a:pt x="60" y="1425"/>
                        </a:lnTo>
                        <a:lnTo>
                          <a:pt x="38" y="1516"/>
                        </a:lnTo>
                        <a:lnTo>
                          <a:pt x="22" y="1609"/>
                        </a:lnTo>
                        <a:lnTo>
                          <a:pt x="10" y="1704"/>
                        </a:lnTo>
                        <a:lnTo>
                          <a:pt x="2" y="1801"/>
                        </a:lnTo>
                        <a:lnTo>
                          <a:pt x="0" y="1898"/>
                        </a:lnTo>
                        <a:lnTo>
                          <a:pt x="2" y="1995"/>
                        </a:lnTo>
                        <a:lnTo>
                          <a:pt x="10" y="2091"/>
                        </a:lnTo>
                        <a:lnTo>
                          <a:pt x="22" y="2185"/>
                        </a:lnTo>
                        <a:lnTo>
                          <a:pt x="38" y="2279"/>
                        </a:lnTo>
                        <a:lnTo>
                          <a:pt x="60" y="2371"/>
                        </a:lnTo>
                        <a:lnTo>
                          <a:pt x="85" y="2461"/>
                        </a:lnTo>
                        <a:lnTo>
                          <a:pt x="116" y="2548"/>
                        </a:lnTo>
                        <a:lnTo>
                          <a:pt x="150" y="2635"/>
                        </a:lnTo>
                        <a:lnTo>
                          <a:pt x="188" y="2720"/>
                        </a:lnTo>
                        <a:lnTo>
                          <a:pt x="230" y="2801"/>
                        </a:lnTo>
                        <a:lnTo>
                          <a:pt x="276" y="2880"/>
                        </a:lnTo>
                        <a:lnTo>
                          <a:pt x="325" y="2957"/>
                        </a:lnTo>
                        <a:lnTo>
                          <a:pt x="378" y="3031"/>
                        </a:lnTo>
                        <a:lnTo>
                          <a:pt x="434" y="3103"/>
                        </a:lnTo>
                        <a:lnTo>
                          <a:pt x="494" y="3172"/>
                        </a:lnTo>
                        <a:lnTo>
                          <a:pt x="557" y="3238"/>
                        </a:lnTo>
                        <a:lnTo>
                          <a:pt x="623" y="3302"/>
                        </a:lnTo>
                        <a:lnTo>
                          <a:pt x="692" y="3360"/>
                        </a:lnTo>
                        <a:lnTo>
                          <a:pt x="763" y="3417"/>
                        </a:lnTo>
                        <a:lnTo>
                          <a:pt x="838" y="3471"/>
                        </a:lnTo>
                        <a:lnTo>
                          <a:pt x="915" y="3520"/>
                        </a:lnTo>
                        <a:lnTo>
                          <a:pt x="994" y="3565"/>
                        </a:lnTo>
                        <a:lnTo>
                          <a:pt x="1076" y="3608"/>
                        </a:lnTo>
                        <a:lnTo>
                          <a:pt x="1160" y="3646"/>
                        </a:lnTo>
                        <a:lnTo>
                          <a:pt x="1246" y="3680"/>
                        </a:lnTo>
                        <a:lnTo>
                          <a:pt x="1334" y="3709"/>
                        </a:lnTo>
                        <a:lnTo>
                          <a:pt x="1425" y="3735"/>
                        </a:lnTo>
                        <a:lnTo>
                          <a:pt x="1516" y="3756"/>
                        </a:lnTo>
                        <a:lnTo>
                          <a:pt x="1609" y="3774"/>
                        </a:lnTo>
                        <a:lnTo>
                          <a:pt x="1704" y="3786"/>
                        </a:lnTo>
                        <a:lnTo>
                          <a:pt x="1800" y="3793"/>
                        </a:lnTo>
                        <a:lnTo>
                          <a:pt x="1898"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 name="Freeform 69"/>
                  <p:cNvSpPr/>
                  <p:nvPr/>
                </p:nvSpPr>
                <p:spPr>
                  <a:xfrm>
                    <a:off x="587880" y="1223640"/>
                    <a:ext cx="1045440" cy="1035360"/>
                  </a:xfrm>
                  <a:custGeom>
                    <a:avLst/>
                    <a:gdLst>
                      <a:gd name="textAreaLeft" fmla="*/ 0 w 1045440"/>
                      <a:gd name="textAreaRight" fmla="*/ 1045800 w 1045440"/>
                      <a:gd name="textAreaTop" fmla="*/ 0 h 1035360"/>
                      <a:gd name="textAreaBottom" fmla="*/ 1035720 h 1035360"/>
                    </a:gdLst>
                    <a:ahLst/>
                    <a:rect l="textAreaLeft" t="textAreaTop" r="textAreaRight" b="textAreaBottom"/>
                    <a:pathLst>
                      <a:path w="3795" h="3795">
                        <a:moveTo>
                          <a:pt x="1898" y="3795"/>
                        </a:moveTo>
                        <a:lnTo>
                          <a:pt x="1995" y="3793"/>
                        </a:lnTo>
                        <a:lnTo>
                          <a:pt x="2091" y="3786"/>
                        </a:lnTo>
                        <a:lnTo>
                          <a:pt x="2185" y="3774"/>
                        </a:lnTo>
                        <a:lnTo>
                          <a:pt x="2279" y="3756"/>
                        </a:lnTo>
                        <a:lnTo>
                          <a:pt x="2371" y="3735"/>
                        </a:lnTo>
                        <a:lnTo>
                          <a:pt x="2461" y="3709"/>
                        </a:lnTo>
                        <a:lnTo>
                          <a:pt x="2548" y="3680"/>
                        </a:lnTo>
                        <a:lnTo>
                          <a:pt x="2634" y="3646"/>
                        </a:lnTo>
                        <a:lnTo>
                          <a:pt x="2718" y="3608"/>
                        </a:lnTo>
                        <a:lnTo>
                          <a:pt x="2800" y="3565"/>
                        </a:lnTo>
                        <a:lnTo>
                          <a:pt x="2880" y="3520"/>
                        </a:lnTo>
                        <a:lnTo>
                          <a:pt x="2957" y="3471"/>
                        </a:lnTo>
                        <a:lnTo>
                          <a:pt x="3031" y="3417"/>
                        </a:lnTo>
                        <a:lnTo>
                          <a:pt x="3103" y="3360"/>
                        </a:lnTo>
                        <a:lnTo>
                          <a:pt x="3172" y="3302"/>
                        </a:lnTo>
                        <a:lnTo>
                          <a:pt x="3238" y="3238"/>
                        </a:lnTo>
                        <a:lnTo>
                          <a:pt x="3301" y="3172"/>
                        </a:lnTo>
                        <a:lnTo>
                          <a:pt x="3360" y="3103"/>
                        </a:lnTo>
                        <a:lnTo>
                          <a:pt x="3417" y="3031"/>
                        </a:lnTo>
                        <a:lnTo>
                          <a:pt x="3470" y="2957"/>
                        </a:lnTo>
                        <a:lnTo>
                          <a:pt x="3519" y="2880"/>
                        </a:lnTo>
                        <a:lnTo>
                          <a:pt x="3565" y="2801"/>
                        </a:lnTo>
                        <a:lnTo>
                          <a:pt x="3608" y="2720"/>
                        </a:lnTo>
                        <a:lnTo>
                          <a:pt x="3646" y="2635"/>
                        </a:lnTo>
                        <a:lnTo>
                          <a:pt x="3679" y="2548"/>
                        </a:lnTo>
                        <a:lnTo>
                          <a:pt x="3709" y="2461"/>
                        </a:lnTo>
                        <a:lnTo>
                          <a:pt x="3735" y="2371"/>
                        </a:lnTo>
                        <a:lnTo>
                          <a:pt x="3756" y="2279"/>
                        </a:lnTo>
                        <a:lnTo>
                          <a:pt x="3773" y="2185"/>
                        </a:lnTo>
                        <a:lnTo>
                          <a:pt x="3785" y="2091"/>
                        </a:lnTo>
                        <a:lnTo>
                          <a:pt x="3792" y="1995"/>
                        </a:lnTo>
                        <a:lnTo>
                          <a:pt x="3795" y="1898"/>
                        </a:lnTo>
                        <a:lnTo>
                          <a:pt x="3792" y="1801"/>
                        </a:lnTo>
                        <a:lnTo>
                          <a:pt x="3785" y="1704"/>
                        </a:lnTo>
                        <a:lnTo>
                          <a:pt x="3773" y="1609"/>
                        </a:lnTo>
                        <a:lnTo>
                          <a:pt x="3756" y="1516"/>
                        </a:lnTo>
                        <a:lnTo>
                          <a:pt x="3735" y="1425"/>
                        </a:lnTo>
                        <a:lnTo>
                          <a:pt x="3709" y="1334"/>
                        </a:lnTo>
                        <a:lnTo>
                          <a:pt x="3679" y="1246"/>
                        </a:lnTo>
                        <a:lnTo>
                          <a:pt x="3646" y="1160"/>
                        </a:lnTo>
                        <a:lnTo>
                          <a:pt x="3608" y="1076"/>
                        </a:lnTo>
                        <a:lnTo>
                          <a:pt x="3565" y="994"/>
                        </a:lnTo>
                        <a:lnTo>
                          <a:pt x="3519" y="915"/>
                        </a:lnTo>
                        <a:lnTo>
                          <a:pt x="3470" y="838"/>
                        </a:lnTo>
                        <a:lnTo>
                          <a:pt x="3417" y="763"/>
                        </a:lnTo>
                        <a:lnTo>
                          <a:pt x="3360" y="692"/>
                        </a:lnTo>
                        <a:lnTo>
                          <a:pt x="3301" y="622"/>
                        </a:lnTo>
                        <a:lnTo>
                          <a:pt x="3238" y="557"/>
                        </a:lnTo>
                        <a:lnTo>
                          <a:pt x="3172" y="494"/>
                        </a:lnTo>
                        <a:lnTo>
                          <a:pt x="3103" y="434"/>
                        </a:lnTo>
                        <a:lnTo>
                          <a:pt x="3031" y="378"/>
                        </a:lnTo>
                        <a:lnTo>
                          <a:pt x="2957" y="325"/>
                        </a:lnTo>
                        <a:lnTo>
                          <a:pt x="2880" y="276"/>
                        </a:lnTo>
                        <a:lnTo>
                          <a:pt x="2800" y="230"/>
                        </a:lnTo>
                        <a:lnTo>
                          <a:pt x="2718" y="187"/>
                        </a:lnTo>
                        <a:lnTo>
                          <a:pt x="2634" y="149"/>
                        </a:lnTo>
                        <a:lnTo>
                          <a:pt x="2548" y="116"/>
                        </a:lnTo>
                        <a:lnTo>
                          <a:pt x="2461" y="85"/>
                        </a:lnTo>
                        <a:lnTo>
                          <a:pt x="2371" y="60"/>
                        </a:lnTo>
                        <a:lnTo>
                          <a:pt x="2279" y="38"/>
                        </a:lnTo>
                        <a:lnTo>
                          <a:pt x="2185" y="22"/>
                        </a:lnTo>
                        <a:lnTo>
                          <a:pt x="2091" y="10"/>
                        </a:lnTo>
                        <a:lnTo>
                          <a:pt x="1995" y="2"/>
                        </a:lnTo>
                        <a:lnTo>
                          <a:pt x="1898" y="0"/>
                        </a:lnTo>
                        <a:lnTo>
                          <a:pt x="1800" y="2"/>
                        </a:lnTo>
                        <a:lnTo>
                          <a:pt x="1704" y="10"/>
                        </a:lnTo>
                        <a:lnTo>
                          <a:pt x="1609" y="22"/>
                        </a:lnTo>
                        <a:lnTo>
                          <a:pt x="1516" y="38"/>
                        </a:lnTo>
                        <a:lnTo>
                          <a:pt x="1425" y="60"/>
                        </a:lnTo>
                        <a:lnTo>
                          <a:pt x="1334" y="85"/>
                        </a:lnTo>
                        <a:lnTo>
                          <a:pt x="1246" y="116"/>
                        </a:lnTo>
                        <a:lnTo>
                          <a:pt x="1160" y="149"/>
                        </a:lnTo>
                        <a:lnTo>
                          <a:pt x="1076" y="187"/>
                        </a:lnTo>
                        <a:lnTo>
                          <a:pt x="994" y="230"/>
                        </a:lnTo>
                        <a:lnTo>
                          <a:pt x="915" y="276"/>
                        </a:lnTo>
                        <a:lnTo>
                          <a:pt x="838" y="325"/>
                        </a:lnTo>
                        <a:lnTo>
                          <a:pt x="763" y="378"/>
                        </a:lnTo>
                        <a:lnTo>
                          <a:pt x="692" y="434"/>
                        </a:lnTo>
                        <a:lnTo>
                          <a:pt x="623" y="494"/>
                        </a:lnTo>
                        <a:lnTo>
                          <a:pt x="557" y="557"/>
                        </a:lnTo>
                        <a:lnTo>
                          <a:pt x="494" y="622"/>
                        </a:lnTo>
                        <a:lnTo>
                          <a:pt x="434" y="692"/>
                        </a:lnTo>
                        <a:lnTo>
                          <a:pt x="378" y="763"/>
                        </a:lnTo>
                        <a:lnTo>
                          <a:pt x="325" y="838"/>
                        </a:lnTo>
                        <a:lnTo>
                          <a:pt x="276" y="915"/>
                        </a:lnTo>
                        <a:lnTo>
                          <a:pt x="230" y="994"/>
                        </a:lnTo>
                        <a:lnTo>
                          <a:pt x="188" y="1076"/>
                        </a:lnTo>
                        <a:lnTo>
                          <a:pt x="150" y="1160"/>
                        </a:lnTo>
                        <a:lnTo>
                          <a:pt x="116" y="1246"/>
                        </a:lnTo>
                        <a:lnTo>
                          <a:pt x="85" y="1334"/>
                        </a:lnTo>
                        <a:lnTo>
                          <a:pt x="60" y="1425"/>
                        </a:lnTo>
                        <a:lnTo>
                          <a:pt x="38" y="1516"/>
                        </a:lnTo>
                        <a:lnTo>
                          <a:pt x="22" y="1609"/>
                        </a:lnTo>
                        <a:lnTo>
                          <a:pt x="10" y="1704"/>
                        </a:lnTo>
                        <a:lnTo>
                          <a:pt x="2" y="1801"/>
                        </a:lnTo>
                        <a:lnTo>
                          <a:pt x="0" y="1898"/>
                        </a:lnTo>
                        <a:lnTo>
                          <a:pt x="2" y="1995"/>
                        </a:lnTo>
                        <a:lnTo>
                          <a:pt x="10" y="2091"/>
                        </a:lnTo>
                        <a:lnTo>
                          <a:pt x="22" y="2185"/>
                        </a:lnTo>
                        <a:lnTo>
                          <a:pt x="38" y="2279"/>
                        </a:lnTo>
                        <a:lnTo>
                          <a:pt x="60" y="2371"/>
                        </a:lnTo>
                        <a:lnTo>
                          <a:pt x="85" y="2461"/>
                        </a:lnTo>
                        <a:lnTo>
                          <a:pt x="116" y="2548"/>
                        </a:lnTo>
                        <a:lnTo>
                          <a:pt x="150" y="2635"/>
                        </a:lnTo>
                        <a:lnTo>
                          <a:pt x="188" y="2720"/>
                        </a:lnTo>
                        <a:lnTo>
                          <a:pt x="230" y="2801"/>
                        </a:lnTo>
                        <a:lnTo>
                          <a:pt x="276" y="2880"/>
                        </a:lnTo>
                        <a:lnTo>
                          <a:pt x="325" y="2957"/>
                        </a:lnTo>
                        <a:lnTo>
                          <a:pt x="378" y="3031"/>
                        </a:lnTo>
                        <a:lnTo>
                          <a:pt x="434" y="3103"/>
                        </a:lnTo>
                        <a:lnTo>
                          <a:pt x="494" y="3172"/>
                        </a:lnTo>
                        <a:lnTo>
                          <a:pt x="557" y="3238"/>
                        </a:lnTo>
                        <a:lnTo>
                          <a:pt x="623" y="3302"/>
                        </a:lnTo>
                        <a:lnTo>
                          <a:pt x="692" y="3360"/>
                        </a:lnTo>
                        <a:lnTo>
                          <a:pt x="763" y="3417"/>
                        </a:lnTo>
                        <a:lnTo>
                          <a:pt x="838" y="3471"/>
                        </a:lnTo>
                        <a:lnTo>
                          <a:pt x="915" y="3520"/>
                        </a:lnTo>
                        <a:lnTo>
                          <a:pt x="994" y="3565"/>
                        </a:lnTo>
                        <a:lnTo>
                          <a:pt x="1076" y="3608"/>
                        </a:lnTo>
                        <a:lnTo>
                          <a:pt x="1160" y="3646"/>
                        </a:lnTo>
                        <a:lnTo>
                          <a:pt x="1246" y="3680"/>
                        </a:lnTo>
                        <a:lnTo>
                          <a:pt x="1334" y="3709"/>
                        </a:lnTo>
                        <a:lnTo>
                          <a:pt x="1425" y="3735"/>
                        </a:lnTo>
                        <a:lnTo>
                          <a:pt x="1516" y="3756"/>
                        </a:lnTo>
                        <a:lnTo>
                          <a:pt x="1609" y="3774"/>
                        </a:lnTo>
                        <a:lnTo>
                          <a:pt x="1704" y="3786"/>
                        </a:lnTo>
                        <a:lnTo>
                          <a:pt x="1800" y="3793"/>
                        </a:lnTo>
                        <a:lnTo>
                          <a:pt x="1898" y="3795"/>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79" name="Text Box 70"/>
                <p:cNvSpPr/>
                <p:nvPr/>
              </p:nvSpPr>
              <p:spPr>
                <a:xfrm>
                  <a:off x="541080" y="1462320"/>
                  <a:ext cx="1123920" cy="24552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80" name="Text Box 71"/>
              <p:cNvSpPr/>
              <p:nvPr/>
            </p:nvSpPr>
            <p:spPr>
              <a:xfrm>
                <a:off x="561600" y="1593000"/>
                <a:ext cx="1123920" cy="246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Организация</a:t>
                </a:r>
                <a:endParaRPr b="0" lang="en-US" sz="1000" spc="-1" strike="noStrike">
                  <a:solidFill>
                    <a:srgbClr val="000000"/>
                  </a:solidFill>
                  <a:latin typeface="Arial"/>
                </a:endParaRPr>
              </a:p>
            </p:txBody>
          </p:sp>
        </p:grpSp>
        <p:grpSp>
          <p:nvGrpSpPr>
            <p:cNvPr id="481" name="Group 72"/>
            <p:cNvGrpSpPr/>
            <p:nvPr/>
          </p:nvGrpSpPr>
          <p:grpSpPr>
            <a:xfrm>
              <a:off x="2043360" y="1223640"/>
              <a:ext cx="1124640" cy="1035360"/>
              <a:chOff x="2043360" y="1223640"/>
              <a:chExt cx="1124640" cy="1035360"/>
            </a:xfrm>
          </p:grpSpPr>
          <p:sp>
            <p:nvSpPr>
              <p:cNvPr id="482" name="Freeform 73"/>
              <p:cNvSpPr/>
              <p:nvPr/>
            </p:nvSpPr>
            <p:spPr>
              <a:xfrm>
                <a:off x="2080440" y="1223640"/>
                <a:ext cx="1046160" cy="1035360"/>
              </a:xfrm>
              <a:custGeom>
                <a:avLst/>
                <a:gdLst>
                  <a:gd name="textAreaLeft" fmla="*/ 0 w 1046160"/>
                  <a:gd name="textAreaRight" fmla="*/ 1046520 w 1046160"/>
                  <a:gd name="textAreaTop" fmla="*/ 0 h 1035360"/>
                  <a:gd name="textAreaBottom" fmla="*/ 1035720 h 1035360"/>
                </a:gdLst>
                <a:ahLst/>
                <a:rect l="textAreaLeft" t="textAreaTop" r="textAreaRight" b="textAreaBottom"/>
                <a:pathLst>
                  <a:path w="3795" h="3795">
                    <a:moveTo>
                      <a:pt x="1897" y="3795"/>
                    </a:moveTo>
                    <a:lnTo>
                      <a:pt x="1994" y="3793"/>
                    </a:lnTo>
                    <a:lnTo>
                      <a:pt x="2090" y="3786"/>
                    </a:lnTo>
                    <a:lnTo>
                      <a:pt x="2185" y="3774"/>
                    </a:lnTo>
                    <a:lnTo>
                      <a:pt x="2279" y="3756"/>
                    </a:lnTo>
                    <a:lnTo>
                      <a:pt x="2370" y="3735"/>
                    </a:lnTo>
                    <a:lnTo>
                      <a:pt x="2460" y="3709"/>
                    </a:lnTo>
                    <a:lnTo>
                      <a:pt x="2548" y="3680"/>
                    </a:lnTo>
                    <a:lnTo>
                      <a:pt x="2634" y="3646"/>
                    </a:lnTo>
                    <a:lnTo>
                      <a:pt x="2718" y="3608"/>
                    </a:lnTo>
                    <a:lnTo>
                      <a:pt x="2800" y="3565"/>
                    </a:lnTo>
                    <a:lnTo>
                      <a:pt x="2879" y="3520"/>
                    </a:lnTo>
                    <a:lnTo>
                      <a:pt x="2956" y="3471"/>
                    </a:lnTo>
                    <a:lnTo>
                      <a:pt x="3031" y="3417"/>
                    </a:lnTo>
                    <a:lnTo>
                      <a:pt x="3103" y="3360"/>
                    </a:lnTo>
                    <a:lnTo>
                      <a:pt x="3171" y="3302"/>
                    </a:lnTo>
                    <a:lnTo>
                      <a:pt x="3238" y="3238"/>
                    </a:lnTo>
                    <a:lnTo>
                      <a:pt x="3300" y="3172"/>
                    </a:lnTo>
                    <a:lnTo>
                      <a:pt x="3360" y="3103"/>
                    </a:lnTo>
                    <a:lnTo>
                      <a:pt x="3416" y="3031"/>
                    </a:lnTo>
                    <a:lnTo>
                      <a:pt x="3470" y="2957"/>
                    </a:lnTo>
                    <a:lnTo>
                      <a:pt x="3519" y="2880"/>
                    </a:lnTo>
                    <a:lnTo>
                      <a:pt x="3565" y="2801"/>
                    </a:lnTo>
                    <a:lnTo>
                      <a:pt x="3606" y="2720"/>
                    </a:lnTo>
                    <a:lnTo>
                      <a:pt x="3644" y="2635"/>
                    </a:lnTo>
                    <a:lnTo>
                      <a:pt x="3679" y="2548"/>
                    </a:lnTo>
                    <a:lnTo>
                      <a:pt x="3708" y="2461"/>
                    </a:lnTo>
                    <a:lnTo>
                      <a:pt x="3735" y="2371"/>
                    </a:lnTo>
                    <a:lnTo>
                      <a:pt x="3755" y="2279"/>
                    </a:lnTo>
                    <a:lnTo>
                      <a:pt x="3772" y="2185"/>
                    </a:lnTo>
                    <a:lnTo>
                      <a:pt x="3785" y="2091"/>
                    </a:lnTo>
                    <a:lnTo>
                      <a:pt x="3791" y="1995"/>
                    </a:lnTo>
                    <a:lnTo>
                      <a:pt x="3795" y="1898"/>
                    </a:lnTo>
                    <a:lnTo>
                      <a:pt x="3791" y="1801"/>
                    </a:lnTo>
                    <a:lnTo>
                      <a:pt x="3785" y="1704"/>
                    </a:lnTo>
                    <a:lnTo>
                      <a:pt x="3772" y="1609"/>
                    </a:lnTo>
                    <a:lnTo>
                      <a:pt x="3755" y="1516"/>
                    </a:lnTo>
                    <a:lnTo>
                      <a:pt x="3735" y="1425"/>
                    </a:lnTo>
                    <a:lnTo>
                      <a:pt x="3708" y="1334"/>
                    </a:lnTo>
                    <a:lnTo>
                      <a:pt x="3679" y="1246"/>
                    </a:lnTo>
                    <a:lnTo>
                      <a:pt x="3644" y="1160"/>
                    </a:lnTo>
                    <a:lnTo>
                      <a:pt x="3606" y="1076"/>
                    </a:lnTo>
                    <a:lnTo>
                      <a:pt x="3565" y="994"/>
                    </a:lnTo>
                    <a:lnTo>
                      <a:pt x="3519" y="915"/>
                    </a:lnTo>
                    <a:lnTo>
                      <a:pt x="3470" y="838"/>
                    </a:lnTo>
                    <a:lnTo>
                      <a:pt x="3416" y="763"/>
                    </a:lnTo>
                    <a:lnTo>
                      <a:pt x="3360" y="692"/>
                    </a:lnTo>
                    <a:lnTo>
                      <a:pt x="3300" y="622"/>
                    </a:lnTo>
                    <a:lnTo>
                      <a:pt x="3238" y="557"/>
                    </a:lnTo>
                    <a:lnTo>
                      <a:pt x="3171" y="494"/>
                    </a:lnTo>
                    <a:lnTo>
                      <a:pt x="3103" y="434"/>
                    </a:lnTo>
                    <a:lnTo>
                      <a:pt x="3031" y="378"/>
                    </a:lnTo>
                    <a:lnTo>
                      <a:pt x="2956" y="325"/>
                    </a:lnTo>
                    <a:lnTo>
                      <a:pt x="2879" y="276"/>
                    </a:lnTo>
                    <a:lnTo>
                      <a:pt x="2800" y="230"/>
                    </a:lnTo>
                    <a:lnTo>
                      <a:pt x="2718" y="187"/>
                    </a:lnTo>
                    <a:lnTo>
                      <a:pt x="2634" y="149"/>
                    </a:lnTo>
                    <a:lnTo>
                      <a:pt x="2548" y="116"/>
                    </a:lnTo>
                    <a:lnTo>
                      <a:pt x="2460" y="85"/>
                    </a:lnTo>
                    <a:lnTo>
                      <a:pt x="2370" y="60"/>
                    </a:lnTo>
                    <a:lnTo>
                      <a:pt x="2279" y="38"/>
                    </a:lnTo>
                    <a:lnTo>
                      <a:pt x="2185" y="22"/>
                    </a:lnTo>
                    <a:lnTo>
                      <a:pt x="2090" y="10"/>
                    </a:lnTo>
                    <a:lnTo>
                      <a:pt x="1994" y="2"/>
                    </a:lnTo>
                    <a:lnTo>
                      <a:pt x="1897" y="0"/>
                    </a:lnTo>
                    <a:lnTo>
                      <a:pt x="1799" y="2"/>
                    </a:lnTo>
                    <a:lnTo>
                      <a:pt x="1703" y="10"/>
                    </a:lnTo>
                    <a:lnTo>
                      <a:pt x="1608" y="22"/>
                    </a:lnTo>
                    <a:lnTo>
                      <a:pt x="1516" y="38"/>
                    </a:lnTo>
                    <a:lnTo>
                      <a:pt x="1423" y="60"/>
                    </a:lnTo>
                    <a:lnTo>
                      <a:pt x="1334" y="85"/>
                    </a:lnTo>
                    <a:lnTo>
                      <a:pt x="1245" y="116"/>
                    </a:lnTo>
                    <a:lnTo>
                      <a:pt x="1159" y="149"/>
                    </a:lnTo>
                    <a:lnTo>
                      <a:pt x="1075" y="187"/>
                    </a:lnTo>
                    <a:lnTo>
                      <a:pt x="994" y="230"/>
                    </a:lnTo>
                    <a:lnTo>
                      <a:pt x="914" y="276"/>
                    </a:lnTo>
                    <a:lnTo>
                      <a:pt x="837" y="325"/>
                    </a:lnTo>
                    <a:lnTo>
                      <a:pt x="763" y="378"/>
                    </a:lnTo>
                    <a:lnTo>
                      <a:pt x="691" y="434"/>
                    </a:lnTo>
                    <a:lnTo>
                      <a:pt x="622" y="494"/>
                    </a:lnTo>
                    <a:lnTo>
                      <a:pt x="557" y="557"/>
                    </a:lnTo>
                    <a:lnTo>
                      <a:pt x="494" y="622"/>
                    </a:lnTo>
                    <a:lnTo>
                      <a:pt x="434" y="692"/>
                    </a:lnTo>
                    <a:lnTo>
                      <a:pt x="377" y="763"/>
                    </a:lnTo>
                    <a:lnTo>
                      <a:pt x="325" y="838"/>
                    </a:lnTo>
                    <a:lnTo>
                      <a:pt x="274" y="915"/>
                    </a:lnTo>
                    <a:lnTo>
                      <a:pt x="229" y="994"/>
                    </a:lnTo>
                    <a:lnTo>
                      <a:pt x="187" y="1076"/>
                    </a:lnTo>
                    <a:lnTo>
                      <a:pt x="149" y="1160"/>
                    </a:lnTo>
                    <a:lnTo>
                      <a:pt x="115" y="1246"/>
                    </a:lnTo>
                    <a:lnTo>
                      <a:pt x="85" y="1334"/>
                    </a:lnTo>
                    <a:lnTo>
                      <a:pt x="60" y="1425"/>
                    </a:lnTo>
                    <a:lnTo>
                      <a:pt x="38" y="1516"/>
                    </a:lnTo>
                    <a:lnTo>
                      <a:pt x="22" y="1609"/>
                    </a:lnTo>
                    <a:lnTo>
                      <a:pt x="10" y="1704"/>
                    </a:lnTo>
                    <a:lnTo>
                      <a:pt x="2" y="1801"/>
                    </a:lnTo>
                    <a:lnTo>
                      <a:pt x="0" y="1898"/>
                    </a:lnTo>
                    <a:lnTo>
                      <a:pt x="2" y="1995"/>
                    </a:lnTo>
                    <a:lnTo>
                      <a:pt x="10" y="2091"/>
                    </a:lnTo>
                    <a:lnTo>
                      <a:pt x="22" y="2185"/>
                    </a:lnTo>
                    <a:lnTo>
                      <a:pt x="38" y="2279"/>
                    </a:lnTo>
                    <a:lnTo>
                      <a:pt x="60" y="2371"/>
                    </a:lnTo>
                    <a:lnTo>
                      <a:pt x="85" y="2461"/>
                    </a:lnTo>
                    <a:lnTo>
                      <a:pt x="115" y="2548"/>
                    </a:lnTo>
                    <a:lnTo>
                      <a:pt x="149" y="2635"/>
                    </a:lnTo>
                    <a:lnTo>
                      <a:pt x="187" y="2720"/>
                    </a:lnTo>
                    <a:lnTo>
                      <a:pt x="229" y="2801"/>
                    </a:lnTo>
                    <a:lnTo>
                      <a:pt x="274" y="2880"/>
                    </a:lnTo>
                    <a:lnTo>
                      <a:pt x="325" y="2957"/>
                    </a:lnTo>
                    <a:lnTo>
                      <a:pt x="377" y="3031"/>
                    </a:lnTo>
                    <a:lnTo>
                      <a:pt x="434" y="3103"/>
                    </a:lnTo>
                    <a:lnTo>
                      <a:pt x="494" y="3172"/>
                    </a:lnTo>
                    <a:lnTo>
                      <a:pt x="557" y="3238"/>
                    </a:lnTo>
                    <a:lnTo>
                      <a:pt x="622" y="3302"/>
                    </a:lnTo>
                    <a:lnTo>
                      <a:pt x="691" y="3360"/>
                    </a:lnTo>
                    <a:lnTo>
                      <a:pt x="763" y="3417"/>
                    </a:lnTo>
                    <a:lnTo>
                      <a:pt x="837" y="3471"/>
                    </a:lnTo>
                    <a:lnTo>
                      <a:pt x="914" y="3520"/>
                    </a:lnTo>
                    <a:lnTo>
                      <a:pt x="994" y="3565"/>
                    </a:lnTo>
                    <a:lnTo>
                      <a:pt x="1075" y="3608"/>
                    </a:lnTo>
                    <a:lnTo>
                      <a:pt x="1159" y="3646"/>
                    </a:lnTo>
                    <a:lnTo>
                      <a:pt x="1245" y="3680"/>
                    </a:lnTo>
                    <a:lnTo>
                      <a:pt x="1334" y="3709"/>
                    </a:lnTo>
                    <a:lnTo>
                      <a:pt x="1423" y="3735"/>
                    </a:lnTo>
                    <a:lnTo>
                      <a:pt x="1516" y="3756"/>
                    </a:lnTo>
                    <a:lnTo>
                      <a:pt x="1608" y="3774"/>
                    </a:lnTo>
                    <a:lnTo>
                      <a:pt x="1703" y="3786"/>
                    </a:lnTo>
                    <a:lnTo>
                      <a:pt x="1799" y="3793"/>
                    </a:lnTo>
                    <a:lnTo>
                      <a:pt x="1897" y="3795"/>
                    </a:lnTo>
                    <a:close/>
                  </a:path>
                </a:pathLst>
              </a:custGeom>
              <a:solidFill>
                <a:srgbClr val="00007d"/>
              </a:solidFill>
              <a:ln w="9360">
                <a:solidFill>
                  <a:srgbClr val="0000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 name="Text Box 74"/>
              <p:cNvSpPr/>
              <p:nvPr/>
            </p:nvSpPr>
            <p:spPr>
              <a:xfrm>
                <a:off x="2043360" y="1593000"/>
                <a:ext cx="1124640" cy="246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Персонал</a:t>
                </a:r>
                <a:endParaRPr b="0" lang="en-US" sz="1000" spc="-1" strike="noStrike">
                  <a:solidFill>
                    <a:srgbClr val="000000"/>
                  </a:solidFill>
                  <a:latin typeface="Arial"/>
                </a:endParaRPr>
              </a:p>
            </p:txBody>
          </p:sp>
        </p:grpSp>
        <p:grpSp>
          <p:nvGrpSpPr>
            <p:cNvPr id="484" name="Group 75"/>
            <p:cNvGrpSpPr/>
            <p:nvPr/>
          </p:nvGrpSpPr>
          <p:grpSpPr>
            <a:xfrm>
              <a:off x="3495240" y="1223640"/>
              <a:ext cx="1124640" cy="1035360"/>
              <a:chOff x="3495240" y="1223640"/>
              <a:chExt cx="1124640" cy="1035360"/>
            </a:xfrm>
          </p:grpSpPr>
          <p:grpSp>
            <p:nvGrpSpPr>
              <p:cNvPr id="485" name="Group 76"/>
              <p:cNvGrpSpPr/>
              <p:nvPr/>
            </p:nvGrpSpPr>
            <p:grpSpPr>
              <a:xfrm>
                <a:off x="3536280" y="1223640"/>
                <a:ext cx="1046160" cy="1035360"/>
                <a:chOff x="3536280" y="1223640"/>
                <a:chExt cx="1046160" cy="1035360"/>
              </a:xfrm>
            </p:grpSpPr>
            <p:sp>
              <p:nvSpPr>
                <p:cNvPr id="486" name="Freeform 77"/>
                <p:cNvSpPr/>
                <p:nvPr/>
              </p:nvSpPr>
              <p:spPr>
                <a:xfrm>
                  <a:off x="3536280" y="1223640"/>
                  <a:ext cx="1046160" cy="1035360"/>
                </a:xfrm>
                <a:custGeom>
                  <a:avLst/>
                  <a:gdLst>
                    <a:gd name="textAreaLeft" fmla="*/ 0 w 1046160"/>
                    <a:gd name="textAreaRight" fmla="*/ 1046520 w 1046160"/>
                    <a:gd name="textAreaTop" fmla="*/ 0 h 1035360"/>
                    <a:gd name="textAreaBottom" fmla="*/ 1035720 h 1035360"/>
                  </a:gdLst>
                  <a:ahLst/>
                  <a:rect l="textAreaLeft" t="textAreaTop" r="textAreaRight" b="textAreaBottom"/>
                  <a:pathLst>
                    <a:path w="3795" h="3795">
                      <a:moveTo>
                        <a:pt x="1897" y="3795"/>
                      </a:moveTo>
                      <a:lnTo>
                        <a:pt x="1995" y="3793"/>
                      </a:lnTo>
                      <a:lnTo>
                        <a:pt x="2091" y="3786"/>
                      </a:lnTo>
                      <a:lnTo>
                        <a:pt x="2186" y="3774"/>
                      </a:lnTo>
                      <a:lnTo>
                        <a:pt x="2279" y="3756"/>
                      </a:lnTo>
                      <a:lnTo>
                        <a:pt x="2371" y="3735"/>
                      </a:lnTo>
                      <a:lnTo>
                        <a:pt x="2461" y="3709"/>
                      </a:lnTo>
                      <a:lnTo>
                        <a:pt x="2549" y="3680"/>
                      </a:lnTo>
                      <a:lnTo>
                        <a:pt x="2635" y="3646"/>
                      </a:lnTo>
                      <a:lnTo>
                        <a:pt x="2719" y="3608"/>
                      </a:lnTo>
                      <a:lnTo>
                        <a:pt x="2801" y="3565"/>
                      </a:lnTo>
                      <a:lnTo>
                        <a:pt x="2880" y="3520"/>
                      </a:lnTo>
                      <a:lnTo>
                        <a:pt x="2958" y="3471"/>
                      </a:lnTo>
                      <a:lnTo>
                        <a:pt x="3032" y="3417"/>
                      </a:lnTo>
                      <a:lnTo>
                        <a:pt x="3104" y="3360"/>
                      </a:lnTo>
                      <a:lnTo>
                        <a:pt x="3172" y="3302"/>
                      </a:lnTo>
                      <a:lnTo>
                        <a:pt x="3238" y="3238"/>
                      </a:lnTo>
                      <a:lnTo>
                        <a:pt x="3301" y="3172"/>
                      </a:lnTo>
                      <a:lnTo>
                        <a:pt x="3361" y="3103"/>
                      </a:lnTo>
                      <a:lnTo>
                        <a:pt x="3418" y="3031"/>
                      </a:lnTo>
                      <a:lnTo>
                        <a:pt x="3470" y="2957"/>
                      </a:lnTo>
                      <a:lnTo>
                        <a:pt x="3520" y="2880"/>
                      </a:lnTo>
                      <a:lnTo>
                        <a:pt x="3566" y="2801"/>
                      </a:lnTo>
                      <a:lnTo>
                        <a:pt x="3607" y="2720"/>
                      </a:lnTo>
                      <a:lnTo>
                        <a:pt x="3645" y="2635"/>
                      </a:lnTo>
                      <a:lnTo>
                        <a:pt x="3679" y="2548"/>
                      </a:lnTo>
                      <a:lnTo>
                        <a:pt x="3710" y="2461"/>
                      </a:lnTo>
                      <a:lnTo>
                        <a:pt x="3735" y="2371"/>
                      </a:lnTo>
                      <a:lnTo>
                        <a:pt x="3756" y="2279"/>
                      </a:lnTo>
                      <a:lnTo>
                        <a:pt x="3773" y="2185"/>
                      </a:lnTo>
                      <a:lnTo>
                        <a:pt x="3785" y="2091"/>
                      </a:lnTo>
                      <a:lnTo>
                        <a:pt x="3792" y="1995"/>
                      </a:lnTo>
                      <a:lnTo>
                        <a:pt x="3795" y="1898"/>
                      </a:lnTo>
                      <a:lnTo>
                        <a:pt x="3792" y="1801"/>
                      </a:lnTo>
                      <a:lnTo>
                        <a:pt x="3785" y="1704"/>
                      </a:lnTo>
                      <a:lnTo>
                        <a:pt x="3773" y="1609"/>
                      </a:lnTo>
                      <a:lnTo>
                        <a:pt x="3756" y="1516"/>
                      </a:lnTo>
                      <a:lnTo>
                        <a:pt x="3735" y="1425"/>
                      </a:lnTo>
                      <a:lnTo>
                        <a:pt x="3710" y="1334"/>
                      </a:lnTo>
                      <a:lnTo>
                        <a:pt x="3679" y="1246"/>
                      </a:lnTo>
                      <a:lnTo>
                        <a:pt x="3645" y="1160"/>
                      </a:lnTo>
                      <a:lnTo>
                        <a:pt x="3607" y="1076"/>
                      </a:lnTo>
                      <a:lnTo>
                        <a:pt x="3566" y="994"/>
                      </a:lnTo>
                      <a:lnTo>
                        <a:pt x="3520" y="915"/>
                      </a:lnTo>
                      <a:lnTo>
                        <a:pt x="3470" y="838"/>
                      </a:lnTo>
                      <a:lnTo>
                        <a:pt x="3418" y="763"/>
                      </a:lnTo>
                      <a:lnTo>
                        <a:pt x="3361" y="692"/>
                      </a:lnTo>
                      <a:lnTo>
                        <a:pt x="3301" y="622"/>
                      </a:lnTo>
                      <a:lnTo>
                        <a:pt x="3238" y="557"/>
                      </a:lnTo>
                      <a:lnTo>
                        <a:pt x="3172" y="494"/>
                      </a:lnTo>
                      <a:lnTo>
                        <a:pt x="3104" y="434"/>
                      </a:lnTo>
                      <a:lnTo>
                        <a:pt x="3032" y="378"/>
                      </a:lnTo>
                      <a:lnTo>
                        <a:pt x="2958" y="325"/>
                      </a:lnTo>
                      <a:lnTo>
                        <a:pt x="2880" y="276"/>
                      </a:lnTo>
                      <a:lnTo>
                        <a:pt x="2801" y="230"/>
                      </a:lnTo>
                      <a:lnTo>
                        <a:pt x="2719" y="187"/>
                      </a:lnTo>
                      <a:lnTo>
                        <a:pt x="2635" y="149"/>
                      </a:lnTo>
                      <a:lnTo>
                        <a:pt x="2549" y="116"/>
                      </a:lnTo>
                      <a:lnTo>
                        <a:pt x="2461" y="85"/>
                      </a:lnTo>
                      <a:lnTo>
                        <a:pt x="2371" y="60"/>
                      </a:lnTo>
                      <a:lnTo>
                        <a:pt x="2279" y="38"/>
                      </a:lnTo>
                      <a:lnTo>
                        <a:pt x="2186" y="22"/>
                      </a:lnTo>
                      <a:lnTo>
                        <a:pt x="2091" y="10"/>
                      </a:lnTo>
                      <a:lnTo>
                        <a:pt x="1995" y="2"/>
                      </a:lnTo>
                      <a:lnTo>
                        <a:pt x="1897" y="0"/>
                      </a:lnTo>
                      <a:lnTo>
                        <a:pt x="1800" y="2"/>
                      </a:lnTo>
                      <a:lnTo>
                        <a:pt x="1704" y="10"/>
                      </a:lnTo>
                      <a:lnTo>
                        <a:pt x="1610" y="22"/>
                      </a:lnTo>
                      <a:lnTo>
                        <a:pt x="1516" y="38"/>
                      </a:lnTo>
                      <a:lnTo>
                        <a:pt x="1424" y="60"/>
                      </a:lnTo>
                      <a:lnTo>
                        <a:pt x="1335" y="85"/>
                      </a:lnTo>
                      <a:lnTo>
                        <a:pt x="1247" y="116"/>
                      </a:lnTo>
                      <a:lnTo>
                        <a:pt x="1161" y="149"/>
                      </a:lnTo>
                      <a:lnTo>
                        <a:pt x="1077" y="187"/>
                      </a:lnTo>
                      <a:lnTo>
                        <a:pt x="995" y="230"/>
                      </a:lnTo>
                      <a:lnTo>
                        <a:pt x="915" y="276"/>
                      </a:lnTo>
                      <a:lnTo>
                        <a:pt x="838" y="325"/>
                      </a:lnTo>
                      <a:lnTo>
                        <a:pt x="764" y="378"/>
                      </a:lnTo>
                      <a:lnTo>
                        <a:pt x="692" y="434"/>
                      </a:lnTo>
                      <a:lnTo>
                        <a:pt x="623" y="494"/>
                      </a:lnTo>
                      <a:lnTo>
                        <a:pt x="557" y="557"/>
                      </a:lnTo>
                      <a:lnTo>
                        <a:pt x="495" y="622"/>
                      </a:lnTo>
                      <a:lnTo>
                        <a:pt x="435" y="692"/>
                      </a:lnTo>
                      <a:lnTo>
                        <a:pt x="378" y="763"/>
                      </a:lnTo>
                      <a:lnTo>
                        <a:pt x="325" y="838"/>
                      </a:lnTo>
                      <a:lnTo>
                        <a:pt x="276" y="915"/>
                      </a:lnTo>
                      <a:lnTo>
                        <a:pt x="230" y="994"/>
                      </a:lnTo>
                      <a:lnTo>
                        <a:pt x="187" y="1076"/>
                      </a:lnTo>
                      <a:lnTo>
                        <a:pt x="150" y="1160"/>
                      </a:lnTo>
                      <a:lnTo>
                        <a:pt x="115" y="1246"/>
                      </a:lnTo>
                      <a:lnTo>
                        <a:pt x="86" y="1334"/>
                      </a:lnTo>
                      <a:lnTo>
                        <a:pt x="60" y="1425"/>
                      </a:lnTo>
                      <a:lnTo>
                        <a:pt x="39" y="1516"/>
                      </a:lnTo>
                      <a:lnTo>
                        <a:pt x="23" y="1609"/>
                      </a:lnTo>
                      <a:lnTo>
                        <a:pt x="10" y="1704"/>
                      </a:lnTo>
                      <a:lnTo>
                        <a:pt x="3" y="1801"/>
                      </a:lnTo>
                      <a:lnTo>
                        <a:pt x="0" y="1898"/>
                      </a:lnTo>
                      <a:lnTo>
                        <a:pt x="3" y="1995"/>
                      </a:lnTo>
                      <a:lnTo>
                        <a:pt x="10" y="2091"/>
                      </a:lnTo>
                      <a:lnTo>
                        <a:pt x="23" y="2185"/>
                      </a:lnTo>
                      <a:lnTo>
                        <a:pt x="39" y="2279"/>
                      </a:lnTo>
                      <a:lnTo>
                        <a:pt x="60" y="2371"/>
                      </a:lnTo>
                      <a:lnTo>
                        <a:pt x="86" y="2461"/>
                      </a:lnTo>
                      <a:lnTo>
                        <a:pt x="115" y="2548"/>
                      </a:lnTo>
                      <a:lnTo>
                        <a:pt x="150" y="2635"/>
                      </a:lnTo>
                      <a:lnTo>
                        <a:pt x="187" y="2720"/>
                      </a:lnTo>
                      <a:lnTo>
                        <a:pt x="230" y="2801"/>
                      </a:lnTo>
                      <a:lnTo>
                        <a:pt x="276" y="2880"/>
                      </a:lnTo>
                      <a:lnTo>
                        <a:pt x="325" y="2957"/>
                      </a:lnTo>
                      <a:lnTo>
                        <a:pt x="378" y="3031"/>
                      </a:lnTo>
                      <a:lnTo>
                        <a:pt x="435" y="3103"/>
                      </a:lnTo>
                      <a:lnTo>
                        <a:pt x="495" y="3172"/>
                      </a:lnTo>
                      <a:lnTo>
                        <a:pt x="557" y="3238"/>
                      </a:lnTo>
                      <a:lnTo>
                        <a:pt x="623" y="3302"/>
                      </a:lnTo>
                      <a:lnTo>
                        <a:pt x="692" y="3360"/>
                      </a:lnTo>
                      <a:lnTo>
                        <a:pt x="764" y="3417"/>
                      </a:lnTo>
                      <a:lnTo>
                        <a:pt x="838" y="3471"/>
                      </a:lnTo>
                      <a:lnTo>
                        <a:pt x="915" y="3520"/>
                      </a:lnTo>
                      <a:lnTo>
                        <a:pt x="995" y="3565"/>
                      </a:lnTo>
                      <a:lnTo>
                        <a:pt x="1077" y="3608"/>
                      </a:lnTo>
                      <a:lnTo>
                        <a:pt x="1161" y="3646"/>
                      </a:lnTo>
                      <a:lnTo>
                        <a:pt x="1247" y="3680"/>
                      </a:lnTo>
                      <a:lnTo>
                        <a:pt x="1335" y="3709"/>
                      </a:lnTo>
                      <a:lnTo>
                        <a:pt x="1424" y="3735"/>
                      </a:lnTo>
                      <a:lnTo>
                        <a:pt x="1516" y="3756"/>
                      </a:lnTo>
                      <a:lnTo>
                        <a:pt x="1610" y="3774"/>
                      </a:lnTo>
                      <a:lnTo>
                        <a:pt x="1704" y="3786"/>
                      </a:lnTo>
                      <a:lnTo>
                        <a:pt x="1800"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7" name="Freeform 78"/>
                <p:cNvSpPr/>
                <p:nvPr/>
              </p:nvSpPr>
              <p:spPr>
                <a:xfrm>
                  <a:off x="3536280" y="1223640"/>
                  <a:ext cx="1046160" cy="1035360"/>
                </a:xfrm>
                <a:custGeom>
                  <a:avLst/>
                  <a:gdLst>
                    <a:gd name="textAreaLeft" fmla="*/ 0 w 1046160"/>
                    <a:gd name="textAreaRight" fmla="*/ 1046520 w 1046160"/>
                    <a:gd name="textAreaTop" fmla="*/ 0 h 1035360"/>
                    <a:gd name="textAreaBottom" fmla="*/ 1035720 h 1035360"/>
                  </a:gdLst>
                  <a:ahLst/>
                  <a:rect l="textAreaLeft" t="textAreaTop" r="textAreaRight" b="textAreaBottom"/>
                  <a:pathLst>
                    <a:path w="3795" h="3795">
                      <a:moveTo>
                        <a:pt x="1897" y="3795"/>
                      </a:moveTo>
                      <a:lnTo>
                        <a:pt x="1995" y="3793"/>
                      </a:lnTo>
                      <a:lnTo>
                        <a:pt x="2091" y="3786"/>
                      </a:lnTo>
                      <a:lnTo>
                        <a:pt x="2186" y="3774"/>
                      </a:lnTo>
                      <a:lnTo>
                        <a:pt x="2279" y="3756"/>
                      </a:lnTo>
                      <a:lnTo>
                        <a:pt x="2371" y="3735"/>
                      </a:lnTo>
                      <a:lnTo>
                        <a:pt x="2461" y="3709"/>
                      </a:lnTo>
                      <a:lnTo>
                        <a:pt x="2549" y="3680"/>
                      </a:lnTo>
                      <a:lnTo>
                        <a:pt x="2635" y="3646"/>
                      </a:lnTo>
                      <a:lnTo>
                        <a:pt x="2719" y="3608"/>
                      </a:lnTo>
                      <a:lnTo>
                        <a:pt x="2801" y="3565"/>
                      </a:lnTo>
                      <a:lnTo>
                        <a:pt x="2880" y="3520"/>
                      </a:lnTo>
                      <a:lnTo>
                        <a:pt x="2958" y="3471"/>
                      </a:lnTo>
                      <a:lnTo>
                        <a:pt x="3032" y="3417"/>
                      </a:lnTo>
                      <a:lnTo>
                        <a:pt x="3104" y="3360"/>
                      </a:lnTo>
                      <a:lnTo>
                        <a:pt x="3172" y="3302"/>
                      </a:lnTo>
                      <a:lnTo>
                        <a:pt x="3238" y="3238"/>
                      </a:lnTo>
                      <a:lnTo>
                        <a:pt x="3301" y="3172"/>
                      </a:lnTo>
                      <a:lnTo>
                        <a:pt x="3361" y="3103"/>
                      </a:lnTo>
                      <a:lnTo>
                        <a:pt x="3418" y="3031"/>
                      </a:lnTo>
                      <a:lnTo>
                        <a:pt x="3470" y="2957"/>
                      </a:lnTo>
                      <a:lnTo>
                        <a:pt x="3520" y="2880"/>
                      </a:lnTo>
                      <a:lnTo>
                        <a:pt x="3566" y="2801"/>
                      </a:lnTo>
                      <a:lnTo>
                        <a:pt x="3607" y="2720"/>
                      </a:lnTo>
                      <a:lnTo>
                        <a:pt x="3645" y="2635"/>
                      </a:lnTo>
                      <a:lnTo>
                        <a:pt x="3679" y="2548"/>
                      </a:lnTo>
                      <a:lnTo>
                        <a:pt x="3710" y="2461"/>
                      </a:lnTo>
                      <a:lnTo>
                        <a:pt x="3735" y="2371"/>
                      </a:lnTo>
                      <a:lnTo>
                        <a:pt x="3756" y="2279"/>
                      </a:lnTo>
                      <a:lnTo>
                        <a:pt x="3773" y="2185"/>
                      </a:lnTo>
                      <a:lnTo>
                        <a:pt x="3785" y="2091"/>
                      </a:lnTo>
                      <a:lnTo>
                        <a:pt x="3792" y="1995"/>
                      </a:lnTo>
                      <a:lnTo>
                        <a:pt x="3795" y="1898"/>
                      </a:lnTo>
                      <a:lnTo>
                        <a:pt x="3792" y="1801"/>
                      </a:lnTo>
                      <a:lnTo>
                        <a:pt x="3785" y="1704"/>
                      </a:lnTo>
                      <a:lnTo>
                        <a:pt x="3773" y="1609"/>
                      </a:lnTo>
                      <a:lnTo>
                        <a:pt x="3756" y="1516"/>
                      </a:lnTo>
                      <a:lnTo>
                        <a:pt x="3735" y="1425"/>
                      </a:lnTo>
                      <a:lnTo>
                        <a:pt x="3710" y="1334"/>
                      </a:lnTo>
                      <a:lnTo>
                        <a:pt x="3679" y="1246"/>
                      </a:lnTo>
                      <a:lnTo>
                        <a:pt x="3645" y="1160"/>
                      </a:lnTo>
                      <a:lnTo>
                        <a:pt x="3607" y="1076"/>
                      </a:lnTo>
                      <a:lnTo>
                        <a:pt x="3566" y="994"/>
                      </a:lnTo>
                      <a:lnTo>
                        <a:pt x="3520" y="915"/>
                      </a:lnTo>
                      <a:lnTo>
                        <a:pt x="3470" y="838"/>
                      </a:lnTo>
                      <a:lnTo>
                        <a:pt x="3418" y="763"/>
                      </a:lnTo>
                      <a:lnTo>
                        <a:pt x="3361" y="692"/>
                      </a:lnTo>
                      <a:lnTo>
                        <a:pt x="3301" y="622"/>
                      </a:lnTo>
                      <a:lnTo>
                        <a:pt x="3238" y="557"/>
                      </a:lnTo>
                      <a:lnTo>
                        <a:pt x="3172" y="494"/>
                      </a:lnTo>
                      <a:lnTo>
                        <a:pt x="3104" y="434"/>
                      </a:lnTo>
                      <a:lnTo>
                        <a:pt x="3032" y="378"/>
                      </a:lnTo>
                      <a:lnTo>
                        <a:pt x="2958" y="325"/>
                      </a:lnTo>
                      <a:lnTo>
                        <a:pt x="2880" y="276"/>
                      </a:lnTo>
                      <a:lnTo>
                        <a:pt x="2801" y="230"/>
                      </a:lnTo>
                      <a:lnTo>
                        <a:pt x="2719" y="187"/>
                      </a:lnTo>
                      <a:lnTo>
                        <a:pt x="2635" y="149"/>
                      </a:lnTo>
                      <a:lnTo>
                        <a:pt x="2549" y="116"/>
                      </a:lnTo>
                      <a:lnTo>
                        <a:pt x="2461" y="85"/>
                      </a:lnTo>
                      <a:lnTo>
                        <a:pt x="2371" y="60"/>
                      </a:lnTo>
                      <a:lnTo>
                        <a:pt x="2279" y="38"/>
                      </a:lnTo>
                      <a:lnTo>
                        <a:pt x="2186" y="22"/>
                      </a:lnTo>
                      <a:lnTo>
                        <a:pt x="2091" y="10"/>
                      </a:lnTo>
                      <a:lnTo>
                        <a:pt x="1995" y="2"/>
                      </a:lnTo>
                      <a:lnTo>
                        <a:pt x="1897" y="0"/>
                      </a:lnTo>
                      <a:lnTo>
                        <a:pt x="1800" y="2"/>
                      </a:lnTo>
                      <a:lnTo>
                        <a:pt x="1704" y="10"/>
                      </a:lnTo>
                      <a:lnTo>
                        <a:pt x="1610" y="22"/>
                      </a:lnTo>
                      <a:lnTo>
                        <a:pt x="1516" y="38"/>
                      </a:lnTo>
                      <a:lnTo>
                        <a:pt x="1424" y="60"/>
                      </a:lnTo>
                      <a:lnTo>
                        <a:pt x="1335" y="85"/>
                      </a:lnTo>
                      <a:lnTo>
                        <a:pt x="1247" y="116"/>
                      </a:lnTo>
                      <a:lnTo>
                        <a:pt x="1161" y="149"/>
                      </a:lnTo>
                      <a:lnTo>
                        <a:pt x="1077" y="187"/>
                      </a:lnTo>
                      <a:lnTo>
                        <a:pt x="995" y="230"/>
                      </a:lnTo>
                      <a:lnTo>
                        <a:pt x="915" y="276"/>
                      </a:lnTo>
                      <a:lnTo>
                        <a:pt x="838" y="325"/>
                      </a:lnTo>
                      <a:lnTo>
                        <a:pt x="764" y="378"/>
                      </a:lnTo>
                      <a:lnTo>
                        <a:pt x="692" y="434"/>
                      </a:lnTo>
                      <a:lnTo>
                        <a:pt x="623" y="494"/>
                      </a:lnTo>
                      <a:lnTo>
                        <a:pt x="557" y="557"/>
                      </a:lnTo>
                      <a:lnTo>
                        <a:pt x="495" y="622"/>
                      </a:lnTo>
                      <a:lnTo>
                        <a:pt x="435" y="692"/>
                      </a:lnTo>
                      <a:lnTo>
                        <a:pt x="378" y="763"/>
                      </a:lnTo>
                      <a:lnTo>
                        <a:pt x="325" y="838"/>
                      </a:lnTo>
                      <a:lnTo>
                        <a:pt x="276" y="915"/>
                      </a:lnTo>
                      <a:lnTo>
                        <a:pt x="230" y="994"/>
                      </a:lnTo>
                      <a:lnTo>
                        <a:pt x="187" y="1076"/>
                      </a:lnTo>
                      <a:lnTo>
                        <a:pt x="150" y="1160"/>
                      </a:lnTo>
                      <a:lnTo>
                        <a:pt x="115" y="1246"/>
                      </a:lnTo>
                      <a:lnTo>
                        <a:pt x="86" y="1334"/>
                      </a:lnTo>
                      <a:lnTo>
                        <a:pt x="60" y="1425"/>
                      </a:lnTo>
                      <a:lnTo>
                        <a:pt x="39" y="1516"/>
                      </a:lnTo>
                      <a:lnTo>
                        <a:pt x="23" y="1609"/>
                      </a:lnTo>
                      <a:lnTo>
                        <a:pt x="10" y="1704"/>
                      </a:lnTo>
                      <a:lnTo>
                        <a:pt x="3" y="1801"/>
                      </a:lnTo>
                      <a:lnTo>
                        <a:pt x="0" y="1898"/>
                      </a:lnTo>
                      <a:lnTo>
                        <a:pt x="3" y="1995"/>
                      </a:lnTo>
                      <a:lnTo>
                        <a:pt x="10" y="2091"/>
                      </a:lnTo>
                      <a:lnTo>
                        <a:pt x="23" y="2185"/>
                      </a:lnTo>
                      <a:lnTo>
                        <a:pt x="39" y="2279"/>
                      </a:lnTo>
                      <a:lnTo>
                        <a:pt x="60" y="2371"/>
                      </a:lnTo>
                      <a:lnTo>
                        <a:pt x="86" y="2461"/>
                      </a:lnTo>
                      <a:lnTo>
                        <a:pt x="115" y="2548"/>
                      </a:lnTo>
                      <a:lnTo>
                        <a:pt x="150" y="2635"/>
                      </a:lnTo>
                      <a:lnTo>
                        <a:pt x="187" y="2720"/>
                      </a:lnTo>
                      <a:lnTo>
                        <a:pt x="230" y="2801"/>
                      </a:lnTo>
                      <a:lnTo>
                        <a:pt x="276" y="2880"/>
                      </a:lnTo>
                      <a:lnTo>
                        <a:pt x="325" y="2957"/>
                      </a:lnTo>
                      <a:lnTo>
                        <a:pt x="378" y="3031"/>
                      </a:lnTo>
                      <a:lnTo>
                        <a:pt x="435" y="3103"/>
                      </a:lnTo>
                      <a:lnTo>
                        <a:pt x="495" y="3172"/>
                      </a:lnTo>
                      <a:lnTo>
                        <a:pt x="557" y="3238"/>
                      </a:lnTo>
                      <a:lnTo>
                        <a:pt x="623" y="3302"/>
                      </a:lnTo>
                      <a:lnTo>
                        <a:pt x="692" y="3360"/>
                      </a:lnTo>
                      <a:lnTo>
                        <a:pt x="764" y="3417"/>
                      </a:lnTo>
                      <a:lnTo>
                        <a:pt x="838" y="3471"/>
                      </a:lnTo>
                      <a:lnTo>
                        <a:pt x="915" y="3520"/>
                      </a:lnTo>
                      <a:lnTo>
                        <a:pt x="995" y="3565"/>
                      </a:lnTo>
                      <a:lnTo>
                        <a:pt x="1077" y="3608"/>
                      </a:lnTo>
                      <a:lnTo>
                        <a:pt x="1161" y="3646"/>
                      </a:lnTo>
                      <a:lnTo>
                        <a:pt x="1247" y="3680"/>
                      </a:lnTo>
                      <a:lnTo>
                        <a:pt x="1335" y="3709"/>
                      </a:lnTo>
                      <a:lnTo>
                        <a:pt x="1424" y="3735"/>
                      </a:lnTo>
                      <a:lnTo>
                        <a:pt x="1516" y="3756"/>
                      </a:lnTo>
                      <a:lnTo>
                        <a:pt x="1610" y="3774"/>
                      </a:lnTo>
                      <a:lnTo>
                        <a:pt x="1704" y="3786"/>
                      </a:lnTo>
                      <a:lnTo>
                        <a:pt x="1800" y="3793"/>
                      </a:lnTo>
                      <a:lnTo>
                        <a:pt x="1897" y="3795"/>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88" name="Text Box 79"/>
              <p:cNvSpPr/>
              <p:nvPr/>
            </p:nvSpPr>
            <p:spPr>
              <a:xfrm>
                <a:off x="3495240" y="1595520"/>
                <a:ext cx="1124640" cy="246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Оборудование</a:t>
                </a:r>
                <a:endParaRPr b="0" lang="en-US" sz="1000" spc="-1" strike="noStrike">
                  <a:solidFill>
                    <a:srgbClr val="000000"/>
                  </a:solidFill>
                  <a:latin typeface="Arial"/>
                </a:endParaRPr>
              </a:p>
            </p:txBody>
          </p:sp>
        </p:grpSp>
        <p:sp>
          <p:nvSpPr>
            <p:cNvPr id="489" name="Line 27"/>
            <p:cNvSpPr/>
            <p:nvPr/>
          </p:nvSpPr>
          <p:spPr>
            <a:xfrm flipH="1">
              <a:off x="886680" y="2941920"/>
              <a:ext cx="356148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490" name="Group 130"/>
            <p:cNvGrpSpPr/>
            <p:nvPr/>
          </p:nvGrpSpPr>
          <p:grpSpPr>
            <a:xfrm>
              <a:off x="541080" y="2389320"/>
              <a:ext cx="1052640" cy="1035360"/>
              <a:chOff x="541080" y="2389320"/>
              <a:chExt cx="1052640" cy="1035360"/>
            </a:xfrm>
          </p:grpSpPr>
          <p:sp>
            <p:nvSpPr>
              <p:cNvPr id="491" name="Freeform 46"/>
              <p:cNvSpPr/>
              <p:nvPr/>
            </p:nvSpPr>
            <p:spPr>
              <a:xfrm>
                <a:off x="545040" y="2389320"/>
                <a:ext cx="1048320" cy="1035360"/>
              </a:xfrm>
              <a:custGeom>
                <a:avLst/>
                <a:gdLst>
                  <a:gd name="textAreaLeft" fmla="*/ 0 w 1048320"/>
                  <a:gd name="textAreaRight" fmla="*/ 1048680 w 1048320"/>
                  <a:gd name="textAreaTop" fmla="*/ 0 h 1035360"/>
                  <a:gd name="textAreaBottom" fmla="*/ 1035720 h 1035360"/>
                </a:gdLst>
                <a:ahLst/>
                <a:rect l="textAreaLeft" t="textAreaTop" r="textAreaRight" b="textAreaBottom"/>
                <a:pathLst>
                  <a:path w="3795" h="3795">
                    <a:moveTo>
                      <a:pt x="1898" y="3795"/>
                    </a:moveTo>
                    <a:lnTo>
                      <a:pt x="1995" y="3792"/>
                    </a:lnTo>
                    <a:lnTo>
                      <a:pt x="2091" y="3786"/>
                    </a:lnTo>
                    <a:lnTo>
                      <a:pt x="2185" y="3774"/>
                    </a:lnTo>
                    <a:lnTo>
                      <a:pt x="2279" y="3756"/>
                    </a:lnTo>
                    <a:lnTo>
                      <a:pt x="2371" y="3736"/>
                    </a:lnTo>
                    <a:lnTo>
                      <a:pt x="2460" y="3709"/>
                    </a:lnTo>
                    <a:lnTo>
                      <a:pt x="2548" y="3680"/>
                    </a:lnTo>
                    <a:lnTo>
                      <a:pt x="2634" y="3645"/>
                    </a:lnTo>
                    <a:lnTo>
                      <a:pt x="2718" y="3608"/>
                    </a:lnTo>
                    <a:lnTo>
                      <a:pt x="2800" y="3566"/>
                    </a:lnTo>
                    <a:lnTo>
                      <a:pt x="2880" y="3520"/>
                    </a:lnTo>
                    <a:lnTo>
                      <a:pt x="2957" y="3471"/>
                    </a:lnTo>
                    <a:lnTo>
                      <a:pt x="3031" y="3417"/>
                    </a:lnTo>
                    <a:lnTo>
                      <a:pt x="3103" y="3361"/>
                    </a:lnTo>
                    <a:lnTo>
                      <a:pt x="3172" y="3301"/>
                    </a:lnTo>
                    <a:lnTo>
                      <a:pt x="3238" y="3239"/>
                    </a:lnTo>
                    <a:lnTo>
                      <a:pt x="3300" y="3172"/>
                    </a:lnTo>
                    <a:lnTo>
                      <a:pt x="3360" y="3103"/>
                    </a:lnTo>
                    <a:lnTo>
                      <a:pt x="3417" y="3031"/>
                    </a:lnTo>
                    <a:lnTo>
                      <a:pt x="3470" y="2957"/>
                    </a:lnTo>
                    <a:lnTo>
                      <a:pt x="3519" y="2880"/>
                    </a:lnTo>
                    <a:lnTo>
                      <a:pt x="3565" y="2800"/>
                    </a:lnTo>
                    <a:lnTo>
                      <a:pt x="3608" y="2719"/>
                    </a:lnTo>
                    <a:lnTo>
                      <a:pt x="3646" y="2635"/>
                    </a:lnTo>
                    <a:lnTo>
                      <a:pt x="3680" y="2549"/>
                    </a:lnTo>
                    <a:lnTo>
                      <a:pt x="3709" y="2460"/>
                    </a:lnTo>
                    <a:lnTo>
                      <a:pt x="3735" y="2371"/>
                    </a:lnTo>
                    <a:lnTo>
                      <a:pt x="3756" y="2279"/>
                    </a:lnTo>
                    <a:lnTo>
                      <a:pt x="3773" y="2186"/>
                    </a:lnTo>
                    <a:lnTo>
                      <a:pt x="3785" y="2091"/>
                    </a:lnTo>
                    <a:lnTo>
                      <a:pt x="3792" y="1995"/>
                    </a:lnTo>
                    <a:lnTo>
                      <a:pt x="3795" y="1898"/>
                    </a:lnTo>
                    <a:lnTo>
                      <a:pt x="3792" y="1800"/>
                    </a:lnTo>
                    <a:lnTo>
                      <a:pt x="3785" y="1704"/>
                    </a:lnTo>
                    <a:lnTo>
                      <a:pt x="3773" y="1609"/>
                    </a:lnTo>
                    <a:lnTo>
                      <a:pt x="3756" y="1516"/>
                    </a:lnTo>
                    <a:lnTo>
                      <a:pt x="3735" y="1424"/>
                    </a:lnTo>
                    <a:lnTo>
                      <a:pt x="3709" y="1334"/>
                    </a:lnTo>
                    <a:lnTo>
                      <a:pt x="3680" y="1246"/>
                    </a:lnTo>
                    <a:lnTo>
                      <a:pt x="3646" y="1160"/>
                    </a:lnTo>
                    <a:lnTo>
                      <a:pt x="3608" y="1076"/>
                    </a:lnTo>
                    <a:lnTo>
                      <a:pt x="3565" y="994"/>
                    </a:lnTo>
                    <a:lnTo>
                      <a:pt x="3519" y="915"/>
                    </a:lnTo>
                    <a:lnTo>
                      <a:pt x="3470" y="837"/>
                    </a:lnTo>
                    <a:lnTo>
                      <a:pt x="3417" y="763"/>
                    </a:lnTo>
                    <a:lnTo>
                      <a:pt x="3360" y="691"/>
                    </a:lnTo>
                    <a:lnTo>
                      <a:pt x="3300" y="623"/>
                    </a:lnTo>
                    <a:lnTo>
                      <a:pt x="3238" y="557"/>
                    </a:lnTo>
                    <a:lnTo>
                      <a:pt x="3172" y="494"/>
                    </a:lnTo>
                    <a:lnTo>
                      <a:pt x="3103" y="434"/>
                    </a:lnTo>
                    <a:lnTo>
                      <a:pt x="3031" y="377"/>
                    </a:lnTo>
                    <a:lnTo>
                      <a:pt x="2957" y="325"/>
                    </a:lnTo>
                    <a:lnTo>
                      <a:pt x="2880" y="275"/>
                    </a:lnTo>
                    <a:lnTo>
                      <a:pt x="2800" y="229"/>
                    </a:lnTo>
                    <a:lnTo>
                      <a:pt x="2718" y="188"/>
                    </a:lnTo>
                    <a:lnTo>
                      <a:pt x="2634" y="149"/>
                    </a:lnTo>
                    <a:lnTo>
                      <a:pt x="2548" y="116"/>
                    </a:lnTo>
                    <a:lnTo>
                      <a:pt x="2460" y="85"/>
                    </a:lnTo>
                    <a:lnTo>
                      <a:pt x="2371" y="60"/>
                    </a:lnTo>
                    <a:lnTo>
                      <a:pt x="2279" y="38"/>
                    </a:lnTo>
                    <a:lnTo>
                      <a:pt x="2185" y="22"/>
                    </a:lnTo>
                    <a:lnTo>
                      <a:pt x="2091" y="10"/>
                    </a:lnTo>
                    <a:lnTo>
                      <a:pt x="1995" y="2"/>
                    </a:lnTo>
                    <a:lnTo>
                      <a:pt x="1898" y="0"/>
                    </a:lnTo>
                    <a:lnTo>
                      <a:pt x="1800" y="2"/>
                    </a:lnTo>
                    <a:lnTo>
                      <a:pt x="1704" y="10"/>
                    </a:lnTo>
                    <a:lnTo>
                      <a:pt x="1609" y="22"/>
                    </a:lnTo>
                    <a:lnTo>
                      <a:pt x="1516" y="38"/>
                    </a:lnTo>
                    <a:lnTo>
                      <a:pt x="1425" y="60"/>
                    </a:lnTo>
                    <a:lnTo>
                      <a:pt x="1334" y="85"/>
                    </a:lnTo>
                    <a:lnTo>
                      <a:pt x="1246" y="116"/>
                    </a:lnTo>
                    <a:lnTo>
                      <a:pt x="1160" y="149"/>
                    </a:lnTo>
                    <a:lnTo>
                      <a:pt x="1076" y="188"/>
                    </a:lnTo>
                    <a:lnTo>
                      <a:pt x="994" y="229"/>
                    </a:lnTo>
                    <a:lnTo>
                      <a:pt x="915" y="275"/>
                    </a:lnTo>
                    <a:lnTo>
                      <a:pt x="838" y="325"/>
                    </a:lnTo>
                    <a:lnTo>
                      <a:pt x="763" y="377"/>
                    </a:lnTo>
                    <a:lnTo>
                      <a:pt x="691" y="434"/>
                    </a:lnTo>
                    <a:lnTo>
                      <a:pt x="623" y="494"/>
                    </a:lnTo>
                    <a:lnTo>
                      <a:pt x="557" y="557"/>
                    </a:lnTo>
                    <a:lnTo>
                      <a:pt x="494" y="623"/>
                    </a:lnTo>
                    <a:lnTo>
                      <a:pt x="434" y="691"/>
                    </a:lnTo>
                    <a:lnTo>
                      <a:pt x="377" y="763"/>
                    </a:lnTo>
                    <a:lnTo>
                      <a:pt x="325" y="837"/>
                    </a:lnTo>
                    <a:lnTo>
                      <a:pt x="275" y="915"/>
                    </a:lnTo>
                    <a:lnTo>
                      <a:pt x="229" y="994"/>
                    </a:lnTo>
                    <a:lnTo>
                      <a:pt x="188" y="1076"/>
                    </a:lnTo>
                    <a:lnTo>
                      <a:pt x="150" y="1160"/>
                    </a:lnTo>
                    <a:lnTo>
                      <a:pt x="116" y="1246"/>
                    </a:lnTo>
                    <a:lnTo>
                      <a:pt x="85" y="1334"/>
                    </a:lnTo>
                    <a:lnTo>
                      <a:pt x="60" y="1424"/>
                    </a:lnTo>
                    <a:lnTo>
                      <a:pt x="39" y="1516"/>
                    </a:lnTo>
                    <a:lnTo>
                      <a:pt x="22" y="1609"/>
                    </a:lnTo>
                    <a:lnTo>
                      <a:pt x="10" y="1704"/>
                    </a:lnTo>
                    <a:lnTo>
                      <a:pt x="3" y="1800"/>
                    </a:lnTo>
                    <a:lnTo>
                      <a:pt x="0" y="1898"/>
                    </a:lnTo>
                    <a:lnTo>
                      <a:pt x="3" y="1995"/>
                    </a:lnTo>
                    <a:lnTo>
                      <a:pt x="10" y="2091"/>
                    </a:lnTo>
                    <a:lnTo>
                      <a:pt x="22" y="2186"/>
                    </a:lnTo>
                    <a:lnTo>
                      <a:pt x="39" y="2279"/>
                    </a:lnTo>
                    <a:lnTo>
                      <a:pt x="60" y="2371"/>
                    </a:lnTo>
                    <a:lnTo>
                      <a:pt x="85" y="2460"/>
                    </a:lnTo>
                    <a:lnTo>
                      <a:pt x="116" y="2549"/>
                    </a:lnTo>
                    <a:lnTo>
                      <a:pt x="150" y="2635"/>
                    </a:lnTo>
                    <a:lnTo>
                      <a:pt x="188" y="2719"/>
                    </a:lnTo>
                    <a:lnTo>
                      <a:pt x="229" y="2800"/>
                    </a:lnTo>
                    <a:lnTo>
                      <a:pt x="275" y="2880"/>
                    </a:lnTo>
                    <a:lnTo>
                      <a:pt x="325" y="2957"/>
                    </a:lnTo>
                    <a:lnTo>
                      <a:pt x="377" y="3031"/>
                    </a:lnTo>
                    <a:lnTo>
                      <a:pt x="434" y="3103"/>
                    </a:lnTo>
                    <a:lnTo>
                      <a:pt x="494" y="3172"/>
                    </a:lnTo>
                    <a:lnTo>
                      <a:pt x="557" y="3239"/>
                    </a:lnTo>
                    <a:lnTo>
                      <a:pt x="623" y="3301"/>
                    </a:lnTo>
                    <a:lnTo>
                      <a:pt x="691" y="3361"/>
                    </a:lnTo>
                    <a:lnTo>
                      <a:pt x="763" y="3417"/>
                    </a:lnTo>
                    <a:lnTo>
                      <a:pt x="838" y="3471"/>
                    </a:lnTo>
                    <a:lnTo>
                      <a:pt x="915" y="3520"/>
                    </a:lnTo>
                    <a:lnTo>
                      <a:pt x="994" y="3566"/>
                    </a:lnTo>
                    <a:lnTo>
                      <a:pt x="1076" y="3608"/>
                    </a:lnTo>
                    <a:lnTo>
                      <a:pt x="1160" y="3645"/>
                    </a:lnTo>
                    <a:lnTo>
                      <a:pt x="1246" y="3680"/>
                    </a:lnTo>
                    <a:lnTo>
                      <a:pt x="1334" y="3709"/>
                    </a:lnTo>
                    <a:lnTo>
                      <a:pt x="1425" y="3736"/>
                    </a:lnTo>
                    <a:lnTo>
                      <a:pt x="1516" y="3756"/>
                    </a:lnTo>
                    <a:lnTo>
                      <a:pt x="1609" y="3774"/>
                    </a:lnTo>
                    <a:lnTo>
                      <a:pt x="1704" y="3786"/>
                    </a:lnTo>
                    <a:lnTo>
                      <a:pt x="1800" y="3792"/>
                    </a:lnTo>
                    <a:lnTo>
                      <a:pt x="1898"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 name="Text Box 47"/>
              <p:cNvSpPr/>
              <p:nvPr/>
            </p:nvSpPr>
            <p:spPr>
              <a:xfrm>
                <a:off x="541080" y="2654280"/>
                <a:ext cx="1052640" cy="550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Закупка и</a:t>
                </a:r>
                <a:r>
                  <a:rPr b="1" lang="en-US" sz="1000" spc="-1" strike="noStrike">
                    <a:solidFill>
                      <a:srgbClr val="ffffff"/>
                    </a:solidFill>
                    <a:latin typeface="Arial"/>
                  </a:rPr>
                  <a:t> </a:t>
                </a:r>
                <a:br>
                  <a:rPr sz="1000"/>
                </a:br>
                <a:r>
                  <a:rPr b="1" lang="ru-RU" sz="1000" spc="-1" strike="noStrike">
                    <a:solidFill>
                      <a:srgbClr val="ffffff"/>
                    </a:solidFill>
                    <a:latin typeface="Arial"/>
                  </a:rPr>
                  <a:t>инвентарный учет</a:t>
                </a:r>
                <a:endParaRPr b="0" lang="en-US" sz="1000" spc="-1" strike="noStrike">
                  <a:solidFill>
                    <a:srgbClr val="000000"/>
                  </a:solidFill>
                  <a:latin typeface="Arial"/>
                </a:endParaRPr>
              </a:p>
            </p:txBody>
          </p:sp>
        </p:grpSp>
        <p:sp>
          <p:nvSpPr>
            <p:cNvPr id="493" name="Freeform 31"/>
            <p:cNvSpPr/>
            <p:nvPr/>
          </p:nvSpPr>
          <p:spPr>
            <a:xfrm>
              <a:off x="2088000" y="2443680"/>
              <a:ext cx="1045800" cy="1037160"/>
            </a:xfrm>
            <a:custGeom>
              <a:avLst/>
              <a:gdLst>
                <a:gd name="textAreaLeft" fmla="*/ 0 w 1045800"/>
                <a:gd name="textAreaRight" fmla="*/ 1046160 w 1045800"/>
                <a:gd name="textAreaTop" fmla="*/ 0 h 1037160"/>
                <a:gd name="textAreaBottom" fmla="*/ 1037520 h 1037160"/>
              </a:gdLst>
              <a:ahLst/>
              <a:rect l="textAreaLeft" t="textAreaTop" r="textAreaRight" b="textAreaBottom"/>
              <a:pathLst>
                <a:path w="3795" h="3795">
                  <a:moveTo>
                    <a:pt x="1897" y="3795"/>
                  </a:moveTo>
                  <a:lnTo>
                    <a:pt x="1994" y="3793"/>
                  </a:lnTo>
                  <a:lnTo>
                    <a:pt x="2090" y="3785"/>
                  </a:lnTo>
                  <a:lnTo>
                    <a:pt x="2185" y="3773"/>
                  </a:lnTo>
                  <a:lnTo>
                    <a:pt x="2279" y="3756"/>
                  </a:lnTo>
                  <a:lnTo>
                    <a:pt x="2370" y="3735"/>
                  </a:lnTo>
                  <a:lnTo>
                    <a:pt x="2460" y="3709"/>
                  </a:lnTo>
                  <a:lnTo>
                    <a:pt x="2548" y="3680"/>
                  </a:lnTo>
                  <a:lnTo>
                    <a:pt x="2634" y="3646"/>
                  </a:lnTo>
                  <a:lnTo>
                    <a:pt x="2718" y="3608"/>
                  </a:lnTo>
                  <a:lnTo>
                    <a:pt x="2800" y="3565"/>
                  </a:lnTo>
                  <a:lnTo>
                    <a:pt x="2879" y="3520"/>
                  </a:lnTo>
                  <a:lnTo>
                    <a:pt x="2956" y="3470"/>
                  </a:lnTo>
                  <a:lnTo>
                    <a:pt x="3031" y="3417"/>
                  </a:lnTo>
                  <a:lnTo>
                    <a:pt x="3103" y="3361"/>
                  </a:lnTo>
                  <a:lnTo>
                    <a:pt x="3171" y="3302"/>
                  </a:lnTo>
                  <a:lnTo>
                    <a:pt x="3238" y="3238"/>
                  </a:lnTo>
                  <a:lnTo>
                    <a:pt x="3300" y="3173"/>
                  </a:lnTo>
                  <a:lnTo>
                    <a:pt x="3360" y="3103"/>
                  </a:lnTo>
                  <a:lnTo>
                    <a:pt x="3416" y="3031"/>
                  </a:lnTo>
                  <a:lnTo>
                    <a:pt x="3470" y="2957"/>
                  </a:lnTo>
                  <a:lnTo>
                    <a:pt x="3519" y="2881"/>
                  </a:lnTo>
                  <a:lnTo>
                    <a:pt x="3565" y="2801"/>
                  </a:lnTo>
                  <a:lnTo>
                    <a:pt x="3606" y="2719"/>
                  </a:lnTo>
                  <a:lnTo>
                    <a:pt x="3644" y="2636"/>
                  </a:lnTo>
                  <a:lnTo>
                    <a:pt x="3679" y="2549"/>
                  </a:lnTo>
                  <a:lnTo>
                    <a:pt x="3708" y="2461"/>
                  </a:lnTo>
                  <a:lnTo>
                    <a:pt x="3735" y="2371"/>
                  </a:lnTo>
                  <a:lnTo>
                    <a:pt x="3755" y="2279"/>
                  </a:lnTo>
                  <a:lnTo>
                    <a:pt x="3772" y="2185"/>
                  </a:lnTo>
                  <a:lnTo>
                    <a:pt x="3785" y="2092"/>
                  </a:lnTo>
                  <a:lnTo>
                    <a:pt x="3791" y="1995"/>
                  </a:lnTo>
                  <a:lnTo>
                    <a:pt x="3795" y="1898"/>
                  </a:lnTo>
                  <a:lnTo>
                    <a:pt x="3791" y="1801"/>
                  </a:lnTo>
                  <a:lnTo>
                    <a:pt x="3785" y="1704"/>
                  </a:lnTo>
                  <a:lnTo>
                    <a:pt x="3772" y="1609"/>
                  </a:lnTo>
                  <a:lnTo>
                    <a:pt x="3755" y="1516"/>
                  </a:lnTo>
                  <a:lnTo>
                    <a:pt x="3735" y="1425"/>
                  </a:lnTo>
                  <a:lnTo>
                    <a:pt x="3708" y="1334"/>
                  </a:lnTo>
                  <a:lnTo>
                    <a:pt x="3679" y="1246"/>
                  </a:lnTo>
                  <a:lnTo>
                    <a:pt x="3644" y="1160"/>
                  </a:lnTo>
                  <a:lnTo>
                    <a:pt x="3606" y="1076"/>
                  </a:lnTo>
                  <a:lnTo>
                    <a:pt x="3565" y="994"/>
                  </a:lnTo>
                  <a:lnTo>
                    <a:pt x="3519" y="914"/>
                  </a:lnTo>
                  <a:lnTo>
                    <a:pt x="3470" y="838"/>
                  </a:lnTo>
                  <a:lnTo>
                    <a:pt x="3416" y="763"/>
                  </a:lnTo>
                  <a:lnTo>
                    <a:pt x="3360" y="692"/>
                  </a:lnTo>
                  <a:lnTo>
                    <a:pt x="3300" y="622"/>
                  </a:lnTo>
                  <a:lnTo>
                    <a:pt x="3238" y="557"/>
                  </a:lnTo>
                  <a:lnTo>
                    <a:pt x="3171" y="494"/>
                  </a:lnTo>
                  <a:lnTo>
                    <a:pt x="3103" y="434"/>
                  </a:lnTo>
                  <a:lnTo>
                    <a:pt x="3031" y="378"/>
                  </a:lnTo>
                  <a:lnTo>
                    <a:pt x="2956" y="325"/>
                  </a:lnTo>
                  <a:lnTo>
                    <a:pt x="2879" y="276"/>
                  </a:lnTo>
                  <a:lnTo>
                    <a:pt x="2800" y="230"/>
                  </a:lnTo>
                  <a:lnTo>
                    <a:pt x="2718" y="187"/>
                  </a:lnTo>
                  <a:lnTo>
                    <a:pt x="2634" y="149"/>
                  </a:lnTo>
                  <a:lnTo>
                    <a:pt x="2548" y="115"/>
                  </a:lnTo>
                  <a:lnTo>
                    <a:pt x="2460" y="85"/>
                  </a:lnTo>
                  <a:lnTo>
                    <a:pt x="2370" y="60"/>
                  </a:lnTo>
                  <a:lnTo>
                    <a:pt x="2279" y="38"/>
                  </a:lnTo>
                  <a:lnTo>
                    <a:pt x="2185" y="22"/>
                  </a:lnTo>
                  <a:lnTo>
                    <a:pt x="2090" y="10"/>
                  </a:lnTo>
                  <a:lnTo>
                    <a:pt x="1994" y="2"/>
                  </a:lnTo>
                  <a:lnTo>
                    <a:pt x="1897" y="0"/>
                  </a:lnTo>
                  <a:lnTo>
                    <a:pt x="1799" y="2"/>
                  </a:lnTo>
                  <a:lnTo>
                    <a:pt x="1703" y="10"/>
                  </a:lnTo>
                  <a:lnTo>
                    <a:pt x="1608" y="22"/>
                  </a:lnTo>
                  <a:lnTo>
                    <a:pt x="1516" y="38"/>
                  </a:lnTo>
                  <a:lnTo>
                    <a:pt x="1423" y="60"/>
                  </a:lnTo>
                  <a:lnTo>
                    <a:pt x="1334" y="85"/>
                  </a:lnTo>
                  <a:lnTo>
                    <a:pt x="1245" y="115"/>
                  </a:lnTo>
                  <a:lnTo>
                    <a:pt x="1159" y="149"/>
                  </a:lnTo>
                  <a:lnTo>
                    <a:pt x="1075" y="187"/>
                  </a:lnTo>
                  <a:lnTo>
                    <a:pt x="994" y="230"/>
                  </a:lnTo>
                  <a:lnTo>
                    <a:pt x="914" y="276"/>
                  </a:lnTo>
                  <a:lnTo>
                    <a:pt x="837" y="325"/>
                  </a:lnTo>
                  <a:lnTo>
                    <a:pt x="763" y="378"/>
                  </a:lnTo>
                  <a:lnTo>
                    <a:pt x="691" y="434"/>
                  </a:lnTo>
                  <a:lnTo>
                    <a:pt x="622" y="494"/>
                  </a:lnTo>
                  <a:lnTo>
                    <a:pt x="557" y="557"/>
                  </a:lnTo>
                  <a:lnTo>
                    <a:pt x="494" y="622"/>
                  </a:lnTo>
                  <a:lnTo>
                    <a:pt x="434" y="692"/>
                  </a:lnTo>
                  <a:lnTo>
                    <a:pt x="377" y="763"/>
                  </a:lnTo>
                  <a:lnTo>
                    <a:pt x="325" y="838"/>
                  </a:lnTo>
                  <a:lnTo>
                    <a:pt x="274" y="914"/>
                  </a:lnTo>
                  <a:lnTo>
                    <a:pt x="229" y="994"/>
                  </a:lnTo>
                  <a:lnTo>
                    <a:pt x="187" y="1076"/>
                  </a:lnTo>
                  <a:lnTo>
                    <a:pt x="149" y="1160"/>
                  </a:lnTo>
                  <a:lnTo>
                    <a:pt x="115" y="1246"/>
                  </a:lnTo>
                  <a:lnTo>
                    <a:pt x="85" y="1334"/>
                  </a:lnTo>
                  <a:lnTo>
                    <a:pt x="60" y="1425"/>
                  </a:lnTo>
                  <a:lnTo>
                    <a:pt x="38" y="1516"/>
                  </a:lnTo>
                  <a:lnTo>
                    <a:pt x="22" y="1609"/>
                  </a:lnTo>
                  <a:lnTo>
                    <a:pt x="10" y="1704"/>
                  </a:lnTo>
                  <a:lnTo>
                    <a:pt x="2" y="1801"/>
                  </a:lnTo>
                  <a:lnTo>
                    <a:pt x="0" y="1898"/>
                  </a:lnTo>
                  <a:lnTo>
                    <a:pt x="2" y="1995"/>
                  </a:lnTo>
                  <a:lnTo>
                    <a:pt x="10" y="2092"/>
                  </a:lnTo>
                  <a:lnTo>
                    <a:pt x="22" y="2185"/>
                  </a:lnTo>
                  <a:lnTo>
                    <a:pt x="38" y="2279"/>
                  </a:lnTo>
                  <a:lnTo>
                    <a:pt x="60" y="2371"/>
                  </a:lnTo>
                  <a:lnTo>
                    <a:pt x="85" y="2461"/>
                  </a:lnTo>
                  <a:lnTo>
                    <a:pt x="115" y="2549"/>
                  </a:lnTo>
                  <a:lnTo>
                    <a:pt x="149" y="2636"/>
                  </a:lnTo>
                  <a:lnTo>
                    <a:pt x="187" y="2719"/>
                  </a:lnTo>
                  <a:lnTo>
                    <a:pt x="229" y="2801"/>
                  </a:lnTo>
                  <a:lnTo>
                    <a:pt x="274" y="2881"/>
                  </a:lnTo>
                  <a:lnTo>
                    <a:pt x="325" y="2957"/>
                  </a:lnTo>
                  <a:lnTo>
                    <a:pt x="377" y="3031"/>
                  </a:lnTo>
                  <a:lnTo>
                    <a:pt x="434" y="3103"/>
                  </a:lnTo>
                  <a:lnTo>
                    <a:pt x="494" y="3173"/>
                  </a:lnTo>
                  <a:lnTo>
                    <a:pt x="557" y="3238"/>
                  </a:lnTo>
                  <a:lnTo>
                    <a:pt x="622" y="3302"/>
                  </a:lnTo>
                  <a:lnTo>
                    <a:pt x="691" y="3361"/>
                  </a:lnTo>
                  <a:lnTo>
                    <a:pt x="763" y="3417"/>
                  </a:lnTo>
                  <a:lnTo>
                    <a:pt x="837" y="3470"/>
                  </a:lnTo>
                  <a:lnTo>
                    <a:pt x="914" y="3520"/>
                  </a:lnTo>
                  <a:lnTo>
                    <a:pt x="994" y="3565"/>
                  </a:lnTo>
                  <a:lnTo>
                    <a:pt x="1075" y="3608"/>
                  </a:lnTo>
                  <a:lnTo>
                    <a:pt x="1159" y="3646"/>
                  </a:lnTo>
                  <a:lnTo>
                    <a:pt x="1245" y="3680"/>
                  </a:lnTo>
                  <a:lnTo>
                    <a:pt x="1334" y="3709"/>
                  </a:lnTo>
                  <a:lnTo>
                    <a:pt x="1423" y="3735"/>
                  </a:lnTo>
                  <a:lnTo>
                    <a:pt x="1516" y="3756"/>
                  </a:lnTo>
                  <a:lnTo>
                    <a:pt x="1608" y="3773"/>
                  </a:lnTo>
                  <a:lnTo>
                    <a:pt x="1703" y="3785"/>
                  </a:lnTo>
                  <a:lnTo>
                    <a:pt x="1799"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Text Box 43"/>
            <p:cNvSpPr/>
            <p:nvPr/>
          </p:nvSpPr>
          <p:spPr>
            <a:xfrm>
              <a:off x="2092320" y="2739960"/>
              <a:ext cx="1042200" cy="398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Контроль процессов</a:t>
              </a:r>
              <a:endParaRPr b="0" lang="en-US" sz="1000" spc="-1" strike="noStrike">
                <a:solidFill>
                  <a:srgbClr val="000000"/>
                </a:solidFill>
                <a:latin typeface="Arial"/>
              </a:endParaRPr>
            </a:p>
          </p:txBody>
        </p:sp>
        <p:grpSp>
          <p:nvGrpSpPr>
            <p:cNvPr id="495" name="Group 135"/>
            <p:cNvGrpSpPr/>
            <p:nvPr/>
          </p:nvGrpSpPr>
          <p:grpSpPr>
            <a:xfrm>
              <a:off x="3489480" y="2404800"/>
              <a:ext cx="1159200" cy="1035360"/>
              <a:chOff x="3489480" y="2404800"/>
              <a:chExt cx="1159200" cy="1035360"/>
            </a:xfrm>
          </p:grpSpPr>
          <p:sp>
            <p:nvSpPr>
              <p:cNvPr id="496" name="Freeform 48"/>
              <p:cNvSpPr/>
              <p:nvPr/>
            </p:nvSpPr>
            <p:spPr>
              <a:xfrm>
                <a:off x="3513960" y="2404800"/>
                <a:ext cx="1046880" cy="1035360"/>
              </a:xfrm>
              <a:custGeom>
                <a:avLst/>
                <a:gdLst>
                  <a:gd name="textAreaLeft" fmla="*/ 0 w 1046880"/>
                  <a:gd name="textAreaRight" fmla="*/ 1047240 w 1046880"/>
                  <a:gd name="textAreaTop" fmla="*/ 0 h 1035360"/>
                  <a:gd name="textAreaBottom" fmla="*/ 1035720 h 1035360"/>
                </a:gdLst>
                <a:ahLst/>
                <a:rect l="textAreaLeft" t="textAreaTop" r="textAreaRight" b="textAreaBottom"/>
                <a:pathLst>
                  <a:path w="3795" h="3795">
                    <a:moveTo>
                      <a:pt x="1897" y="3795"/>
                    </a:moveTo>
                    <a:lnTo>
                      <a:pt x="1995" y="3792"/>
                    </a:lnTo>
                    <a:lnTo>
                      <a:pt x="2091" y="3786"/>
                    </a:lnTo>
                    <a:lnTo>
                      <a:pt x="2186" y="3774"/>
                    </a:lnTo>
                    <a:lnTo>
                      <a:pt x="2279" y="3756"/>
                    </a:lnTo>
                    <a:lnTo>
                      <a:pt x="2371" y="3736"/>
                    </a:lnTo>
                    <a:lnTo>
                      <a:pt x="2461" y="3709"/>
                    </a:lnTo>
                    <a:lnTo>
                      <a:pt x="2549" y="3680"/>
                    </a:lnTo>
                    <a:lnTo>
                      <a:pt x="2635" y="3645"/>
                    </a:lnTo>
                    <a:lnTo>
                      <a:pt x="2719" y="3608"/>
                    </a:lnTo>
                    <a:lnTo>
                      <a:pt x="2801" y="3566"/>
                    </a:lnTo>
                    <a:lnTo>
                      <a:pt x="2880" y="3520"/>
                    </a:lnTo>
                    <a:lnTo>
                      <a:pt x="2958" y="3471"/>
                    </a:lnTo>
                    <a:lnTo>
                      <a:pt x="3032" y="3417"/>
                    </a:lnTo>
                    <a:lnTo>
                      <a:pt x="3104" y="3361"/>
                    </a:lnTo>
                    <a:lnTo>
                      <a:pt x="3172" y="3301"/>
                    </a:lnTo>
                    <a:lnTo>
                      <a:pt x="3238" y="3239"/>
                    </a:lnTo>
                    <a:lnTo>
                      <a:pt x="3301" y="3172"/>
                    </a:lnTo>
                    <a:lnTo>
                      <a:pt x="3361" y="3103"/>
                    </a:lnTo>
                    <a:lnTo>
                      <a:pt x="3418" y="3031"/>
                    </a:lnTo>
                    <a:lnTo>
                      <a:pt x="3470" y="2957"/>
                    </a:lnTo>
                    <a:lnTo>
                      <a:pt x="3520" y="2880"/>
                    </a:lnTo>
                    <a:lnTo>
                      <a:pt x="3566" y="2800"/>
                    </a:lnTo>
                    <a:lnTo>
                      <a:pt x="3607" y="2719"/>
                    </a:lnTo>
                    <a:lnTo>
                      <a:pt x="3645" y="2635"/>
                    </a:lnTo>
                    <a:lnTo>
                      <a:pt x="3679" y="2549"/>
                    </a:lnTo>
                    <a:lnTo>
                      <a:pt x="3710" y="2460"/>
                    </a:lnTo>
                    <a:lnTo>
                      <a:pt x="3735" y="2371"/>
                    </a:lnTo>
                    <a:lnTo>
                      <a:pt x="3756" y="2279"/>
                    </a:lnTo>
                    <a:lnTo>
                      <a:pt x="3773" y="2186"/>
                    </a:lnTo>
                    <a:lnTo>
                      <a:pt x="3785" y="2091"/>
                    </a:lnTo>
                    <a:lnTo>
                      <a:pt x="3792" y="1995"/>
                    </a:lnTo>
                    <a:lnTo>
                      <a:pt x="3795" y="1898"/>
                    </a:lnTo>
                    <a:lnTo>
                      <a:pt x="3792" y="1800"/>
                    </a:lnTo>
                    <a:lnTo>
                      <a:pt x="3785" y="1704"/>
                    </a:lnTo>
                    <a:lnTo>
                      <a:pt x="3773" y="1609"/>
                    </a:lnTo>
                    <a:lnTo>
                      <a:pt x="3756" y="1516"/>
                    </a:lnTo>
                    <a:lnTo>
                      <a:pt x="3735" y="1424"/>
                    </a:lnTo>
                    <a:lnTo>
                      <a:pt x="3710" y="1334"/>
                    </a:lnTo>
                    <a:lnTo>
                      <a:pt x="3679" y="1246"/>
                    </a:lnTo>
                    <a:lnTo>
                      <a:pt x="3645" y="1160"/>
                    </a:lnTo>
                    <a:lnTo>
                      <a:pt x="3607" y="1076"/>
                    </a:lnTo>
                    <a:lnTo>
                      <a:pt x="3566" y="994"/>
                    </a:lnTo>
                    <a:lnTo>
                      <a:pt x="3520" y="915"/>
                    </a:lnTo>
                    <a:lnTo>
                      <a:pt x="3470" y="837"/>
                    </a:lnTo>
                    <a:lnTo>
                      <a:pt x="3418" y="763"/>
                    </a:lnTo>
                    <a:lnTo>
                      <a:pt x="3361" y="691"/>
                    </a:lnTo>
                    <a:lnTo>
                      <a:pt x="3301" y="623"/>
                    </a:lnTo>
                    <a:lnTo>
                      <a:pt x="3238" y="557"/>
                    </a:lnTo>
                    <a:lnTo>
                      <a:pt x="3172" y="494"/>
                    </a:lnTo>
                    <a:lnTo>
                      <a:pt x="3104" y="434"/>
                    </a:lnTo>
                    <a:lnTo>
                      <a:pt x="3032" y="377"/>
                    </a:lnTo>
                    <a:lnTo>
                      <a:pt x="2958" y="325"/>
                    </a:lnTo>
                    <a:lnTo>
                      <a:pt x="2880" y="275"/>
                    </a:lnTo>
                    <a:lnTo>
                      <a:pt x="2801" y="229"/>
                    </a:lnTo>
                    <a:lnTo>
                      <a:pt x="2719" y="188"/>
                    </a:lnTo>
                    <a:lnTo>
                      <a:pt x="2635" y="149"/>
                    </a:lnTo>
                    <a:lnTo>
                      <a:pt x="2549" y="116"/>
                    </a:lnTo>
                    <a:lnTo>
                      <a:pt x="2461" y="85"/>
                    </a:lnTo>
                    <a:lnTo>
                      <a:pt x="2371" y="60"/>
                    </a:lnTo>
                    <a:lnTo>
                      <a:pt x="2279" y="38"/>
                    </a:lnTo>
                    <a:lnTo>
                      <a:pt x="2186" y="22"/>
                    </a:lnTo>
                    <a:lnTo>
                      <a:pt x="2091" y="10"/>
                    </a:lnTo>
                    <a:lnTo>
                      <a:pt x="1995" y="2"/>
                    </a:lnTo>
                    <a:lnTo>
                      <a:pt x="1897" y="0"/>
                    </a:lnTo>
                    <a:lnTo>
                      <a:pt x="1800" y="2"/>
                    </a:lnTo>
                    <a:lnTo>
                      <a:pt x="1704" y="10"/>
                    </a:lnTo>
                    <a:lnTo>
                      <a:pt x="1610" y="22"/>
                    </a:lnTo>
                    <a:lnTo>
                      <a:pt x="1516" y="38"/>
                    </a:lnTo>
                    <a:lnTo>
                      <a:pt x="1424" y="60"/>
                    </a:lnTo>
                    <a:lnTo>
                      <a:pt x="1335" y="85"/>
                    </a:lnTo>
                    <a:lnTo>
                      <a:pt x="1247" y="116"/>
                    </a:lnTo>
                    <a:lnTo>
                      <a:pt x="1161" y="149"/>
                    </a:lnTo>
                    <a:lnTo>
                      <a:pt x="1077" y="188"/>
                    </a:lnTo>
                    <a:lnTo>
                      <a:pt x="995" y="229"/>
                    </a:lnTo>
                    <a:lnTo>
                      <a:pt x="915" y="275"/>
                    </a:lnTo>
                    <a:lnTo>
                      <a:pt x="838" y="325"/>
                    </a:lnTo>
                    <a:lnTo>
                      <a:pt x="764" y="377"/>
                    </a:lnTo>
                    <a:lnTo>
                      <a:pt x="692" y="434"/>
                    </a:lnTo>
                    <a:lnTo>
                      <a:pt x="623" y="494"/>
                    </a:lnTo>
                    <a:lnTo>
                      <a:pt x="557" y="557"/>
                    </a:lnTo>
                    <a:lnTo>
                      <a:pt x="495" y="623"/>
                    </a:lnTo>
                    <a:lnTo>
                      <a:pt x="435" y="691"/>
                    </a:lnTo>
                    <a:lnTo>
                      <a:pt x="378" y="763"/>
                    </a:lnTo>
                    <a:lnTo>
                      <a:pt x="325" y="837"/>
                    </a:lnTo>
                    <a:lnTo>
                      <a:pt x="276" y="915"/>
                    </a:lnTo>
                    <a:lnTo>
                      <a:pt x="230" y="994"/>
                    </a:lnTo>
                    <a:lnTo>
                      <a:pt x="187" y="1076"/>
                    </a:lnTo>
                    <a:lnTo>
                      <a:pt x="150" y="1160"/>
                    </a:lnTo>
                    <a:lnTo>
                      <a:pt x="115" y="1246"/>
                    </a:lnTo>
                    <a:lnTo>
                      <a:pt x="86" y="1334"/>
                    </a:lnTo>
                    <a:lnTo>
                      <a:pt x="60" y="1424"/>
                    </a:lnTo>
                    <a:lnTo>
                      <a:pt x="39" y="1516"/>
                    </a:lnTo>
                    <a:lnTo>
                      <a:pt x="23" y="1609"/>
                    </a:lnTo>
                    <a:lnTo>
                      <a:pt x="10" y="1704"/>
                    </a:lnTo>
                    <a:lnTo>
                      <a:pt x="3" y="1800"/>
                    </a:lnTo>
                    <a:lnTo>
                      <a:pt x="0" y="1898"/>
                    </a:lnTo>
                    <a:lnTo>
                      <a:pt x="3" y="1995"/>
                    </a:lnTo>
                    <a:lnTo>
                      <a:pt x="10" y="2091"/>
                    </a:lnTo>
                    <a:lnTo>
                      <a:pt x="23" y="2186"/>
                    </a:lnTo>
                    <a:lnTo>
                      <a:pt x="39" y="2279"/>
                    </a:lnTo>
                    <a:lnTo>
                      <a:pt x="60" y="2371"/>
                    </a:lnTo>
                    <a:lnTo>
                      <a:pt x="86" y="2460"/>
                    </a:lnTo>
                    <a:lnTo>
                      <a:pt x="115" y="2549"/>
                    </a:lnTo>
                    <a:lnTo>
                      <a:pt x="150" y="2635"/>
                    </a:lnTo>
                    <a:lnTo>
                      <a:pt x="187" y="2719"/>
                    </a:lnTo>
                    <a:lnTo>
                      <a:pt x="230" y="2800"/>
                    </a:lnTo>
                    <a:lnTo>
                      <a:pt x="276" y="2880"/>
                    </a:lnTo>
                    <a:lnTo>
                      <a:pt x="325" y="2957"/>
                    </a:lnTo>
                    <a:lnTo>
                      <a:pt x="378" y="3031"/>
                    </a:lnTo>
                    <a:lnTo>
                      <a:pt x="435" y="3103"/>
                    </a:lnTo>
                    <a:lnTo>
                      <a:pt x="495" y="3172"/>
                    </a:lnTo>
                    <a:lnTo>
                      <a:pt x="557" y="3239"/>
                    </a:lnTo>
                    <a:lnTo>
                      <a:pt x="623" y="3301"/>
                    </a:lnTo>
                    <a:lnTo>
                      <a:pt x="692" y="3361"/>
                    </a:lnTo>
                    <a:lnTo>
                      <a:pt x="764" y="3417"/>
                    </a:lnTo>
                    <a:lnTo>
                      <a:pt x="838" y="3471"/>
                    </a:lnTo>
                    <a:lnTo>
                      <a:pt x="915" y="3520"/>
                    </a:lnTo>
                    <a:lnTo>
                      <a:pt x="995" y="3566"/>
                    </a:lnTo>
                    <a:lnTo>
                      <a:pt x="1077" y="3608"/>
                    </a:lnTo>
                    <a:lnTo>
                      <a:pt x="1161" y="3645"/>
                    </a:lnTo>
                    <a:lnTo>
                      <a:pt x="1247" y="3680"/>
                    </a:lnTo>
                    <a:lnTo>
                      <a:pt x="1335" y="3709"/>
                    </a:lnTo>
                    <a:lnTo>
                      <a:pt x="1424" y="3736"/>
                    </a:lnTo>
                    <a:lnTo>
                      <a:pt x="1516" y="3756"/>
                    </a:lnTo>
                    <a:lnTo>
                      <a:pt x="1610" y="3774"/>
                    </a:lnTo>
                    <a:lnTo>
                      <a:pt x="1704" y="3786"/>
                    </a:lnTo>
                    <a:lnTo>
                      <a:pt x="1800" y="3792"/>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Text Box 55"/>
              <p:cNvSpPr/>
              <p:nvPr/>
            </p:nvSpPr>
            <p:spPr>
              <a:xfrm>
                <a:off x="3489480" y="2741040"/>
                <a:ext cx="1159200" cy="398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Управление информацией</a:t>
                </a:r>
                <a:endParaRPr b="0" lang="en-US" sz="1000" spc="-1" strike="noStrike">
                  <a:solidFill>
                    <a:srgbClr val="000000"/>
                  </a:solidFill>
                  <a:latin typeface="Arial"/>
                </a:endParaRPr>
              </a:p>
            </p:txBody>
          </p:sp>
        </p:grpSp>
        <p:sp>
          <p:nvSpPr>
            <p:cNvPr id="498" name="Line 27"/>
            <p:cNvSpPr/>
            <p:nvPr/>
          </p:nvSpPr>
          <p:spPr>
            <a:xfrm flipH="1">
              <a:off x="817200" y="4051080"/>
              <a:ext cx="356148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499" name="Group 139"/>
            <p:cNvGrpSpPr/>
            <p:nvPr/>
          </p:nvGrpSpPr>
          <p:grpSpPr>
            <a:xfrm>
              <a:off x="541080" y="3572280"/>
              <a:ext cx="1092960" cy="1036800"/>
              <a:chOff x="541080" y="3572280"/>
              <a:chExt cx="1092960" cy="1036800"/>
            </a:xfrm>
          </p:grpSpPr>
          <p:sp>
            <p:nvSpPr>
              <p:cNvPr id="500" name="Freeform 81"/>
              <p:cNvSpPr/>
              <p:nvPr/>
            </p:nvSpPr>
            <p:spPr>
              <a:xfrm>
                <a:off x="569880" y="3572280"/>
                <a:ext cx="1046520" cy="1036800"/>
              </a:xfrm>
              <a:custGeom>
                <a:avLst/>
                <a:gdLst>
                  <a:gd name="textAreaLeft" fmla="*/ 0 w 1046520"/>
                  <a:gd name="textAreaRight" fmla="*/ 1046880 w 1046520"/>
                  <a:gd name="textAreaTop" fmla="*/ 0 h 1036800"/>
                  <a:gd name="textAreaBottom" fmla="*/ 1037160 h 1036800"/>
                </a:gdLst>
                <a:ahLst/>
                <a:rect l="textAreaLeft" t="textAreaTop" r="textAreaRight" b="textAreaBottom"/>
                <a:pathLst>
                  <a:path w="3795" h="3795">
                    <a:moveTo>
                      <a:pt x="1898" y="3795"/>
                    </a:moveTo>
                    <a:lnTo>
                      <a:pt x="1995" y="3793"/>
                    </a:lnTo>
                    <a:lnTo>
                      <a:pt x="2091" y="3786"/>
                    </a:lnTo>
                    <a:lnTo>
                      <a:pt x="2185" y="3774"/>
                    </a:lnTo>
                    <a:lnTo>
                      <a:pt x="2279" y="3757"/>
                    </a:lnTo>
                    <a:lnTo>
                      <a:pt x="2371" y="3735"/>
                    </a:lnTo>
                    <a:lnTo>
                      <a:pt x="2461" y="3710"/>
                    </a:lnTo>
                    <a:lnTo>
                      <a:pt x="2548" y="3680"/>
                    </a:lnTo>
                    <a:lnTo>
                      <a:pt x="2634" y="3646"/>
                    </a:lnTo>
                    <a:lnTo>
                      <a:pt x="2719" y="3608"/>
                    </a:lnTo>
                    <a:lnTo>
                      <a:pt x="2801" y="3566"/>
                    </a:lnTo>
                    <a:lnTo>
                      <a:pt x="2880" y="3521"/>
                    </a:lnTo>
                    <a:lnTo>
                      <a:pt x="2957" y="3471"/>
                    </a:lnTo>
                    <a:lnTo>
                      <a:pt x="3031" y="3418"/>
                    </a:lnTo>
                    <a:lnTo>
                      <a:pt x="3103" y="3362"/>
                    </a:lnTo>
                    <a:lnTo>
                      <a:pt x="3172" y="3302"/>
                    </a:lnTo>
                    <a:lnTo>
                      <a:pt x="3238" y="3238"/>
                    </a:lnTo>
                    <a:lnTo>
                      <a:pt x="3301" y="3173"/>
                    </a:lnTo>
                    <a:lnTo>
                      <a:pt x="3360" y="3104"/>
                    </a:lnTo>
                    <a:lnTo>
                      <a:pt x="3417" y="3032"/>
                    </a:lnTo>
                    <a:lnTo>
                      <a:pt x="3470" y="2958"/>
                    </a:lnTo>
                    <a:lnTo>
                      <a:pt x="3519" y="2881"/>
                    </a:lnTo>
                    <a:lnTo>
                      <a:pt x="3565" y="2801"/>
                    </a:lnTo>
                    <a:lnTo>
                      <a:pt x="3608" y="2720"/>
                    </a:lnTo>
                    <a:lnTo>
                      <a:pt x="3646" y="2636"/>
                    </a:lnTo>
                    <a:lnTo>
                      <a:pt x="3679" y="2550"/>
                    </a:lnTo>
                    <a:lnTo>
                      <a:pt x="3709" y="2461"/>
                    </a:lnTo>
                    <a:lnTo>
                      <a:pt x="3735" y="2372"/>
                    </a:lnTo>
                    <a:lnTo>
                      <a:pt x="3756" y="2279"/>
                    </a:lnTo>
                    <a:lnTo>
                      <a:pt x="3773" y="2187"/>
                    </a:lnTo>
                    <a:lnTo>
                      <a:pt x="3785" y="2092"/>
                    </a:lnTo>
                    <a:lnTo>
                      <a:pt x="3793" y="1996"/>
                    </a:lnTo>
                    <a:lnTo>
                      <a:pt x="3795" y="1898"/>
                    </a:lnTo>
                    <a:lnTo>
                      <a:pt x="3793" y="1801"/>
                    </a:lnTo>
                    <a:lnTo>
                      <a:pt x="3785" y="1705"/>
                    </a:lnTo>
                    <a:lnTo>
                      <a:pt x="3773" y="1610"/>
                    </a:lnTo>
                    <a:lnTo>
                      <a:pt x="3756" y="1516"/>
                    </a:lnTo>
                    <a:lnTo>
                      <a:pt x="3735" y="1425"/>
                    </a:lnTo>
                    <a:lnTo>
                      <a:pt x="3709" y="1335"/>
                    </a:lnTo>
                    <a:lnTo>
                      <a:pt x="3679" y="1247"/>
                    </a:lnTo>
                    <a:lnTo>
                      <a:pt x="3646" y="1161"/>
                    </a:lnTo>
                    <a:lnTo>
                      <a:pt x="3608" y="1077"/>
                    </a:lnTo>
                    <a:lnTo>
                      <a:pt x="3565" y="995"/>
                    </a:lnTo>
                    <a:lnTo>
                      <a:pt x="3519" y="916"/>
                    </a:lnTo>
                    <a:lnTo>
                      <a:pt x="3470" y="838"/>
                    </a:lnTo>
                    <a:lnTo>
                      <a:pt x="3417" y="764"/>
                    </a:lnTo>
                    <a:lnTo>
                      <a:pt x="3360" y="692"/>
                    </a:lnTo>
                    <a:lnTo>
                      <a:pt x="3301" y="623"/>
                    </a:lnTo>
                    <a:lnTo>
                      <a:pt x="3238" y="557"/>
                    </a:lnTo>
                    <a:lnTo>
                      <a:pt x="3172" y="495"/>
                    </a:lnTo>
                    <a:lnTo>
                      <a:pt x="3103" y="435"/>
                    </a:lnTo>
                    <a:lnTo>
                      <a:pt x="3031" y="378"/>
                    </a:lnTo>
                    <a:lnTo>
                      <a:pt x="2957" y="325"/>
                    </a:lnTo>
                    <a:lnTo>
                      <a:pt x="2880" y="276"/>
                    </a:lnTo>
                    <a:lnTo>
                      <a:pt x="2801" y="230"/>
                    </a:lnTo>
                    <a:lnTo>
                      <a:pt x="2719" y="187"/>
                    </a:lnTo>
                    <a:lnTo>
                      <a:pt x="2634" y="150"/>
                    </a:lnTo>
                    <a:lnTo>
                      <a:pt x="2548" y="116"/>
                    </a:lnTo>
                    <a:lnTo>
                      <a:pt x="2461" y="86"/>
                    </a:lnTo>
                    <a:lnTo>
                      <a:pt x="2371" y="60"/>
                    </a:lnTo>
                    <a:lnTo>
                      <a:pt x="2279" y="39"/>
                    </a:lnTo>
                    <a:lnTo>
                      <a:pt x="2185" y="22"/>
                    </a:lnTo>
                    <a:lnTo>
                      <a:pt x="2091" y="10"/>
                    </a:lnTo>
                    <a:lnTo>
                      <a:pt x="1995" y="3"/>
                    </a:lnTo>
                    <a:lnTo>
                      <a:pt x="1898" y="0"/>
                    </a:lnTo>
                    <a:lnTo>
                      <a:pt x="1801" y="3"/>
                    </a:lnTo>
                    <a:lnTo>
                      <a:pt x="1704" y="10"/>
                    </a:lnTo>
                    <a:lnTo>
                      <a:pt x="1609" y="22"/>
                    </a:lnTo>
                    <a:lnTo>
                      <a:pt x="1516" y="39"/>
                    </a:lnTo>
                    <a:lnTo>
                      <a:pt x="1425" y="60"/>
                    </a:lnTo>
                    <a:lnTo>
                      <a:pt x="1334" y="86"/>
                    </a:lnTo>
                    <a:lnTo>
                      <a:pt x="1246" y="116"/>
                    </a:lnTo>
                    <a:lnTo>
                      <a:pt x="1160" y="150"/>
                    </a:lnTo>
                    <a:lnTo>
                      <a:pt x="1076" y="187"/>
                    </a:lnTo>
                    <a:lnTo>
                      <a:pt x="994" y="230"/>
                    </a:lnTo>
                    <a:lnTo>
                      <a:pt x="915" y="276"/>
                    </a:lnTo>
                    <a:lnTo>
                      <a:pt x="838" y="325"/>
                    </a:lnTo>
                    <a:lnTo>
                      <a:pt x="763" y="378"/>
                    </a:lnTo>
                    <a:lnTo>
                      <a:pt x="692" y="435"/>
                    </a:lnTo>
                    <a:lnTo>
                      <a:pt x="623" y="495"/>
                    </a:lnTo>
                    <a:lnTo>
                      <a:pt x="557" y="557"/>
                    </a:lnTo>
                    <a:lnTo>
                      <a:pt x="494" y="623"/>
                    </a:lnTo>
                    <a:lnTo>
                      <a:pt x="434" y="692"/>
                    </a:lnTo>
                    <a:lnTo>
                      <a:pt x="378" y="764"/>
                    </a:lnTo>
                    <a:lnTo>
                      <a:pt x="325" y="838"/>
                    </a:lnTo>
                    <a:lnTo>
                      <a:pt x="276" y="916"/>
                    </a:lnTo>
                    <a:lnTo>
                      <a:pt x="230" y="995"/>
                    </a:lnTo>
                    <a:lnTo>
                      <a:pt x="188" y="1077"/>
                    </a:lnTo>
                    <a:lnTo>
                      <a:pt x="150" y="1161"/>
                    </a:lnTo>
                    <a:lnTo>
                      <a:pt x="116" y="1247"/>
                    </a:lnTo>
                    <a:lnTo>
                      <a:pt x="85" y="1335"/>
                    </a:lnTo>
                    <a:lnTo>
                      <a:pt x="60" y="1425"/>
                    </a:lnTo>
                    <a:lnTo>
                      <a:pt x="38" y="1516"/>
                    </a:lnTo>
                    <a:lnTo>
                      <a:pt x="22" y="1610"/>
                    </a:lnTo>
                    <a:lnTo>
                      <a:pt x="10" y="1705"/>
                    </a:lnTo>
                    <a:lnTo>
                      <a:pt x="2" y="1801"/>
                    </a:lnTo>
                    <a:lnTo>
                      <a:pt x="0" y="1898"/>
                    </a:lnTo>
                    <a:lnTo>
                      <a:pt x="2" y="1996"/>
                    </a:lnTo>
                    <a:lnTo>
                      <a:pt x="10" y="2092"/>
                    </a:lnTo>
                    <a:lnTo>
                      <a:pt x="22" y="2187"/>
                    </a:lnTo>
                    <a:lnTo>
                      <a:pt x="38" y="2279"/>
                    </a:lnTo>
                    <a:lnTo>
                      <a:pt x="60" y="2372"/>
                    </a:lnTo>
                    <a:lnTo>
                      <a:pt x="85" y="2461"/>
                    </a:lnTo>
                    <a:lnTo>
                      <a:pt x="116" y="2550"/>
                    </a:lnTo>
                    <a:lnTo>
                      <a:pt x="150" y="2636"/>
                    </a:lnTo>
                    <a:lnTo>
                      <a:pt x="188" y="2720"/>
                    </a:lnTo>
                    <a:lnTo>
                      <a:pt x="230" y="2801"/>
                    </a:lnTo>
                    <a:lnTo>
                      <a:pt x="276" y="2881"/>
                    </a:lnTo>
                    <a:lnTo>
                      <a:pt x="325" y="2958"/>
                    </a:lnTo>
                    <a:lnTo>
                      <a:pt x="378" y="3032"/>
                    </a:lnTo>
                    <a:lnTo>
                      <a:pt x="434" y="3104"/>
                    </a:lnTo>
                    <a:lnTo>
                      <a:pt x="494" y="3173"/>
                    </a:lnTo>
                    <a:lnTo>
                      <a:pt x="557" y="3238"/>
                    </a:lnTo>
                    <a:lnTo>
                      <a:pt x="623" y="3302"/>
                    </a:lnTo>
                    <a:lnTo>
                      <a:pt x="692" y="3362"/>
                    </a:lnTo>
                    <a:lnTo>
                      <a:pt x="763" y="3418"/>
                    </a:lnTo>
                    <a:lnTo>
                      <a:pt x="838" y="3471"/>
                    </a:lnTo>
                    <a:lnTo>
                      <a:pt x="915" y="3521"/>
                    </a:lnTo>
                    <a:lnTo>
                      <a:pt x="994" y="3566"/>
                    </a:lnTo>
                    <a:lnTo>
                      <a:pt x="1076" y="3608"/>
                    </a:lnTo>
                    <a:lnTo>
                      <a:pt x="1160" y="3646"/>
                    </a:lnTo>
                    <a:lnTo>
                      <a:pt x="1246" y="3680"/>
                    </a:lnTo>
                    <a:lnTo>
                      <a:pt x="1334" y="3710"/>
                    </a:lnTo>
                    <a:lnTo>
                      <a:pt x="1425" y="3735"/>
                    </a:lnTo>
                    <a:lnTo>
                      <a:pt x="1516" y="3757"/>
                    </a:lnTo>
                    <a:lnTo>
                      <a:pt x="1609" y="3774"/>
                    </a:lnTo>
                    <a:lnTo>
                      <a:pt x="1704" y="3786"/>
                    </a:lnTo>
                    <a:lnTo>
                      <a:pt x="1801" y="3793"/>
                    </a:lnTo>
                    <a:lnTo>
                      <a:pt x="1898"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1" name="Text Box 82"/>
              <p:cNvSpPr/>
              <p:nvPr/>
            </p:nvSpPr>
            <p:spPr>
              <a:xfrm>
                <a:off x="541080" y="3852000"/>
                <a:ext cx="1092960" cy="398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Документы</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и записи</a:t>
                </a:r>
                <a:endParaRPr b="0" lang="en-US" sz="1000" spc="-1" strike="noStrike">
                  <a:solidFill>
                    <a:srgbClr val="000000"/>
                  </a:solidFill>
                  <a:latin typeface="Arial"/>
                </a:endParaRPr>
              </a:p>
            </p:txBody>
          </p:sp>
        </p:grpSp>
        <p:grpSp>
          <p:nvGrpSpPr>
            <p:cNvPr id="502" name="Group 142"/>
            <p:cNvGrpSpPr/>
            <p:nvPr/>
          </p:nvGrpSpPr>
          <p:grpSpPr>
            <a:xfrm>
              <a:off x="2043360" y="3572280"/>
              <a:ext cx="1124640" cy="1036800"/>
              <a:chOff x="2043360" y="3572280"/>
              <a:chExt cx="1124640" cy="1036800"/>
            </a:xfrm>
          </p:grpSpPr>
          <p:sp>
            <p:nvSpPr>
              <p:cNvPr id="503" name="Freeform 30"/>
              <p:cNvSpPr/>
              <p:nvPr/>
            </p:nvSpPr>
            <p:spPr>
              <a:xfrm>
                <a:off x="2067840" y="3572280"/>
                <a:ext cx="1046880" cy="1036800"/>
              </a:xfrm>
              <a:custGeom>
                <a:avLst/>
                <a:gdLst>
                  <a:gd name="textAreaLeft" fmla="*/ 0 w 1046880"/>
                  <a:gd name="textAreaRight" fmla="*/ 1047240 w 1046880"/>
                  <a:gd name="textAreaTop" fmla="*/ 0 h 1036800"/>
                  <a:gd name="textAreaBottom" fmla="*/ 1037160 h 1036800"/>
                </a:gdLst>
                <a:ahLst/>
                <a:rect l="textAreaLeft" t="textAreaTop" r="textAreaRight" b="textAreaBottom"/>
                <a:pathLst>
                  <a:path w="3795" h="3795">
                    <a:moveTo>
                      <a:pt x="1897" y="3795"/>
                    </a:moveTo>
                    <a:lnTo>
                      <a:pt x="1994" y="3793"/>
                    </a:lnTo>
                    <a:lnTo>
                      <a:pt x="2090" y="3786"/>
                    </a:lnTo>
                    <a:lnTo>
                      <a:pt x="2185" y="3774"/>
                    </a:lnTo>
                    <a:lnTo>
                      <a:pt x="2279" y="3757"/>
                    </a:lnTo>
                    <a:lnTo>
                      <a:pt x="2370" y="3735"/>
                    </a:lnTo>
                    <a:lnTo>
                      <a:pt x="2460" y="3710"/>
                    </a:lnTo>
                    <a:lnTo>
                      <a:pt x="2548" y="3680"/>
                    </a:lnTo>
                    <a:lnTo>
                      <a:pt x="2634" y="3646"/>
                    </a:lnTo>
                    <a:lnTo>
                      <a:pt x="2718" y="3608"/>
                    </a:lnTo>
                    <a:lnTo>
                      <a:pt x="2800" y="3566"/>
                    </a:lnTo>
                    <a:lnTo>
                      <a:pt x="2879" y="3521"/>
                    </a:lnTo>
                    <a:lnTo>
                      <a:pt x="2957" y="3471"/>
                    </a:lnTo>
                    <a:lnTo>
                      <a:pt x="3031" y="3418"/>
                    </a:lnTo>
                    <a:lnTo>
                      <a:pt x="3103" y="3362"/>
                    </a:lnTo>
                    <a:lnTo>
                      <a:pt x="3171" y="3302"/>
                    </a:lnTo>
                    <a:lnTo>
                      <a:pt x="3238" y="3238"/>
                    </a:lnTo>
                    <a:lnTo>
                      <a:pt x="3300" y="3173"/>
                    </a:lnTo>
                    <a:lnTo>
                      <a:pt x="3360" y="3104"/>
                    </a:lnTo>
                    <a:lnTo>
                      <a:pt x="3417" y="3032"/>
                    </a:lnTo>
                    <a:lnTo>
                      <a:pt x="3470" y="2958"/>
                    </a:lnTo>
                    <a:lnTo>
                      <a:pt x="3519" y="2881"/>
                    </a:lnTo>
                    <a:lnTo>
                      <a:pt x="3565" y="2801"/>
                    </a:lnTo>
                    <a:lnTo>
                      <a:pt x="3606" y="2720"/>
                    </a:lnTo>
                    <a:lnTo>
                      <a:pt x="3644" y="2636"/>
                    </a:lnTo>
                    <a:lnTo>
                      <a:pt x="3679" y="2550"/>
                    </a:lnTo>
                    <a:lnTo>
                      <a:pt x="3709" y="2461"/>
                    </a:lnTo>
                    <a:lnTo>
                      <a:pt x="3735" y="2372"/>
                    </a:lnTo>
                    <a:lnTo>
                      <a:pt x="3756" y="2279"/>
                    </a:lnTo>
                    <a:lnTo>
                      <a:pt x="3772" y="2187"/>
                    </a:lnTo>
                    <a:lnTo>
                      <a:pt x="3785" y="2092"/>
                    </a:lnTo>
                    <a:lnTo>
                      <a:pt x="3792" y="1996"/>
                    </a:lnTo>
                    <a:lnTo>
                      <a:pt x="3795" y="1898"/>
                    </a:lnTo>
                    <a:lnTo>
                      <a:pt x="3792" y="1801"/>
                    </a:lnTo>
                    <a:lnTo>
                      <a:pt x="3785" y="1705"/>
                    </a:lnTo>
                    <a:lnTo>
                      <a:pt x="3772" y="1610"/>
                    </a:lnTo>
                    <a:lnTo>
                      <a:pt x="3756" y="1516"/>
                    </a:lnTo>
                    <a:lnTo>
                      <a:pt x="3735" y="1425"/>
                    </a:lnTo>
                    <a:lnTo>
                      <a:pt x="3709" y="1335"/>
                    </a:lnTo>
                    <a:lnTo>
                      <a:pt x="3679" y="1247"/>
                    </a:lnTo>
                    <a:lnTo>
                      <a:pt x="3644" y="1161"/>
                    </a:lnTo>
                    <a:lnTo>
                      <a:pt x="3606" y="1077"/>
                    </a:lnTo>
                    <a:lnTo>
                      <a:pt x="3565" y="995"/>
                    </a:lnTo>
                    <a:lnTo>
                      <a:pt x="3519" y="916"/>
                    </a:lnTo>
                    <a:lnTo>
                      <a:pt x="3470" y="838"/>
                    </a:lnTo>
                    <a:lnTo>
                      <a:pt x="3417" y="764"/>
                    </a:lnTo>
                    <a:lnTo>
                      <a:pt x="3360" y="692"/>
                    </a:lnTo>
                    <a:lnTo>
                      <a:pt x="3300" y="623"/>
                    </a:lnTo>
                    <a:lnTo>
                      <a:pt x="3238" y="557"/>
                    </a:lnTo>
                    <a:lnTo>
                      <a:pt x="3171" y="495"/>
                    </a:lnTo>
                    <a:lnTo>
                      <a:pt x="3103" y="435"/>
                    </a:lnTo>
                    <a:lnTo>
                      <a:pt x="3031" y="378"/>
                    </a:lnTo>
                    <a:lnTo>
                      <a:pt x="2957" y="325"/>
                    </a:lnTo>
                    <a:lnTo>
                      <a:pt x="2879" y="276"/>
                    </a:lnTo>
                    <a:lnTo>
                      <a:pt x="2800" y="230"/>
                    </a:lnTo>
                    <a:lnTo>
                      <a:pt x="2718" y="187"/>
                    </a:lnTo>
                    <a:lnTo>
                      <a:pt x="2634" y="150"/>
                    </a:lnTo>
                    <a:lnTo>
                      <a:pt x="2548" y="116"/>
                    </a:lnTo>
                    <a:lnTo>
                      <a:pt x="2460" y="86"/>
                    </a:lnTo>
                    <a:lnTo>
                      <a:pt x="2370" y="60"/>
                    </a:lnTo>
                    <a:lnTo>
                      <a:pt x="2279" y="39"/>
                    </a:lnTo>
                    <a:lnTo>
                      <a:pt x="2185" y="22"/>
                    </a:lnTo>
                    <a:lnTo>
                      <a:pt x="2090" y="10"/>
                    </a:lnTo>
                    <a:lnTo>
                      <a:pt x="1994" y="3"/>
                    </a:lnTo>
                    <a:lnTo>
                      <a:pt x="1897" y="0"/>
                    </a:lnTo>
                    <a:lnTo>
                      <a:pt x="1799" y="3"/>
                    </a:lnTo>
                    <a:lnTo>
                      <a:pt x="1703" y="10"/>
                    </a:lnTo>
                    <a:lnTo>
                      <a:pt x="1609" y="22"/>
                    </a:lnTo>
                    <a:lnTo>
                      <a:pt x="1516" y="39"/>
                    </a:lnTo>
                    <a:lnTo>
                      <a:pt x="1423" y="60"/>
                    </a:lnTo>
                    <a:lnTo>
                      <a:pt x="1334" y="86"/>
                    </a:lnTo>
                    <a:lnTo>
                      <a:pt x="1246" y="116"/>
                    </a:lnTo>
                    <a:lnTo>
                      <a:pt x="1160" y="150"/>
                    </a:lnTo>
                    <a:lnTo>
                      <a:pt x="1076" y="187"/>
                    </a:lnTo>
                    <a:lnTo>
                      <a:pt x="994" y="230"/>
                    </a:lnTo>
                    <a:lnTo>
                      <a:pt x="914" y="276"/>
                    </a:lnTo>
                    <a:lnTo>
                      <a:pt x="837" y="325"/>
                    </a:lnTo>
                    <a:lnTo>
                      <a:pt x="763" y="378"/>
                    </a:lnTo>
                    <a:lnTo>
                      <a:pt x="691" y="435"/>
                    </a:lnTo>
                    <a:lnTo>
                      <a:pt x="622" y="495"/>
                    </a:lnTo>
                    <a:lnTo>
                      <a:pt x="557" y="557"/>
                    </a:lnTo>
                    <a:lnTo>
                      <a:pt x="494" y="623"/>
                    </a:lnTo>
                    <a:lnTo>
                      <a:pt x="434" y="692"/>
                    </a:lnTo>
                    <a:lnTo>
                      <a:pt x="377" y="764"/>
                    </a:lnTo>
                    <a:lnTo>
                      <a:pt x="325" y="838"/>
                    </a:lnTo>
                    <a:lnTo>
                      <a:pt x="275" y="916"/>
                    </a:lnTo>
                    <a:lnTo>
                      <a:pt x="229" y="995"/>
                    </a:lnTo>
                    <a:lnTo>
                      <a:pt x="188" y="1077"/>
                    </a:lnTo>
                    <a:lnTo>
                      <a:pt x="149" y="1161"/>
                    </a:lnTo>
                    <a:lnTo>
                      <a:pt x="116" y="1247"/>
                    </a:lnTo>
                    <a:lnTo>
                      <a:pt x="85" y="1335"/>
                    </a:lnTo>
                    <a:lnTo>
                      <a:pt x="60" y="1425"/>
                    </a:lnTo>
                    <a:lnTo>
                      <a:pt x="38" y="1516"/>
                    </a:lnTo>
                    <a:lnTo>
                      <a:pt x="22" y="1610"/>
                    </a:lnTo>
                    <a:lnTo>
                      <a:pt x="10" y="1705"/>
                    </a:lnTo>
                    <a:lnTo>
                      <a:pt x="2" y="1801"/>
                    </a:lnTo>
                    <a:lnTo>
                      <a:pt x="0" y="1898"/>
                    </a:lnTo>
                    <a:lnTo>
                      <a:pt x="2" y="1996"/>
                    </a:lnTo>
                    <a:lnTo>
                      <a:pt x="10" y="2092"/>
                    </a:lnTo>
                    <a:lnTo>
                      <a:pt x="22" y="2187"/>
                    </a:lnTo>
                    <a:lnTo>
                      <a:pt x="38" y="2279"/>
                    </a:lnTo>
                    <a:lnTo>
                      <a:pt x="60" y="2372"/>
                    </a:lnTo>
                    <a:lnTo>
                      <a:pt x="85" y="2461"/>
                    </a:lnTo>
                    <a:lnTo>
                      <a:pt x="116" y="2550"/>
                    </a:lnTo>
                    <a:lnTo>
                      <a:pt x="149" y="2636"/>
                    </a:lnTo>
                    <a:lnTo>
                      <a:pt x="188" y="2720"/>
                    </a:lnTo>
                    <a:lnTo>
                      <a:pt x="229" y="2801"/>
                    </a:lnTo>
                    <a:lnTo>
                      <a:pt x="275" y="2881"/>
                    </a:lnTo>
                    <a:lnTo>
                      <a:pt x="325" y="2958"/>
                    </a:lnTo>
                    <a:lnTo>
                      <a:pt x="377" y="3032"/>
                    </a:lnTo>
                    <a:lnTo>
                      <a:pt x="434" y="3104"/>
                    </a:lnTo>
                    <a:lnTo>
                      <a:pt x="494" y="3173"/>
                    </a:lnTo>
                    <a:lnTo>
                      <a:pt x="557" y="3238"/>
                    </a:lnTo>
                    <a:lnTo>
                      <a:pt x="622" y="3302"/>
                    </a:lnTo>
                    <a:lnTo>
                      <a:pt x="691" y="3362"/>
                    </a:lnTo>
                    <a:lnTo>
                      <a:pt x="763" y="3418"/>
                    </a:lnTo>
                    <a:lnTo>
                      <a:pt x="837" y="3471"/>
                    </a:lnTo>
                    <a:lnTo>
                      <a:pt x="914" y="3521"/>
                    </a:lnTo>
                    <a:lnTo>
                      <a:pt x="994" y="3566"/>
                    </a:lnTo>
                    <a:lnTo>
                      <a:pt x="1076" y="3608"/>
                    </a:lnTo>
                    <a:lnTo>
                      <a:pt x="1160" y="3646"/>
                    </a:lnTo>
                    <a:lnTo>
                      <a:pt x="1246" y="3680"/>
                    </a:lnTo>
                    <a:lnTo>
                      <a:pt x="1334" y="3710"/>
                    </a:lnTo>
                    <a:lnTo>
                      <a:pt x="1423" y="3735"/>
                    </a:lnTo>
                    <a:lnTo>
                      <a:pt x="1516" y="3757"/>
                    </a:lnTo>
                    <a:lnTo>
                      <a:pt x="1609" y="3774"/>
                    </a:lnTo>
                    <a:lnTo>
                      <a:pt x="1703" y="3786"/>
                    </a:lnTo>
                    <a:lnTo>
                      <a:pt x="1799"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 name="Text Box 54"/>
              <p:cNvSpPr/>
              <p:nvPr/>
            </p:nvSpPr>
            <p:spPr>
              <a:xfrm>
                <a:off x="2043360" y="3791520"/>
                <a:ext cx="1124640" cy="550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Управление нештатными ситуациями</a:t>
                </a:r>
                <a:endParaRPr b="0" lang="en-US" sz="1000" spc="-1" strike="noStrike">
                  <a:solidFill>
                    <a:srgbClr val="000000"/>
                  </a:solidFill>
                  <a:latin typeface="Arial"/>
                </a:endParaRPr>
              </a:p>
            </p:txBody>
          </p:sp>
        </p:grpSp>
        <p:sp>
          <p:nvSpPr>
            <p:cNvPr id="505" name="Freeform 50"/>
            <p:cNvSpPr/>
            <p:nvPr/>
          </p:nvSpPr>
          <p:spPr>
            <a:xfrm>
              <a:off x="3513960" y="3566160"/>
              <a:ext cx="1046880" cy="1037160"/>
            </a:xfrm>
            <a:custGeom>
              <a:avLst/>
              <a:gdLst>
                <a:gd name="textAreaLeft" fmla="*/ 0 w 1046880"/>
                <a:gd name="textAreaRight" fmla="*/ 1047240 w 1046880"/>
                <a:gd name="textAreaTop" fmla="*/ 0 h 1037160"/>
                <a:gd name="textAreaBottom" fmla="*/ 1037520 h 1037160"/>
              </a:gdLst>
              <a:ahLst/>
              <a:rect l="textAreaLeft" t="textAreaTop" r="textAreaRight" b="textAreaBottom"/>
              <a:pathLst>
                <a:path w="3795" h="3795">
                  <a:moveTo>
                    <a:pt x="1897" y="3795"/>
                  </a:moveTo>
                  <a:lnTo>
                    <a:pt x="1995" y="3793"/>
                  </a:lnTo>
                  <a:lnTo>
                    <a:pt x="2091" y="3786"/>
                  </a:lnTo>
                  <a:lnTo>
                    <a:pt x="2186" y="3774"/>
                  </a:lnTo>
                  <a:lnTo>
                    <a:pt x="2279" y="3757"/>
                  </a:lnTo>
                  <a:lnTo>
                    <a:pt x="2371" y="3735"/>
                  </a:lnTo>
                  <a:lnTo>
                    <a:pt x="2461" y="3710"/>
                  </a:lnTo>
                  <a:lnTo>
                    <a:pt x="2549" y="3680"/>
                  </a:lnTo>
                  <a:lnTo>
                    <a:pt x="2635" y="3646"/>
                  </a:lnTo>
                  <a:lnTo>
                    <a:pt x="2719" y="3608"/>
                  </a:lnTo>
                  <a:lnTo>
                    <a:pt x="2801" y="3566"/>
                  </a:lnTo>
                  <a:lnTo>
                    <a:pt x="2880" y="3521"/>
                  </a:lnTo>
                  <a:lnTo>
                    <a:pt x="2958" y="3471"/>
                  </a:lnTo>
                  <a:lnTo>
                    <a:pt x="3032" y="3418"/>
                  </a:lnTo>
                  <a:lnTo>
                    <a:pt x="3104" y="3362"/>
                  </a:lnTo>
                  <a:lnTo>
                    <a:pt x="3172" y="3302"/>
                  </a:lnTo>
                  <a:lnTo>
                    <a:pt x="3238" y="3238"/>
                  </a:lnTo>
                  <a:lnTo>
                    <a:pt x="3301" y="3173"/>
                  </a:lnTo>
                  <a:lnTo>
                    <a:pt x="3361" y="3104"/>
                  </a:lnTo>
                  <a:lnTo>
                    <a:pt x="3418" y="3032"/>
                  </a:lnTo>
                  <a:lnTo>
                    <a:pt x="3470" y="2958"/>
                  </a:lnTo>
                  <a:lnTo>
                    <a:pt x="3520" y="2881"/>
                  </a:lnTo>
                  <a:lnTo>
                    <a:pt x="3566" y="2801"/>
                  </a:lnTo>
                  <a:lnTo>
                    <a:pt x="3607" y="2720"/>
                  </a:lnTo>
                  <a:lnTo>
                    <a:pt x="3645" y="2636"/>
                  </a:lnTo>
                  <a:lnTo>
                    <a:pt x="3679" y="2550"/>
                  </a:lnTo>
                  <a:lnTo>
                    <a:pt x="3710" y="2461"/>
                  </a:lnTo>
                  <a:lnTo>
                    <a:pt x="3735" y="2372"/>
                  </a:lnTo>
                  <a:lnTo>
                    <a:pt x="3756" y="2279"/>
                  </a:lnTo>
                  <a:lnTo>
                    <a:pt x="3773" y="2187"/>
                  </a:lnTo>
                  <a:lnTo>
                    <a:pt x="3785" y="2092"/>
                  </a:lnTo>
                  <a:lnTo>
                    <a:pt x="3792" y="1996"/>
                  </a:lnTo>
                  <a:lnTo>
                    <a:pt x="3795" y="1898"/>
                  </a:lnTo>
                  <a:lnTo>
                    <a:pt x="3792" y="1801"/>
                  </a:lnTo>
                  <a:lnTo>
                    <a:pt x="3785" y="1705"/>
                  </a:lnTo>
                  <a:lnTo>
                    <a:pt x="3773" y="1610"/>
                  </a:lnTo>
                  <a:lnTo>
                    <a:pt x="3756" y="1516"/>
                  </a:lnTo>
                  <a:lnTo>
                    <a:pt x="3735" y="1425"/>
                  </a:lnTo>
                  <a:lnTo>
                    <a:pt x="3710" y="1335"/>
                  </a:lnTo>
                  <a:lnTo>
                    <a:pt x="3679" y="1247"/>
                  </a:lnTo>
                  <a:lnTo>
                    <a:pt x="3645" y="1161"/>
                  </a:lnTo>
                  <a:lnTo>
                    <a:pt x="3607" y="1077"/>
                  </a:lnTo>
                  <a:lnTo>
                    <a:pt x="3566" y="995"/>
                  </a:lnTo>
                  <a:lnTo>
                    <a:pt x="3520" y="916"/>
                  </a:lnTo>
                  <a:lnTo>
                    <a:pt x="3470" y="838"/>
                  </a:lnTo>
                  <a:lnTo>
                    <a:pt x="3418" y="764"/>
                  </a:lnTo>
                  <a:lnTo>
                    <a:pt x="3361" y="692"/>
                  </a:lnTo>
                  <a:lnTo>
                    <a:pt x="3301" y="623"/>
                  </a:lnTo>
                  <a:lnTo>
                    <a:pt x="3238" y="557"/>
                  </a:lnTo>
                  <a:lnTo>
                    <a:pt x="3172" y="495"/>
                  </a:lnTo>
                  <a:lnTo>
                    <a:pt x="3104" y="435"/>
                  </a:lnTo>
                  <a:lnTo>
                    <a:pt x="3032" y="378"/>
                  </a:lnTo>
                  <a:lnTo>
                    <a:pt x="2958" y="325"/>
                  </a:lnTo>
                  <a:lnTo>
                    <a:pt x="2880" y="276"/>
                  </a:lnTo>
                  <a:lnTo>
                    <a:pt x="2801" y="230"/>
                  </a:lnTo>
                  <a:lnTo>
                    <a:pt x="2719" y="187"/>
                  </a:lnTo>
                  <a:lnTo>
                    <a:pt x="2635" y="150"/>
                  </a:lnTo>
                  <a:lnTo>
                    <a:pt x="2549" y="116"/>
                  </a:lnTo>
                  <a:lnTo>
                    <a:pt x="2461" y="86"/>
                  </a:lnTo>
                  <a:lnTo>
                    <a:pt x="2371" y="60"/>
                  </a:lnTo>
                  <a:lnTo>
                    <a:pt x="2279" y="39"/>
                  </a:lnTo>
                  <a:lnTo>
                    <a:pt x="2186" y="22"/>
                  </a:lnTo>
                  <a:lnTo>
                    <a:pt x="2091" y="10"/>
                  </a:lnTo>
                  <a:lnTo>
                    <a:pt x="1995" y="3"/>
                  </a:lnTo>
                  <a:lnTo>
                    <a:pt x="1897" y="0"/>
                  </a:lnTo>
                  <a:lnTo>
                    <a:pt x="1800" y="3"/>
                  </a:lnTo>
                  <a:lnTo>
                    <a:pt x="1704" y="10"/>
                  </a:lnTo>
                  <a:lnTo>
                    <a:pt x="1610" y="22"/>
                  </a:lnTo>
                  <a:lnTo>
                    <a:pt x="1516" y="39"/>
                  </a:lnTo>
                  <a:lnTo>
                    <a:pt x="1424" y="60"/>
                  </a:lnTo>
                  <a:lnTo>
                    <a:pt x="1335" y="86"/>
                  </a:lnTo>
                  <a:lnTo>
                    <a:pt x="1247" y="116"/>
                  </a:lnTo>
                  <a:lnTo>
                    <a:pt x="1161" y="150"/>
                  </a:lnTo>
                  <a:lnTo>
                    <a:pt x="1077" y="187"/>
                  </a:lnTo>
                  <a:lnTo>
                    <a:pt x="995" y="230"/>
                  </a:lnTo>
                  <a:lnTo>
                    <a:pt x="915" y="276"/>
                  </a:lnTo>
                  <a:lnTo>
                    <a:pt x="838" y="325"/>
                  </a:lnTo>
                  <a:lnTo>
                    <a:pt x="764" y="378"/>
                  </a:lnTo>
                  <a:lnTo>
                    <a:pt x="692" y="435"/>
                  </a:lnTo>
                  <a:lnTo>
                    <a:pt x="623" y="495"/>
                  </a:lnTo>
                  <a:lnTo>
                    <a:pt x="557" y="557"/>
                  </a:lnTo>
                  <a:lnTo>
                    <a:pt x="495" y="623"/>
                  </a:lnTo>
                  <a:lnTo>
                    <a:pt x="435" y="692"/>
                  </a:lnTo>
                  <a:lnTo>
                    <a:pt x="378" y="764"/>
                  </a:lnTo>
                  <a:lnTo>
                    <a:pt x="325" y="838"/>
                  </a:lnTo>
                  <a:lnTo>
                    <a:pt x="276" y="916"/>
                  </a:lnTo>
                  <a:lnTo>
                    <a:pt x="230" y="995"/>
                  </a:lnTo>
                  <a:lnTo>
                    <a:pt x="187" y="1077"/>
                  </a:lnTo>
                  <a:lnTo>
                    <a:pt x="150" y="1161"/>
                  </a:lnTo>
                  <a:lnTo>
                    <a:pt x="115" y="1247"/>
                  </a:lnTo>
                  <a:lnTo>
                    <a:pt x="86" y="1335"/>
                  </a:lnTo>
                  <a:lnTo>
                    <a:pt x="60" y="1425"/>
                  </a:lnTo>
                  <a:lnTo>
                    <a:pt x="39" y="1516"/>
                  </a:lnTo>
                  <a:lnTo>
                    <a:pt x="23" y="1610"/>
                  </a:lnTo>
                  <a:lnTo>
                    <a:pt x="10" y="1705"/>
                  </a:lnTo>
                  <a:lnTo>
                    <a:pt x="3" y="1801"/>
                  </a:lnTo>
                  <a:lnTo>
                    <a:pt x="0" y="1898"/>
                  </a:lnTo>
                  <a:lnTo>
                    <a:pt x="3" y="1996"/>
                  </a:lnTo>
                  <a:lnTo>
                    <a:pt x="10" y="2092"/>
                  </a:lnTo>
                  <a:lnTo>
                    <a:pt x="23" y="2187"/>
                  </a:lnTo>
                  <a:lnTo>
                    <a:pt x="39" y="2279"/>
                  </a:lnTo>
                  <a:lnTo>
                    <a:pt x="60" y="2372"/>
                  </a:lnTo>
                  <a:lnTo>
                    <a:pt x="86" y="2461"/>
                  </a:lnTo>
                  <a:lnTo>
                    <a:pt x="115" y="2550"/>
                  </a:lnTo>
                  <a:lnTo>
                    <a:pt x="150" y="2636"/>
                  </a:lnTo>
                  <a:lnTo>
                    <a:pt x="187" y="2720"/>
                  </a:lnTo>
                  <a:lnTo>
                    <a:pt x="230" y="2801"/>
                  </a:lnTo>
                  <a:lnTo>
                    <a:pt x="276" y="2881"/>
                  </a:lnTo>
                  <a:lnTo>
                    <a:pt x="325" y="2958"/>
                  </a:lnTo>
                  <a:lnTo>
                    <a:pt x="378" y="3032"/>
                  </a:lnTo>
                  <a:lnTo>
                    <a:pt x="435" y="3104"/>
                  </a:lnTo>
                  <a:lnTo>
                    <a:pt x="495" y="3173"/>
                  </a:lnTo>
                  <a:lnTo>
                    <a:pt x="557" y="3238"/>
                  </a:lnTo>
                  <a:lnTo>
                    <a:pt x="623" y="3302"/>
                  </a:lnTo>
                  <a:lnTo>
                    <a:pt x="692" y="3362"/>
                  </a:lnTo>
                  <a:lnTo>
                    <a:pt x="764" y="3418"/>
                  </a:lnTo>
                  <a:lnTo>
                    <a:pt x="838" y="3471"/>
                  </a:lnTo>
                  <a:lnTo>
                    <a:pt x="915" y="3521"/>
                  </a:lnTo>
                  <a:lnTo>
                    <a:pt x="995" y="3566"/>
                  </a:lnTo>
                  <a:lnTo>
                    <a:pt x="1077" y="3608"/>
                  </a:lnTo>
                  <a:lnTo>
                    <a:pt x="1161" y="3646"/>
                  </a:lnTo>
                  <a:lnTo>
                    <a:pt x="1247" y="3680"/>
                  </a:lnTo>
                  <a:lnTo>
                    <a:pt x="1335" y="3710"/>
                  </a:lnTo>
                  <a:lnTo>
                    <a:pt x="1424" y="3735"/>
                  </a:lnTo>
                  <a:lnTo>
                    <a:pt x="1516" y="3757"/>
                  </a:lnTo>
                  <a:lnTo>
                    <a:pt x="1610" y="3774"/>
                  </a:lnTo>
                  <a:lnTo>
                    <a:pt x="1704" y="3786"/>
                  </a:lnTo>
                  <a:lnTo>
                    <a:pt x="1800"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6" name="Text Box 51"/>
            <p:cNvSpPr/>
            <p:nvPr/>
          </p:nvSpPr>
          <p:spPr>
            <a:xfrm>
              <a:off x="3485160" y="3941640"/>
              <a:ext cx="1124640" cy="246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Оценка</a:t>
              </a:r>
              <a:endParaRPr b="0" lang="en-US" sz="1000" spc="-1" strike="noStrike">
                <a:solidFill>
                  <a:srgbClr val="000000"/>
                </a:solidFill>
                <a:latin typeface="Arial"/>
              </a:endParaRPr>
            </a:p>
          </p:txBody>
        </p:sp>
        <p:sp>
          <p:nvSpPr>
            <p:cNvPr id="507" name="Line 27"/>
            <p:cNvSpPr/>
            <p:nvPr/>
          </p:nvSpPr>
          <p:spPr>
            <a:xfrm flipH="1">
              <a:off x="886680" y="5226840"/>
              <a:ext cx="356148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508" name="Group 148"/>
            <p:cNvGrpSpPr/>
            <p:nvPr/>
          </p:nvGrpSpPr>
          <p:grpSpPr>
            <a:xfrm>
              <a:off x="564120" y="4746240"/>
              <a:ext cx="1121760" cy="1035360"/>
              <a:chOff x="564120" y="4746240"/>
              <a:chExt cx="1121760" cy="1035360"/>
            </a:xfrm>
          </p:grpSpPr>
          <p:sp>
            <p:nvSpPr>
              <p:cNvPr id="509" name="Freeform 57"/>
              <p:cNvSpPr/>
              <p:nvPr/>
            </p:nvSpPr>
            <p:spPr>
              <a:xfrm>
                <a:off x="606960" y="4746240"/>
                <a:ext cx="1045440" cy="1035360"/>
              </a:xfrm>
              <a:custGeom>
                <a:avLst/>
                <a:gdLst>
                  <a:gd name="textAreaLeft" fmla="*/ 0 w 1045440"/>
                  <a:gd name="textAreaRight" fmla="*/ 1045800 w 1045440"/>
                  <a:gd name="textAreaTop" fmla="*/ 0 h 1035360"/>
                  <a:gd name="textAreaBottom" fmla="*/ 1035720 h 1035360"/>
                </a:gdLst>
                <a:ahLst/>
                <a:rect l="textAreaLeft" t="textAreaTop" r="textAreaRight" b="textAreaBottom"/>
                <a:pathLst>
                  <a:path w="3795" h="3795">
                    <a:moveTo>
                      <a:pt x="1898" y="3795"/>
                    </a:moveTo>
                    <a:lnTo>
                      <a:pt x="1995" y="3793"/>
                    </a:lnTo>
                    <a:lnTo>
                      <a:pt x="2091" y="3786"/>
                    </a:lnTo>
                    <a:lnTo>
                      <a:pt x="2185" y="3774"/>
                    </a:lnTo>
                    <a:lnTo>
                      <a:pt x="2279" y="3757"/>
                    </a:lnTo>
                    <a:lnTo>
                      <a:pt x="2371" y="3735"/>
                    </a:lnTo>
                    <a:lnTo>
                      <a:pt x="2461" y="3710"/>
                    </a:lnTo>
                    <a:lnTo>
                      <a:pt x="2548" y="3680"/>
                    </a:lnTo>
                    <a:lnTo>
                      <a:pt x="2634" y="3646"/>
                    </a:lnTo>
                    <a:lnTo>
                      <a:pt x="2719" y="3608"/>
                    </a:lnTo>
                    <a:lnTo>
                      <a:pt x="2801" y="3565"/>
                    </a:lnTo>
                    <a:lnTo>
                      <a:pt x="2880" y="3520"/>
                    </a:lnTo>
                    <a:lnTo>
                      <a:pt x="2957" y="3471"/>
                    </a:lnTo>
                    <a:lnTo>
                      <a:pt x="3031" y="3417"/>
                    </a:lnTo>
                    <a:lnTo>
                      <a:pt x="3103" y="3362"/>
                    </a:lnTo>
                    <a:lnTo>
                      <a:pt x="3172" y="3302"/>
                    </a:lnTo>
                    <a:lnTo>
                      <a:pt x="3238" y="3238"/>
                    </a:lnTo>
                    <a:lnTo>
                      <a:pt x="3301" y="3173"/>
                    </a:lnTo>
                    <a:lnTo>
                      <a:pt x="3360" y="3103"/>
                    </a:lnTo>
                    <a:lnTo>
                      <a:pt x="3417" y="3032"/>
                    </a:lnTo>
                    <a:lnTo>
                      <a:pt x="3470" y="2957"/>
                    </a:lnTo>
                    <a:lnTo>
                      <a:pt x="3519" y="2881"/>
                    </a:lnTo>
                    <a:lnTo>
                      <a:pt x="3565" y="2801"/>
                    </a:lnTo>
                    <a:lnTo>
                      <a:pt x="3608" y="2720"/>
                    </a:lnTo>
                    <a:lnTo>
                      <a:pt x="3646" y="2636"/>
                    </a:lnTo>
                    <a:lnTo>
                      <a:pt x="3679" y="2550"/>
                    </a:lnTo>
                    <a:lnTo>
                      <a:pt x="3709" y="2461"/>
                    </a:lnTo>
                    <a:lnTo>
                      <a:pt x="3735" y="2371"/>
                    </a:lnTo>
                    <a:lnTo>
                      <a:pt x="3756" y="2279"/>
                    </a:lnTo>
                    <a:lnTo>
                      <a:pt x="3773" y="2187"/>
                    </a:lnTo>
                    <a:lnTo>
                      <a:pt x="3785" y="2092"/>
                    </a:lnTo>
                    <a:lnTo>
                      <a:pt x="3793" y="1995"/>
                    </a:lnTo>
                    <a:lnTo>
                      <a:pt x="3795" y="1898"/>
                    </a:lnTo>
                    <a:lnTo>
                      <a:pt x="3793" y="1801"/>
                    </a:lnTo>
                    <a:lnTo>
                      <a:pt x="3785" y="1705"/>
                    </a:lnTo>
                    <a:lnTo>
                      <a:pt x="3773" y="1610"/>
                    </a:lnTo>
                    <a:lnTo>
                      <a:pt x="3756" y="1516"/>
                    </a:lnTo>
                    <a:lnTo>
                      <a:pt x="3735" y="1425"/>
                    </a:lnTo>
                    <a:lnTo>
                      <a:pt x="3709" y="1334"/>
                    </a:lnTo>
                    <a:lnTo>
                      <a:pt x="3679" y="1247"/>
                    </a:lnTo>
                    <a:lnTo>
                      <a:pt x="3646" y="1161"/>
                    </a:lnTo>
                    <a:lnTo>
                      <a:pt x="3608" y="1076"/>
                    </a:lnTo>
                    <a:lnTo>
                      <a:pt x="3565" y="994"/>
                    </a:lnTo>
                    <a:lnTo>
                      <a:pt x="3519" y="916"/>
                    </a:lnTo>
                    <a:lnTo>
                      <a:pt x="3470" y="838"/>
                    </a:lnTo>
                    <a:lnTo>
                      <a:pt x="3417" y="764"/>
                    </a:lnTo>
                    <a:lnTo>
                      <a:pt x="3360" y="692"/>
                    </a:lnTo>
                    <a:lnTo>
                      <a:pt x="3301" y="624"/>
                    </a:lnTo>
                    <a:lnTo>
                      <a:pt x="3238" y="557"/>
                    </a:lnTo>
                    <a:lnTo>
                      <a:pt x="3172" y="494"/>
                    </a:lnTo>
                    <a:lnTo>
                      <a:pt x="3103" y="435"/>
                    </a:lnTo>
                    <a:lnTo>
                      <a:pt x="3031" y="378"/>
                    </a:lnTo>
                    <a:lnTo>
                      <a:pt x="2957" y="325"/>
                    </a:lnTo>
                    <a:lnTo>
                      <a:pt x="2880" y="276"/>
                    </a:lnTo>
                    <a:lnTo>
                      <a:pt x="2801" y="230"/>
                    </a:lnTo>
                    <a:lnTo>
                      <a:pt x="2719" y="188"/>
                    </a:lnTo>
                    <a:lnTo>
                      <a:pt x="2634" y="149"/>
                    </a:lnTo>
                    <a:lnTo>
                      <a:pt x="2548" y="116"/>
                    </a:lnTo>
                    <a:lnTo>
                      <a:pt x="2461" y="86"/>
                    </a:lnTo>
                    <a:lnTo>
                      <a:pt x="2371" y="60"/>
                    </a:lnTo>
                    <a:lnTo>
                      <a:pt x="2279" y="39"/>
                    </a:lnTo>
                    <a:lnTo>
                      <a:pt x="2185" y="22"/>
                    </a:lnTo>
                    <a:lnTo>
                      <a:pt x="2091" y="10"/>
                    </a:lnTo>
                    <a:lnTo>
                      <a:pt x="1995" y="2"/>
                    </a:lnTo>
                    <a:lnTo>
                      <a:pt x="1898" y="0"/>
                    </a:lnTo>
                    <a:lnTo>
                      <a:pt x="1801" y="2"/>
                    </a:lnTo>
                    <a:lnTo>
                      <a:pt x="1704" y="10"/>
                    </a:lnTo>
                    <a:lnTo>
                      <a:pt x="1609" y="22"/>
                    </a:lnTo>
                    <a:lnTo>
                      <a:pt x="1516" y="39"/>
                    </a:lnTo>
                    <a:lnTo>
                      <a:pt x="1425" y="60"/>
                    </a:lnTo>
                    <a:lnTo>
                      <a:pt x="1334" y="86"/>
                    </a:lnTo>
                    <a:lnTo>
                      <a:pt x="1246" y="116"/>
                    </a:lnTo>
                    <a:lnTo>
                      <a:pt x="1160" y="149"/>
                    </a:lnTo>
                    <a:lnTo>
                      <a:pt x="1076" y="188"/>
                    </a:lnTo>
                    <a:lnTo>
                      <a:pt x="994" y="230"/>
                    </a:lnTo>
                    <a:lnTo>
                      <a:pt x="915" y="276"/>
                    </a:lnTo>
                    <a:lnTo>
                      <a:pt x="838" y="325"/>
                    </a:lnTo>
                    <a:lnTo>
                      <a:pt x="763" y="378"/>
                    </a:lnTo>
                    <a:lnTo>
                      <a:pt x="692" y="435"/>
                    </a:lnTo>
                    <a:lnTo>
                      <a:pt x="623" y="494"/>
                    </a:lnTo>
                    <a:lnTo>
                      <a:pt x="557" y="557"/>
                    </a:lnTo>
                    <a:lnTo>
                      <a:pt x="494" y="624"/>
                    </a:lnTo>
                    <a:lnTo>
                      <a:pt x="434" y="692"/>
                    </a:lnTo>
                    <a:lnTo>
                      <a:pt x="378" y="764"/>
                    </a:lnTo>
                    <a:lnTo>
                      <a:pt x="325" y="838"/>
                    </a:lnTo>
                    <a:lnTo>
                      <a:pt x="276" y="916"/>
                    </a:lnTo>
                    <a:lnTo>
                      <a:pt x="230" y="994"/>
                    </a:lnTo>
                    <a:lnTo>
                      <a:pt x="188" y="1076"/>
                    </a:lnTo>
                    <a:lnTo>
                      <a:pt x="150" y="1161"/>
                    </a:lnTo>
                    <a:lnTo>
                      <a:pt x="116" y="1247"/>
                    </a:lnTo>
                    <a:lnTo>
                      <a:pt x="85" y="1334"/>
                    </a:lnTo>
                    <a:lnTo>
                      <a:pt x="60" y="1425"/>
                    </a:lnTo>
                    <a:lnTo>
                      <a:pt x="38" y="1516"/>
                    </a:lnTo>
                    <a:lnTo>
                      <a:pt x="22" y="1610"/>
                    </a:lnTo>
                    <a:lnTo>
                      <a:pt x="10" y="1705"/>
                    </a:lnTo>
                    <a:lnTo>
                      <a:pt x="2" y="1801"/>
                    </a:lnTo>
                    <a:lnTo>
                      <a:pt x="0" y="1898"/>
                    </a:lnTo>
                    <a:lnTo>
                      <a:pt x="2" y="1995"/>
                    </a:lnTo>
                    <a:lnTo>
                      <a:pt x="10" y="2092"/>
                    </a:lnTo>
                    <a:lnTo>
                      <a:pt x="22" y="2187"/>
                    </a:lnTo>
                    <a:lnTo>
                      <a:pt x="38" y="2279"/>
                    </a:lnTo>
                    <a:lnTo>
                      <a:pt x="60" y="2371"/>
                    </a:lnTo>
                    <a:lnTo>
                      <a:pt x="85" y="2461"/>
                    </a:lnTo>
                    <a:lnTo>
                      <a:pt x="116" y="2550"/>
                    </a:lnTo>
                    <a:lnTo>
                      <a:pt x="150" y="2636"/>
                    </a:lnTo>
                    <a:lnTo>
                      <a:pt x="188" y="2720"/>
                    </a:lnTo>
                    <a:lnTo>
                      <a:pt x="230" y="2801"/>
                    </a:lnTo>
                    <a:lnTo>
                      <a:pt x="276" y="2881"/>
                    </a:lnTo>
                    <a:lnTo>
                      <a:pt x="325" y="2957"/>
                    </a:lnTo>
                    <a:lnTo>
                      <a:pt x="378" y="3032"/>
                    </a:lnTo>
                    <a:lnTo>
                      <a:pt x="434" y="3103"/>
                    </a:lnTo>
                    <a:lnTo>
                      <a:pt x="494" y="3173"/>
                    </a:lnTo>
                    <a:lnTo>
                      <a:pt x="557" y="3238"/>
                    </a:lnTo>
                    <a:lnTo>
                      <a:pt x="623" y="3302"/>
                    </a:lnTo>
                    <a:lnTo>
                      <a:pt x="692" y="3362"/>
                    </a:lnTo>
                    <a:lnTo>
                      <a:pt x="763" y="3417"/>
                    </a:lnTo>
                    <a:lnTo>
                      <a:pt x="838" y="3471"/>
                    </a:lnTo>
                    <a:lnTo>
                      <a:pt x="915" y="3520"/>
                    </a:lnTo>
                    <a:lnTo>
                      <a:pt x="994" y="3565"/>
                    </a:lnTo>
                    <a:lnTo>
                      <a:pt x="1076" y="3608"/>
                    </a:lnTo>
                    <a:lnTo>
                      <a:pt x="1160" y="3646"/>
                    </a:lnTo>
                    <a:lnTo>
                      <a:pt x="1246" y="3680"/>
                    </a:lnTo>
                    <a:lnTo>
                      <a:pt x="1334" y="3710"/>
                    </a:lnTo>
                    <a:lnTo>
                      <a:pt x="1425" y="3735"/>
                    </a:lnTo>
                    <a:lnTo>
                      <a:pt x="1516" y="3757"/>
                    </a:lnTo>
                    <a:lnTo>
                      <a:pt x="1609" y="3774"/>
                    </a:lnTo>
                    <a:lnTo>
                      <a:pt x="1704" y="3786"/>
                    </a:lnTo>
                    <a:lnTo>
                      <a:pt x="1801" y="3793"/>
                    </a:lnTo>
                    <a:lnTo>
                      <a:pt x="1898"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0" name="Text Box 58"/>
              <p:cNvSpPr/>
              <p:nvPr/>
            </p:nvSpPr>
            <p:spPr>
              <a:xfrm>
                <a:off x="564120" y="5027760"/>
                <a:ext cx="1121760" cy="398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Улучшение процессов</a:t>
                </a:r>
                <a:endParaRPr b="0" lang="en-US" sz="1000" spc="-1" strike="noStrike">
                  <a:solidFill>
                    <a:srgbClr val="000000"/>
                  </a:solidFill>
                  <a:latin typeface="Arial"/>
                </a:endParaRPr>
              </a:p>
            </p:txBody>
          </p:sp>
        </p:grpSp>
        <p:grpSp>
          <p:nvGrpSpPr>
            <p:cNvPr id="511" name="Group 151"/>
            <p:cNvGrpSpPr/>
            <p:nvPr/>
          </p:nvGrpSpPr>
          <p:grpSpPr>
            <a:xfrm>
              <a:off x="2043360" y="4686840"/>
              <a:ext cx="1124640" cy="1035720"/>
              <a:chOff x="2043360" y="4686840"/>
              <a:chExt cx="1124640" cy="1035720"/>
            </a:xfrm>
          </p:grpSpPr>
          <p:sp>
            <p:nvSpPr>
              <p:cNvPr id="512" name="Freeform 34"/>
              <p:cNvSpPr/>
              <p:nvPr/>
            </p:nvSpPr>
            <p:spPr>
              <a:xfrm>
                <a:off x="2087640" y="4686840"/>
                <a:ext cx="1045440" cy="1035720"/>
              </a:xfrm>
              <a:custGeom>
                <a:avLst/>
                <a:gdLst>
                  <a:gd name="textAreaLeft" fmla="*/ 0 w 1045440"/>
                  <a:gd name="textAreaRight" fmla="*/ 1045800 w 1045440"/>
                  <a:gd name="textAreaTop" fmla="*/ 0 h 1035720"/>
                  <a:gd name="textAreaBottom" fmla="*/ 1036080 h 1035720"/>
                </a:gdLst>
                <a:ahLst/>
                <a:rect l="textAreaLeft" t="textAreaTop" r="textAreaRight" b="textAreaBottom"/>
                <a:pathLst>
                  <a:path w="3795" h="3795">
                    <a:moveTo>
                      <a:pt x="1897" y="3795"/>
                    </a:moveTo>
                    <a:lnTo>
                      <a:pt x="1994" y="3793"/>
                    </a:lnTo>
                    <a:lnTo>
                      <a:pt x="2090" y="3786"/>
                    </a:lnTo>
                    <a:lnTo>
                      <a:pt x="2185" y="3774"/>
                    </a:lnTo>
                    <a:lnTo>
                      <a:pt x="2279" y="3757"/>
                    </a:lnTo>
                    <a:lnTo>
                      <a:pt x="2370" y="3735"/>
                    </a:lnTo>
                    <a:lnTo>
                      <a:pt x="2460" y="3710"/>
                    </a:lnTo>
                    <a:lnTo>
                      <a:pt x="2548" y="3680"/>
                    </a:lnTo>
                    <a:lnTo>
                      <a:pt x="2634" y="3646"/>
                    </a:lnTo>
                    <a:lnTo>
                      <a:pt x="2718" y="3608"/>
                    </a:lnTo>
                    <a:lnTo>
                      <a:pt x="2800" y="3565"/>
                    </a:lnTo>
                    <a:lnTo>
                      <a:pt x="2879" y="3520"/>
                    </a:lnTo>
                    <a:lnTo>
                      <a:pt x="2956" y="3471"/>
                    </a:lnTo>
                    <a:lnTo>
                      <a:pt x="3031" y="3417"/>
                    </a:lnTo>
                    <a:lnTo>
                      <a:pt x="3103" y="3362"/>
                    </a:lnTo>
                    <a:lnTo>
                      <a:pt x="3171" y="3302"/>
                    </a:lnTo>
                    <a:lnTo>
                      <a:pt x="3238" y="3238"/>
                    </a:lnTo>
                    <a:lnTo>
                      <a:pt x="3300" y="3173"/>
                    </a:lnTo>
                    <a:lnTo>
                      <a:pt x="3360" y="3103"/>
                    </a:lnTo>
                    <a:lnTo>
                      <a:pt x="3416" y="3032"/>
                    </a:lnTo>
                    <a:lnTo>
                      <a:pt x="3470" y="2957"/>
                    </a:lnTo>
                    <a:lnTo>
                      <a:pt x="3519" y="2881"/>
                    </a:lnTo>
                    <a:lnTo>
                      <a:pt x="3565" y="2801"/>
                    </a:lnTo>
                    <a:lnTo>
                      <a:pt x="3606" y="2720"/>
                    </a:lnTo>
                    <a:lnTo>
                      <a:pt x="3644" y="2636"/>
                    </a:lnTo>
                    <a:lnTo>
                      <a:pt x="3679" y="2550"/>
                    </a:lnTo>
                    <a:lnTo>
                      <a:pt x="3708" y="2461"/>
                    </a:lnTo>
                    <a:lnTo>
                      <a:pt x="3735" y="2371"/>
                    </a:lnTo>
                    <a:lnTo>
                      <a:pt x="3755" y="2279"/>
                    </a:lnTo>
                    <a:lnTo>
                      <a:pt x="3772" y="2187"/>
                    </a:lnTo>
                    <a:lnTo>
                      <a:pt x="3785" y="2092"/>
                    </a:lnTo>
                    <a:lnTo>
                      <a:pt x="3791" y="1995"/>
                    </a:lnTo>
                    <a:lnTo>
                      <a:pt x="3795" y="1898"/>
                    </a:lnTo>
                    <a:lnTo>
                      <a:pt x="3791" y="1801"/>
                    </a:lnTo>
                    <a:lnTo>
                      <a:pt x="3785" y="1705"/>
                    </a:lnTo>
                    <a:lnTo>
                      <a:pt x="3772" y="1610"/>
                    </a:lnTo>
                    <a:lnTo>
                      <a:pt x="3755" y="1516"/>
                    </a:lnTo>
                    <a:lnTo>
                      <a:pt x="3735" y="1425"/>
                    </a:lnTo>
                    <a:lnTo>
                      <a:pt x="3708" y="1334"/>
                    </a:lnTo>
                    <a:lnTo>
                      <a:pt x="3679" y="1247"/>
                    </a:lnTo>
                    <a:lnTo>
                      <a:pt x="3644" y="1161"/>
                    </a:lnTo>
                    <a:lnTo>
                      <a:pt x="3606" y="1076"/>
                    </a:lnTo>
                    <a:lnTo>
                      <a:pt x="3565" y="994"/>
                    </a:lnTo>
                    <a:lnTo>
                      <a:pt x="3519" y="916"/>
                    </a:lnTo>
                    <a:lnTo>
                      <a:pt x="3470" y="838"/>
                    </a:lnTo>
                    <a:lnTo>
                      <a:pt x="3416" y="764"/>
                    </a:lnTo>
                    <a:lnTo>
                      <a:pt x="3360" y="692"/>
                    </a:lnTo>
                    <a:lnTo>
                      <a:pt x="3300" y="624"/>
                    </a:lnTo>
                    <a:lnTo>
                      <a:pt x="3238" y="557"/>
                    </a:lnTo>
                    <a:lnTo>
                      <a:pt x="3171" y="494"/>
                    </a:lnTo>
                    <a:lnTo>
                      <a:pt x="3103" y="435"/>
                    </a:lnTo>
                    <a:lnTo>
                      <a:pt x="3031" y="378"/>
                    </a:lnTo>
                    <a:lnTo>
                      <a:pt x="2956" y="325"/>
                    </a:lnTo>
                    <a:lnTo>
                      <a:pt x="2879" y="276"/>
                    </a:lnTo>
                    <a:lnTo>
                      <a:pt x="2800" y="230"/>
                    </a:lnTo>
                    <a:lnTo>
                      <a:pt x="2718" y="188"/>
                    </a:lnTo>
                    <a:lnTo>
                      <a:pt x="2634" y="149"/>
                    </a:lnTo>
                    <a:lnTo>
                      <a:pt x="2548" y="116"/>
                    </a:lnTo>
                    <a:lnTo>
                      <a:pt x="2460" y="86"/>
                    </a:lnTo>
                    <a:lnTo>
                      <a:pt x="2370" y="60"/>
                    </a:lnTo>
                    <a:lnTo>
                      <a:pt x="2279" y="39"/>
                    </a:lnTo>
                    <a:lnTo>
                      <a:pt x="2185" y="22"/>
                    </a:lnTo>
                    <a:lnTo>
                      <a:pt x="2090" y="10"/>
                    </a:lnTo>
                    <a:lnTo>
                      <a:pt x="1994" y="2"/>
                    </a:lnTo>
                    <a:lnTo>
                      <a:pt x="1897" y="0"/>
                    </a:lnTo>
                    <a:lnTo>
                      <a:pt x="1799" y="2"/>
                    </a:lnTo>
                    <a:lnTo>
                      <a:pt x="1703" y="10"/>
                    </a:lnTo>
                    <a:lnTo>
                      <a:pt x="1608" y="22"/>
                    </a:lnTo>
                    <a:lnTo>
                      <a:pt x="1516" y="39"/>
                    </a:lnTo>
                    <a:lnTo>
                      <a:pt x="1423" y="60"/>
                    </a:lnTo>
                    <a:lnTo>
                      <a:pt x="1334" y="86"/>
                    </a:lnTo>
                    <a:lnTo>
                      <a:pt x="1245" y="116"/>
                    </a:lnTo>
                    <a:lnTo>
                      <a:pt x="1159" y="149"/>
                    </a:lnTo>
                    <a:lnTo>
                      <a:pt x="1075" y="188"/>
                    </a:lnTo>
                    <a:lnTo>
                      <a:pt x="994" y="230"/>
                    </a:lnTo>
                    <a:lnTo>
                      <a:pt x="914" y="276"/>
                    </a:lnTo>
                    <a:lnTo>
                      <a:pt x="837" y="325"/>
                    </a:lnTo>
                    <a:lnTo>
                      <a:pt x="763" y="378"/>
                    </a:lnTo>
                    <a:lnTo>
                      <a:pt x="691" y="435"/>
                    </a:lnTo>
                    <a:lnTo>
                      <a:pt x="622" y="494"/>
                    </a:lnTo>
                    <a:lnTo>
                      <a:pt x="557" y="557"/>
                    </a:lnTo>
                    <a:lnTo>
                      <a:pt x="494" y="624"/>
                    </a:lnTo>
                    <a:lnTo>
                      <a:pt x="434" y="692"/>
                    </a:lnTo>
                    <a:lnTo>
                      <a:pt x="377" y="764"/>
                    </a:lnTo>
                    <a:lnTo>
                      <a:pt x="325" y="838"/>
                    </a:lnTo>
                    <a:lnTo>
                      <a:pt x="274" y="916"/>
                    </a:lnTo>
                    <a:lnTo>
                      <a:pt x="229" y="994"/>
                    </a:lnTo>
                    <a:lnTo>
                      <a:pt x="187" y="1076"/>
                    </a:lnTo>
                    <a:lnTo>
                      <a:pt x="149" y="1161"/>
                    </a:lnTo>
                    <a:lnTo>
                      <a:pt x="115" y="1247"/>
                    </a:lnTo>
                    <a:lnTo>
                      <a:pt x="85" y="1334"/>
                    </a:lnTo>
                    <a:lnTo>
                      <a:pt x="60" y="1425"/>
                    </a:lnTo>
                    <a:lnTo>
                      <a:pt x="38" y="1516"/>
                    </a:lnTo>
                    <a:lnTo>
                      <a:pt x="22" y="1610"/>
                    </a:lnTo>
                    <a:lnTo>
                      <a:pt x="10" y="1705"/>
                    </a:lnTo>
                    <a:lnTo>
                      <a:pt x="2" y="1801"/>
                    </a:lnTo>
                    <a:lnTo>
                      <a:pt x="0" y="1898"/>
                    </a:lnTo>
                    <a:lnTo>
                      <a:pt x="2" y="1995"/>
                    </a:lnTo>
                    <a:lnTo>
                      <a:pt x="10" y="2092"/>
                    </a:lnTo>
                    <a:lnTo>
                      <a:pt x="22" y="2187"/>
                    </a:lnTo>
                    <a:lnTo>
                      <a:pt x="38" y="2279"/>
                    </a:lnTo>
                    <a:lnTo>
                      <a:pt x="60" y="2371"/>
                    </a:lnTo>
                    <a:lnTo>
                      <a:pt x="85" y="2461"/>
                    </a:lnTo>
                    <a:lnTo>
                      <a:pt x="115" y="2550"/>
                    </a:lnTo>
                    <a:lnTo>
                      <a:pt x="149" y="2636"/>
                    </a:lnTo>
                    <a:lnTo>
                      <a:pt x="187" y="2720"/>
                    </a:lnTo>
                    <a:lnTo>
                      <a:pt x="229" y="2801"/>
                    </a:lnTo>
                    <a:lnTo>
                      <a:pt x="274" y="2881"/>
                    </a:lnTo>
                    <a:lnTo>
                      <a:pt x="325" y="2957"/>
                    </a:lnTo>
                    <a:lnTo>
                      <a:pt x="377" y="3032"/>
                    </a:lnTo>
                    <a:lnTo>
                      <a:pt x="434" y="3103"/>
                    </a:lnTo>
                    <a:lnTo>
                      <a:pt x="494" y="3173"/>
                    </a:lnTo>
                    <a:lnTo>
                      <a:pt x="557" y="3238"/>
                    </a:lnTo>
                    <a:lnTo>
                      <a:pt x="622" y="3302"/>
                    </a:lnTo>
                    <a:lnTo>
                      <a:pt x="691" y="3362"/>
                    </a:lnTo>
                    <a:lnTo>
                      <a:pt x="763" y="3417"/>
                    </a:lnTo>
                    <a:lnTo>
                      <a:pt x="837" y="3471"/>
                    </a:lnTo>
                    <a:lnTo>
                      <a:pt x="914" y="3520"/>
                    </a:lnTo>
                    <a:lnTo>
                      <a:pt x="994" y="3565"/>
                    </a:lnTo>
                    <a:lnTo>
                      <a:pt x="1075" y="3608"/>
                    </a:lnTo>
                    <a:lnTo>
                      <a:pt x="1159" y="3646"/>
                    </a:lnTo>
                    <a:lnTo>
                      <a:pt x="1245" y="3680"/>
                    </a:lnTo>
                    <a:lnTo>
                      <a:pt x="1334" y="3710"/>
                    </a:lnTo>
                    <a:lnTo>
                      <a:pt x="1423" y="3735"/>
                    </a:lnTo>
                    <a:lnTo>
                      <a:pt x="1516" y="3757"/>
                    </a:lnTo>
                    <a:lnTo>
                      <a:pt x="1608" y="3774"/>
                    </a:lnTo>
                    <a:lnTo>
                      <a:pt x="1703" y="3786"/>
                    </a:lnTo>
                    <a:lnTo>
                      <a:pt x="1799"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3" name="Text Box 61"/>
              <p:cNvSpPr/>
              <p:nvPr/>
            </p:nvSpPr>
            <p:spPr>
              <a:xfrm>
                <a:off x="2043360" y="5027400"/>
                <a:ext cx="1124640" cy="398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Обслуживание клиентов</a:t>
                </a:r>
                <a:endParaRPr b="0" lang="en-US" sz="1000" spc="-1" strike="noStrike">
                  <a:solidFill>
                    <a:srgbClr val="000000"/>
                  </a:solidFill>
                  <a:latin typeface="Arial"/>
                </a:endParaRPr>
              </a:p>
            </p:txBody>
          </p:sp>
        </p:grpSp>
        <p:grpSp>
          <p:nvGrpSpPr>
            <p:cNvPr id="514" name="Group 154"/>
            <p:cNvGrpSpPr/>
            <p:nvPr/>
          </p:nvGrpSpPr>
          <p:grpSpPr>
            <a:xfrm>
              <a:off x="3485160" y="4746240"/>
              <a:ext cx="1159200" cy="1035360"/>
              <a:chOff x="3485160" y="4746240"/>
              <a:chExt cx="1159200" cy="1035360"/>
            </a:xfrm>
          </p:grpSpPr>
          <p:sp>
            <p:nvSpPr>
              <p:cNvPr id="515" name="Freeform 63"/>
              <p:cNvSpPr/>
              <p:nvPr/>
            </p:nvSpPr>
            <p:spPr>
              <a:xfrm>
                <a:off x="3530880" y="4746240"/>
                <a:ext cx="1046880" cy="1035360"/>
              </a:xfrm>
              <a:custGeom>
                <a:avLst/>
                <a:gdLst>
                  <a:gd name="textAreaLeft" fmla="*/ 0 w 1046880"/>
                  <a:gd name="textAreaRight" fmla="*/ 1047240 w 1046880"/>
                  <a:gd name="textAreaTop" fmla="*/ 0 h 1035360"/>
                  <a:gd name="textAreaBottom" fmla="*/ 1035720 h 1035360"/>
                </a:gdLst>
                <a:ahLst/>
                <a:rect l="textAreaLeft" t="textAreaTop" r="textAreaRight" b="textAreaBottom"/>
                <a:pathLst>
                  <a:path w="3795" h="3795">
                    <a:moveTo>
                      <a:pt x="1897" y="3795"/>
                    </a:moveTo>
                    <a:lnTo>
                      <a:pt x="1995" y="3793"/>
                    </a:lnTo>
                    <a:lnTo>
                      <a:pt x="2091" y="3786"/>
                    </a:lnTo>
                    <a:lnTo>
                      <a:pt x="2186" y="3774"/>
                    </a:lnTo>
                    <a:lnTo>
                      <a:pt x="2279" y="3757"/>
                    </a:lnTo>
                    <a:lnTo>
                      <a:pt x="2371" y="3735"/>
                    </a:lnTo>
                    <a:lnTo>
                      <a:pt x="2461" y="3710"/>
                    </a:lnTo>
                    <a:lnTo>
                      <a:pt x="2549" y="3680"/>
                    </a:lnTo>
                    <a:lnTo>
                      <a:pt x="2635" y="3646"/>
                    </a:lnTo>
                    <a:lnTo>
                      <a:pt x="2719" y="3608"/>
                    </a:lnTo>
                    <a:lnTo>
                      <a:pt x="2801" y="3565"/>
                    </a:lnTo>
                    <a:lnTo>
                      <a:pt x="2880" y="3520"/>
                    </a:lnTo>
                    <a:lnTo>
                      <a:pt x="2958" y="3471"/>
                    </a:lnTo>
                    <a:lnTo>
                      <a:pt x="3032" y="3417"/>
                    </a:lnTo>
                    <a:lnTo>
                      <a:pt x="3104" y="3362"/>
                    </a:lnTo>
                    <a:lnTo>
                      <a:pt x="3172" y="3302"/>
                    </a:lnTo>
                    <a:lnTo>
                      <a:pt x="3238" y="3238"/>
                    </a:lnTo>
                    <a:lnTo>
                      <a:pt x="3301" y="3173"/>
                    </a:lnTo>
                    <a:lnTo>
                      <a:pt x="3361" y="3103"/>
                    </a:lnTo>
                    <a:lnTo>
                      <a:pt x="3418" y="3032"/>
                    </a:lnTo>
                    <a:lnTo>
                      <a:pt x="3470" y="2957"/>
                    </a:lnTo>
                    <a:lnTo>
                      <a:pt x="3520" y="2881"/>
                    </a:lnTo>
                    <a:lnTo>
                      <a:pt x="3566" y="2801"/>
                    </a:lnTo>
                    <a:lnTo>
                      <a:pt x="3607" y="2720"/>
                    </a:lnTo>
                    <a:lnTo>
                      <a:pt x="3645" y="2636"/>
                    </a:lnTo>
                    <a:lnTo>
                      <a:pt x="3679" y="2550"/>
                    </a:lnTo>
                    <a:lnTo>
                      <a:pt x="3710" y="2461"/>
                    </a:lnTo>
                    <a:lnTo>
                      <a:pt x="3735" y="2371"/>
                    </a:lnTo>
                    <a:lnTo>
                      <a:pt x="3756" y="2279"/>
                    </a:lnTo>
                    <a:lnTo>
                      <a:pt x="3773" y="2187"/>
                    </a:lnTo>
                    <a:lnTo>
                      <a:pt x="3785" y="2092"/>
                    </a:lnTo>
                    <a:lnTo>
                      <a:pt x="3792" y="1995"/>
                    </a:lnTo>
                    <a:lnTo>
                      <a:pt x="3795" y="1898"/>
                    </a:lnTo>
                    <a:lnTo>
                      <a:pt x="3792" y="1801"/>
                    </a:lnTo>
                    <a:lnTo>
                      <a:pt x="3785" y="1705"/>
                    </a:lnTo>
                    <a:lnTo>
                      <a:pt x="3773" y="1610"/>
                    </a:lnTo>
                    <a:lnTo>
                      <a:pt x="3756" y="1516"/>
                    </a:lnTo>
                    <a:lnTo>
                      <a:pt x="3735" y="1425"/>
                    </a:lnTo>
                    <a:lnTo>
                      <a:pt x="3710" y="1334"/>
                    </a:lnTo>
                    <a:lnTo>
                      <a:pt x="3679" y="1247"/>
                    </a:lnTo>
                    <a:lnTo>
                      <a:pt x="3645" y="1161"/>
                    </a:lnTo>
                    <a:lnTo>
                      <a:pt x="3607" y="1076"/>
                    </a:lnTo>
                    <a:lnTo>
                      <a:pt x="3566" y="994"/>
                    </a:lnTo>
                    <a:lnTo>
                      <a:pt x="3520" y="916"/>
                    </a:lnTo>
                    <a:lnTo>
                      <a:pt x="3470" y="838"/>
                    </a:lnTo>
                    <a:lnTo>
                      <a:pt x="3418" y="764"/>
                    </a:lnTo>
                    <a:lnTo>
                      <a:pt x="3361" y="692"/>
                    </a:lnTo>
                    <a:lnTo>
                      <a:pt x="3301" y="624"/>
                    </a:lnTo>
                    <a:lnTo>
                      <a:pt x="3238" y="557"/>
                    </a:lnTo>
                    <a:lnTo>
                      <a:pt x="3172" y="494"/>
                    </a:lnTo>
                    <a:lnTo>
                      <a:pt x="3104" y="435"/>
                    </a:lnTo>
                    <a:lnTo>
                      <a:pt x="3032" y="378"/>
                    </a:lnTo>
                    <a:lnTo>
                      <a:pt x="2958" y="325"/>
                    </a:lnTo>
                    <a:lnTo>
                      <a:pt x="2880" y="276"/>
                    </a:lnTo>
                    <a:lnTo>
                      <a:pt x="2801" y="230"/>
                    </a:lnTo>
                    <a:lnTo>
                      <a:pt x="2719" y="188"/>
                    </a:lnTo>
                    <a:lnTo>
                      <a:pt x="2635" y="149"/>
                    </a:lnTo>
                    <a:lnTo>
                      <a:pt x="2549" y="116"/>
                    </a:lnTo>
                    <a:lnTo>
                      <a:pt x="2461" y="86"/>
                    </a:lnTo>
                    <a:lnTo>
                      <a:pt x="2371" y="60"/>
                    </a:lnTo>
                    <a:lnTo>
                      <a:pt x="2279" y="39"/>
                    </a:lnTo>
                    <a:lnTo>
                      <a:pt x="2186" y="22"/>
                    </a:lnTo>
                    <a:lnTo>
                      <a:pt x="2091" y="10"/>
                    </a:lnTo>
                    <a:lnTo>
                      <a:pt x="1995" y="2"/>
                    </a:lnTo>
                    <a:lnTo>
                      <a:pt x="1897" y="0"/>
                    </a:lnTo>
                    <a:lnTo>
                      <a:pt x="1800" y="2"/>
                    </a:lnTo>
                    <a:lnTo>
                      <a:pt x="1704" y="10"/>
                    </a:lnTo>
                    <a:lnTo>
                      <a:pt x="1610" y="22"/>
                    </a:lnTo>
                    <a:lnTo>
                      <a:pt x="1516" y="39"/>
                    </a:lnTo>
                    <a:lnTo>
                      <a:pt x="1424" y="60"/>
                    </a:lnTo>
                    <a:lnTo>
                      <a:pt x="1335" y="86"/>
                    </a:lnTo>
                    <a:lnTo>
                      <a:pt x="1247" y="116"/>
                    </a:lnTo>
                    <a:lnTo>
                      <a:pt x="1161" y="149"/>
                    </a:lnTo>
                    <a:lnTo>
                      <a:pt x="1077" y="188"/>
                    </a:lnTo>
                    <a:lnTo>
                      <a:pt x="995" y="230"/>
                    </a:lnTo>
                    <a:lnTo>
                      <a:pt x="915" y="276"/>
                    </a:lnTo>
                    <a:lnTo>
                      <a:pt x="838" y="325"/>
                    </a:lnTo>
                    <a:lnTo>
                      <a:pt x="764" y="378"/>
                    </a:lnTo>
                    <a:lnTo>
                      <a:pt x="692" y="435"/>
                    </a:lnTo>
                    <a:lnTo>
                      <a:pt x="623" y="494"/>
                    </a:lnTo>
                    <a:lnTo>
                      <a:pt x="557" y="557"/>
                    </a:lnTo>
                    <a:lnTo>
                      <a:pt x="495" y="624"/>
                    </a:lnTo>
                    <a:lnTo>
                      <a:pt x="435" y="692"/>
                    </a:lnTo>
                    <a:lnTo>
                      <a:pt x="378" y="764"/>
                    </a:lnTo>
                    <a:lnTo>
                      <a:pt x="325" y="838"/>
                    </a:lnTo>
                    <a:lnTo>
                      <a:pt x="276" y="916"/>
                    </a:lnTo>
                    <a:lnTo>
                      <a:pt x="230" y="994"/>
                    </a:lnTo>
                    <a:lnTo>
                      <a:pt x="187" y="1076"/>
                    </a:lnTo>
                    <a:lnTo>
                      <a:pt x="150" y="1161"/>
                    </a:lnTo>
                    <a:lnTo>
                      <a:pt x="115" y="1247"/>
                    </a:lnTo>
                    <a:lnTo>
                      <a:pt x="86" y="1334"/>
                    </a:lnTo>
                    <a:lnTo>
                      <a:pt x="60" y="1425"/>
                    </a:lnTo>
                    <a:lnTo>
                      <a:pt x="39" y="1516"/>
                    </a:lnTo>
                    <a:lnTo>
                      <a:pt x="23" y="1610"/>
                    </a:lnTo>
                    <a:lnTo>
                      <a:pt x="10" y="1705"/>
                    </a:lnTo>
                    <a:lnTo>
                      <a:pt x="3" y="1801"/>
                    </a:lnTo>
                    <a:lnTo>
                      <a:pt x="0" y="1898"/>
                    </a:lnTo>
                    <a:lnTo>
                      <a:pt x="3" y="1995"/>
                    </a:lnTo>
                    <a:lnTo>
                      <a:pt x="10" y="2092"/>
                    </a:lnTo>
                    <a:lnTo>
                      <a:pt x="23" y="2187"/>
                    </a:lnTo>
                    <a:lnTo>
                      <a:pt x="39" y="2279"/>
                    </a:lnTo>
                    <a:lnTo>
                      <a:pt x="60" y="2371"/>
                    </a:lnTo>
                    <a:lnTo>
                      <a:pt x="86" y="2461"/>
                    </a:lnTo>
                    <a:lnTo>
                      <a:pt x="115" y="2550"/>
                    </a:lnTo>
                    <a:lnTo>
                      <a:pt x="150" y="2636"/>
                    </a:lnTo>
                    <a:lnTo>
                      <a:pt x="187" y="2720"/>
                    </a:lnTo>
                    <a:lnTo>
                      <a:pt x="230" y="2801"/>
                    </a:lnTo>
                    <a:lnTo>
                      <a:pt x="276" y="2881"/>
                    </a:lnTo>
                    <a:lnTo>
                      <a:pt x="325" y="2957"/>
                    </a:lnTo>
                    <a:lnTo>
                      <a:pt x="378" y="3032"/>
                    </a:lnTo>
                    <a:lnTo>
                      <a:pt x="435" y="3103"/>
                    </a:lnTo>
                    <a:lnTo>
                      <a:pt x="495" y="3173"/>
                    </a:lnTo>
                    <a:lnTo>
                      <a:pt x="557" y="3238"/>
                    </a:lnTo>
                    <a:lnTo>
                      <a:pt x="623" y="3302"/>
                    </a:lnTo>
                    <a:lnTo>
                      <a:pt x="692" y="3362"/>
                    </a:lnTo>
                    <a:lnTo>
                      <a:pt x="764" y="3417"/>
                    </a:lnTo>
                    <a:lnTo>
                      <a:pt x="838" y="3471"/>
                    </a:lnTo>
                    <a:lnTo>
                      <a:pt x="915" y="3520"/>
                    </a:lnTo>
                    <a:lnTo>
                      <a:pt x="995" y="3565"/>
                    </a:lnTo>
                    <a:lnTo>
                      <a:pt x="1077" y="3608"/>
                    </a:lnTo>
                    <a:lnTo>
                      <a:pt x="1161" y="3646"/>
                    </a:lnTo>
                    <a:lnTo>
                      <a:pt x="1247" y="3680"/>
                    </a:lnTo>
                    <a:lnTo>
                      <a:pt x="1335" y="3710"/>
                    </a:lnTo>
                    <a:lnTo>
                      <a:pt x="1424" y="3735"/>
                    </a:lnTo>
                    <a:lnTo>
                      <a:pt x="1516" y="3757"/>
                    </a:lnTo>
                    <a:lnTo>
                      <a:pt x="1610" y="3774"/>
                    </a:lnTo>
                    <a:lnTo>
                      <a:pt x="1704" y="3786"/>
                    </a:lnTo>
                    <a:lnTo>
                      <a:pt x="1800"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6" name="Text Box 64"/>
              <p:cNvSpPr/>
              <p:nvPr/>
            </p:nvSpPr>
            <p:spPr>
              <a:xfrm>
                <a:off x="3485160" y="4967640"/>
                <a:ext cx="1159200" cy="5054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ffffff"/>
                    </a:solidFill>
                    <a:latin typeface="Arial"/>
                  </a:rPr>
                  <a:t>Помещения и инфраструктура, безопасность</a:t>
                </a:r>
                <a:endParaRPr b="0" lang="en-US" sz="900" spc="-1" strike="noStrike">
                  <a:solidFill>
                    <a:srgbClr val="000000"/>
                  </a:solidFill>
                  <a:latin typeface="Arial"/>
                </a:endParaRPr>
              </a:p>
            </p:txBody>
          </p:sp>
        </p:grpSp>
      </p:gr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Footer Placeholder 2"/>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124" name="Slide Number Placeholder 4"/>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CCE650-8A6E-4E17-A551-3D4363BF703E}"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25" name="Text Box 62"/>
          <p:cNvSpPr/>
          <p:nvPr/>
        </p:nvSpPr>
        <p:spPr>
          <a:xfrm>
            <a:off x="990720" y="411120"/>
            <a:ext cx="71625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Система управления качеством</a:t>
            </a:r>
            <a:endParaRPr b="0" lang="en-US" sz="3200" spc="-1" strike="noStrike">
              <a:solidFill>
                <a:srgbClr val="000000"/>
              </a:solidFill>
              <a:latin typeface="Arial"/>
            </a:endParaRPr>
          </a:p>
        </p:txBody>
      </p:sp>
      <p:grpSp>
        <p:nvGrpSpPr>
          <p:cNvPr id="126" name="Group 99"/>
          <p:cNvGrpSpPr/>
          <p:nvPr/>
        </p:nvGrpSpPr>
        <p:grpSpPr>
          <a:xfrm>
            <a:off x="1486080" y="1066680"/>
            <a:ext cx="6171840" cy="5181480"/>
            <a:chOff x="1486080" y="1066680"/>
            <a:chExt cx="6171840" cy="5181480"/>
          </a:xfrm>
        </p:grpSpPr>
        <p:sp>
          <p:nvSpPr>
            <p:cNvPr id="127" name="AutoShape 4"/>
            <p:cNvSpPr/>
            <p:nvPr/>
          </p:nvSpPr>
          <p:spPr>
            <a:xfrm>
              <a:off x="1486080" y="1066680"/>
              <a:ext cx="6171840" cy="5181480"/>
            </a:xfrm>
            <a:prstGeom prst="roundRect">
              <a:avLst>
                <a:gd name="adj" fmla="val 16667"/>
              </a:avLst>
            </a:pr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Freeform 9"/>
            <p:cNvSpPr/>
            <p:nvPr/>
          </p:nvSpPr>
          <p:spPr>
            <a:xfrm>
              <a:off x="4159800" y="3794040"/>
              <a:ext cx="143640" cy="69840"/>
            </a:xfrm>
            <a:custGeom>
              <a:avLst/>
              <a:gdLst>
                <a:gd name="textAreaLeft" fmla="*/ 0 w 143640"/>
                <a:gd name="textAreaRight" fmla="*/ 144000 w 143640"/>
                <a:gd name="textAreaTop" fmla="*/ 0 h 69840"/>
                <a:gd name="textAreaBottom" fmla="*/ 70200 h 69840"/>
              </a:gdLst>
              <a:ahLst/>
              <a:rect l="textAreaLeft" t="textAreaTop" r="textAreaRight" b="textAreaBottom"/>
              <a:pathLst>
                <a:path w="392" h="230">
                  <a:moveTo>
                    <a:pt x="377" y="0"/>
                  </a:moveTo>
                  <a:lnTo>
                    <a:pt x="378" y="21"/>
                  </a:lnTo>
                  <a:lnTo>
                    <a:pt x="378" y="40"/>
                  </a:lnTo>
                  <a:lnTo>
                    <a:pt x="380" y="58"/>
                  </a:lnTo>
                  <a:lnTo>
                    <a:pt x="381" y="75"/>
                  </a:lnTo>
                  <a:lnTo>
                    <a:pt x="386" y="104"/>
                  </a:lnTo>
                  <a:lnTo>
                    <a:pt x="390" y="130"/>
                  </a:lnTo>
                  <a:lnTo>
                    <a:pt x="392" y="151"/>
                  </a:lnTo>
                  <a:lnTo>
                    <a:pt x="392" y="169"/>
                  </a:lnTo>
                  <a:lnTo>
                    <a:pt x="392" y="175"/>
                  </a:lnTo>
                  <a:lnTo>
                    <a:pt x="390" y="183"/>
                  </a:lnTo>
                  <a:lnTo>
                    <a:pt x="387" y="188"/>
                  </a:lnTo>
                  <a:lnTo>
                    <a:pt x="382" y="194"/>
                  </a:lnTo>
                  <a:lnTo>
                    <a:pt x="377" y="198"/>
                  </a:lnTo>
                  <a:lnTo>
                    <a:pt x="369" y="203"/>
                  </a:lnTo>
                  <a:lnTo>
                    <a:pt x="361" y="206"/>
                  </a:lnTo>
                  <a:lnTo>
                    <a:pt x="351" y="209"/>
                  </a:lnTo>
                  <a:lnTo>
                    <a:pt x="338" y="211"/>
                  </a:lnTo>
                  <a:lnTo>
                    <a:pt x="324" y="213"/>
                  </a:lnTo>
                  <a:lnTo>
                    <a:pt x="307" y="216"/>
                  </a:lnTo>
                  <a:lnTo>
                    <a:pt x="289" y="218"/>
                  </a:lnTo>
                  <a:lnTo>
                    <a:pt x="188" y="224"/>
                  </a:lnTo>
                  <a:lnTo>
                    <a:pt x="41" y="230"/>
                  </a:lnTo>
                  <a:lnTo>
                    <a:pt x="35" y="223"/>
                  </a:lnTo>
                  <a:lnTo>
                    <a:pt x="21" y="202"/>
                  </a:lnTo>
                  <a:lnTo>
                    <a:pt x="13" y="186"/>
                  </a:lnTo>
                  <a:lnTo>
                    <a:pt x="6" y="169"/>
                  </a:lnTo>
                  <a:lnTo>
                    <a:pt x="3" y="159"/>
                  </a:lnTo>
                  <a:lnTo>
                    <a:pt x="1" y="148"/>
                  </a:lnTo>
                  <a:lnTo>
                    <a:pt x="0" y="137"/>
                  </a:lnTo>
                  <a:lnTo>
                    <a:pt x="0" y="125"/>
                  </a:lnTo>
                  <a:lnTo>
                    <a:pt x="0" y="114"/>
                  </a:lnTo>
                  <a:lnTo>
                    <a:pt x="1" y="103"/>
                  </a:lnTo>
                  <a:lnTo>
                    <a:pt x="2" y="94"/>
                  </a:lnTo>
                  <a:lnTo>
                    <a:pt x="3" y="85"/>
                  </a:lnTo>
                  <a:lnTo>
                    <a:pt x="5" y="77"/>
                  </a:lnTo>
                  <a:lnTo>
                    <a:pt x="9" y="69"/>
                  </a:lnTo>
                  <a:lnTo>
                    <a:pt x="12" y="62"/>
                  </a:lnTo>
                  <a:lnTo>
                    <a:pt x="15" y="54"/>
                  </a:lnTo>
                  <a:lnTo>
                    <a:pt x="24" y="41"/>
                  </a:lnTo>
                  <a:lnTo>
                    <a:pt x="35" y="28"/>
                  </a:lnTo>
                  <a:lnTo>
                    <a:pt x="48" y="14"/>
                  </a:lnTo>
                  <a:lnTo>
                    <a:pt x="63" y="0"/>
                  </a:lnTo>
                  <a:lnTo>
                    <a:pt x="377" y="0"/>
                  </a:lnTo>
                  <a:close/>
                </a:path>
              </a:pathLst>
            </a:custGeom>
            <a:solidFill>
              <a:srgbClr val="dededd"/>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29" name="Freeform 10"/>
            <p:cNvSpPr/>
            <p:nvPr/>
          </p:nvSpPr>
          <p:spPr>
            <a:xfrm>
              <a:off x="4122000" y="3786120"/>
              <a:ext cx="383760" cy="372960"/>
            </a:xfrm>
            <a:custGeom>
              <a:avLst/>
              <a:gdLst>
                <a:gd name="textAreaLeft" fmla="*/ 0 w 383760"/>
                <a:gd name="textAreaRight" fmla="*/ 384120 w 383760"/>
                <a:gd name="textAreaTop" fmla="*/ 0 h 372960"/>
                <a:gd name="textAreaBottom" fmla="*/ 373320 h 372960"/>
              </a:gdLst>
              <a:ahLst/>
              <a:rect l="textAreaLeft" t="textAreaTop" r="textAreaRight" b="textAreaBottom"/>
              <a:pathLst>
                <a:path w="1056" h="1238">
                  <a:moveTo>
                    <a:pt x="797" y="22"/>
                  </a:moveTo>
                  <a:lnTo>
                    <a:pt x="793" y="28"/>
                  </a:lnTo>
                  <a:lnTo>
                    <a:pt x="783" y="48"/>
                  </a:lnTo>
                  <a:lnTo>
                    <a:pt x="777" y="61"/>
                  </a:lnTo>
                  <a:lnTo>
                    <a:pt x="773" y="75"/>
                  </a:lnTo>
                  <a:lnTo>
                    <a:pt x="769" y="92"/>
                  </a:lnTo>
                  <a:lnTo>
                    <a:pt x="765" y="108"/>
                  </a:lnTo>
                  <a:lnTo>
                    <a:pt x="764" y="117"/>
                  </a:lnTo>
                  <a:lnTo>
                    <a:pt x="764" y="124"/>
                  </a:lnTo>
                  <a:lnTo>
                    <a:pt x="765" y="133"/>
                  </a:lnTo>
                  <a:lnTo>
                    <a:pt x="766" y="142"/>
                  </a:lnTo>
                  <a:lnTo>
                    <a:pt x="769" y="149"/>
                  </a:lnTo>
                  <a:lnTo>
                    <a:pt x="771" y="157"/>
                  </a:lnTo>
                  <a:lnTo>
                    <a:pt x="774" y="165"/>
                  </a:lnTo>
                  <a:lnTo>
                    <a:pt x="779" y="172"/>
                  </a:lnTo>
                  <a:lnTo>
                    <a:pt x="785" y="179"/>
                  </a:lnTo>
                  <a:lnTo>
                    <a:pt x="791" y="185"/>
                  </a:lnTo>
                  <a:lnTo>
                    <a:pt x="800" y="191"/>
                  </a:lnTo>
                  <a:lnTo>
                    <a:pt x="809" y="196"/>
                  </a:lnTo>
                  <a:lnTo>
                    <a:pt x="820" y="201"/>
                  </a:lnTo>
                  <a:lnTo>
                    <a:pt x="832" y="205"/>
                  </a:lnTo>
                  <a:lnTo>
                    <a:pt x="845" y="208"/>
                  </a:lnTo>
                  <a:lnTo>
                    <a:pt x="860" y="210"/>
                  </a:lnTo>
                  <a:lnTo>
                    <a:pt x="867" y="207"/>
                  </a:lnTo>
                  <a:lnTo>
                    <a:pt x="886" y="200"/>
                  </a:lnTo>
                  <a:lnTo>
                    <a:pt x="898" y="195"/>
                  </a:lnTo>
                  <a:lnTo>
                    <a:pt x="911" y="191"/>
                  </a:lnTo>
                  <a:lnTo>
                    <a:pt x="927" y="186"/>
                  </a:lnTo>
                  <a:lnTo>
                    <a:pt x="941" y="184"/>
                  </a:lnTo>
                  <a:lnTo>
                    <a:pt x="956" y="183"/>
                  </a:lnTo>
                  <a:lnTo>
                    <a:pt x="969" y="184"/>
                  </a:lnTo>
                  <a:lnTo>
                    <a:pt x="976" y="185"/>
                  </a:lnTo>
                  <a:lnTo>
                    <a:pt x="982" y="186"/>
                  </a:lnTo>
                  <a:lnTo>
                    <a:pt x="988" y="190"/>
                  </a:lnTo>
                  <a:lnTo>
                    <a:pt x="993" y="193"/>
                  </a:lnTo>
                  <a:lnTo>
                    <a:pt x="997" y="196"/>
                  </a:lnTo>
                  <a:lnTo>
                    <a:pt x="1001" y="202"/>
                  </a:lnTo>
                  <a:lnTo>
                    <a:pt x="1004" y="207"/>
                  </a:lnTo>
                  <a:lnTo>
                    <a:pt x="1006" y="215"/>
                  </a:lnTo>
                  <a:lnTo>
                    <a:pt x="1008" y="222"/>
                  </a:lnTo>
                  <a:lnTo>
                    <a:pt x="1008" y="231"/>
                  </a:lnTo>
                  <a:lnTo>
                    <a:pt x="1008" y="241"/>
                  </a:lnTo>
                  <a:lnTo>
                    <a:pt x="1007" y="252"/>
                  </a:lnTo>
                  <a:lnTo>
                    <a:pt x="1016" y="256"/>
                  </a:lnTo>
                  <a:lnTo>
                    <a:pt x="1024" y="262"/>
                  </a:lnTo>
                  <a:lnTo>
                    <a:pt x="1029" y="267"/>
                  </a:lnTo>
                  <a:lnTo>
                    <a:pt x="1034" y="273"/>
                  </a:lnTo>
                  <a:lnTo>
                    <a:pt x="1038" y="279"/>
                  </a:lnTo>
                  <a:lnTo>
                    <a:pt x="1040" y="286"/>
                  </a:lnTo>
                  <a:lnTo>
                    <a:pt x="1041" y="292"/>
                  </a:lnTo>
                  <a:lnTo>
                    <a:pt x="1041" y="300"/>
                  </a:lnTo>
                  <a:lnTo>
                    <a:pt x="1040" y="307"/>
                  </a:lnTo>
                  <a:lnTo>
                    <a:pt x="1039" y="315"/>
                  </a:lnTo>
                  <a:lnTo>
                    <a:pt x="1036" y="323"/>
                  </a:lnTo>
                  <a:lnTo>
                    <a:pt x="1033" y="330"/>
                  </a:lnTo>
                  <a:lnTo>
                    <a:pt x="1025" y="347"/>
                  </a:lnTo>
                  <a:lnTo>
                    <a:pt x="1015" y="362"/>
                  </a:lnTo>
                  <a:lnTo>
                    <a:pt x="1003" y="378"/>
                  </a:lnTo>
                  <a:lnTo>
                    <a:pt x="991" y="392"/>
                  </a:lnTo>
                  <a:lnTo>
                    <a:pt x="980" y="406"/>
                  </a:lnTo>
                  <a:lnTo>
                    <a:pt x="968" y="418"/>
                  </a:lnTo>
                  <a:lnTo>
                    <a:pt x="951" y="435"/>
                  </a:lnTo>
                  <a:lnTo>
                    <a:pt x="944" y="442"/>
                  </a:lnTo>
                  <a:lnTo>
                    <a:pt x="949" y="447"/>
                  </a:lnTo>
                  <a:lnTo>
                    <a:pt x="966" y="462"/>
                  </a:lnTo>
                  <a:lnTo>
                    <a:pt x="977" y="473"/>
                  </a:lnTo>
                  <a:lnTo>
                    <a:pt x="988" y="486"/>
                  </a:lnTo>
                  <a:lnTo>
                    <a:pt x="1000" y="501"/>
                  </a:lnTo>
                  <a:lnTo>
                    <a:pt x="1012" y="517"/>
                  </a:lnTo>
                  <a:lnTo>
                    <a:pt x="1024" y="534"/>
                  </a:lnTo>
                  <a:lnTo>
                    <a:pt x="1033" y="553"/>
                  </a:lnTo>
                  <a:lnTo>
                    <a:pt x="1043" y="572"/>
                  </a:lnTo>
                  <a:lnTo>
                    <a:pt x="1050" y="592"/>
                  </a:lnTo>
                  <a:lnTo>
                    <a:pt x="1053" y="602"/>
                  </a:lnTo>
                  <a:lnTo>
                    <a:pt x="1054" y="612"/>
                  </a:lnTo>
                  <a:lnTo>
                    <a:pt x="1056" y="621"/>
                  </a:lnTo>
                  <a:lnTo>
                    <a:pt x="1056" y="632"/>
                  </a:lnTo>
                  <a:lnTo>
                    <a:pt x="1056" y="642"/>
                  </a:lnTo>
                  <a:lnTo>
                    <a:pt x="1054" y="652"/>
                  </a:lnTo>
                  <a:lnTo>
                    <a:pt x="1052" y="662"/>
                  </a:lnTo>
                  <a:lnTo>
                    <a:pt x="1049" y="671"/>
                  </a:lnTo>
                  <a:lnTo>
                    <a:pt x="1049" y="683"/>
                  </a:lnTo>
                  <a:lnTo>
                    <a:pt x="1046" y="714"/>
                  </a:lnTo>
                  <a:lnTo>
                    <a:pt x="1043" y="734"/>
                  </a:lnTo>
                  <a:lnTo>
                    <a:pt x="1040" y="755"/>
                  </a:lnTo>
                  <a:lnTo>
                    <a:pt x="1034" y="777"/>
                  </a:lnTo>
                  <a:lnTo>
                    <a:pt x="1028" y="800"/>
                  </a:lnTo>
                  <a:lnTo>
                    <a:pt x="1024" y="812"/>
                  </a:lnTo>
                  <a:lnTo>
                    <a:pt x="1019" y="823"/>
                  </a:lnTo>
                  <a:lnTo>
                    <a:pt x="1014" y="833"/>
                  </a:lnTo>
                  <a:lnTo>
                    <a:pt x="1007" y="843"/>
                  </a:lnTo>
                  <a:lnTo>
                    <a:pt x="1001" y="852"/>
                  </a:lnTo>
                  <a:lnTo>
                    <a:pt x="994" y="861"/>
                  </a:lnTo>
                  <a:lnTo>
                    <a:pt x="987" y="869"/>
                  </a:lnTo>
                  <a:lnTo>
                    <a:pt x="978" y="875"/>
                  </a:lnTo>
                  <a:lnTo>
                    <a:pt x="969" y="882"/>
                  </a:lnTo>
                  <a:lnTo>
                    <a:pt x="958" y="886"/>
                  </a:lnTo>
                  <a:lnTo>
                    <a:pt x="947" y="889"/>
                  </a:lnTo>
                  <a:lnTo>
                    <a:pt x="936" y="891"/>
                  </a:lnTo>
                  <a:lnTo>
                    <a:pt x="923" y="892"/>
                  </a:lnTo>
                  <a:lnTo>
                    <a:pt x="910" y="889"/>
                  </a:lnTo>
                  <a:lnTo>
                    <a:pt x="896" y="886"/>
                  </a:lnTo>
                  <a:lnTo>
                    <a:pt x="881" y="882"/>
                  </a:lnTo>
                  <a:lnTo>
                    <a:pt x="870" y="891"/>
                  </a:lnTo>
                  <a:lnTo>
                    <a:pt x="859" y="897"/>
                  </a:lnTo>
                  <a:lnTo>
                    <a:pt x="849" y="901"/>
                  </a:lnTo>
                  <a:lnTo>
                    <a:pt x="839" y="904"/>
                  </a:lnTo>
                  <a:lnTo>
                    <a:pt x="832" y="905"/>
                  </a:lnTo>
                  <a:lnTo>
                    <a:pt x="823" y="905"/>
                  </a:lnTo>
                  <a:lnTo>
                    <a:pt x="817" y="903"/>
                  </a:lnTo>
                  <a:lnTo>
                    <a:pt x="809" y="899"/>
                  </a:lnTo>
                  <a:lnTo>
                    <a:pt x="802" y="895"/>
                  </a:lnTo>
                  <a:lnTo>
                    <a:pt x="796" y="891"/>
                  </a:lnTo>
                  <a:lnTo>
                    <a:pt x="790" y="884"/>
                  </a:lnTo>
                  <a:lnTo>
                    <a:pt x="785" y="879"/>
                  </a:lnTo>
                  <a:lnTo>
                    <a:pt x="774" y="864"/>
                  </a:lnTo>
                  <a:lnTo>
                    <a:pt x="763" y="850"/>
                  </a:lnTo>
                  <a:lnTo>
                    <a:pt x="752" y="837"/>
                  </a:lnTo>
                  <a:lnTo>
                    <a:pt x="740" y="826"/>
                  </a:lnTo>
                  <a:lnTo>
                    <a:pt x="734" y="822"/>
                  </a:lnTo>
                  <a:lnTo>
                    <a:pt x="727" y="820"/>
                  </a:lnTo>
                  <a:lnTo>
                    <a:pt x="721" y="818"/>
                  </a:lnTo>
                  <a:lnTo>
                    <a:pt x="713" y="816"/>
                  </a:lnTo>
                  <a:lnTo>
                    <a:pt x="704" y="818"/>
                  </a:lnTo>
                  <a:lnTo>
                    <a:pt x="696" y="821"/>
                  </a:lnTo>
                  <a:lnTo>
                    <a:pt x="687" y="825"/>
                  </a:lnTo>
                  <a:lnTo>
                    <a:pt x="677" y="832"/>
                  </a:lnTo>
                  <a:lnTo>
                    <a:pt x="666" y="840"/>
                  </a:lnTo>
                  <a:lnTo>
                    <a:pt x="655" y="851"/>
                  </a:lnTo>
                  <a:lnTo>
                    <a:pt x="642" y="866"/>
                  </a:lnTo>
                  <a:lnTo>
                    <a:pt x="629" y="882"/>
                  </a:lnTo>
                  <a:lnTo>
                    <a:pt x="623" y="882"/>
                  </a:lnTo>
                  <a:lnTo>
                    <a:pt x="605" y="886"/>
                  </a:lnTo>
                  <a:lnTo>
                    <a:pt x="594" y="889"/>
                  </a:lnTo>
                  <a:lnTo>
                    <a:pt x="583" y="895"/>
                  </a:lnTo>
                  <a:lnTo>
                    <a:pt x="578" y="898"/>
                  </a:lnTo>
                  <a:lnTo>
                    <a:pt x="573" y="903"/>
                  </a:lnTo>
                  <a:lnTo>
                    <a:pt x="568" y="908"/>
                  </a:lnTo>
                  <a:lnTo>
                    <a:pt x="564" y="913"/>
                  </a:lnTo>
                  <a:lnTo>
                    <a:pt x="559" y="920"/>
                  </a:lnTo>
                  <a:lnTo>
                    <a:pt x="556" y="927"/>
                  </a:lnTo>
                  <a:lnTo>
                    <a:pt x="553" y="934"/>
                  </a:lnTo>
                  <a:lnTo>
                    <a:pt x="551" y="943"/>
                  </a:lnTo>
                  <a:lnTo>
                    <a:pt x="548" y="953"/>
                  </a:lnTo>
                  <a:lnTo>
                    <a:pt x="547" y="964"/>
                  </a:lnTo>
                  <a:lnTo>
                    <a:pt x="548" y="976"/>
                  </a:lnTo>
                  <a:lnTo>
                    <a:pt x="549" y="988"/>
                  </a:lnTo>
                  <a:lnTo>
                    <a:pt x="552" y="1002"/>
                  </a:lnTo>
                  <a:lnTo>
                    <a:pt x="555" y="1017"/>
                  </a:lnTo>
                  <a:lnTo>
                    <a:pt x="560" y="1033"/>
                  </a:lnTo>
                  <a:lnTo>
                    <a:pt x="567" y="1051"/>
                  </a:lnTo>
                  <a:lnTo>
                    <a:pt x="575" y="1069"/>
                  </a:lnTo>
                  <a:lnTo>
                    <a:pt x="584" y="1089"/>
                  </a:lnTo>
                  <a:lnTo>
                    <a:pt x="595" y="1111"/>
                  </a:lnTo>
                  <a:lnTo>
                    <a:pt x="608" y="1134"/>
                  </a:lnTo>
                  <a:lnTo>
                    <a:pt x="604" y="1130"/>
                  </a:lnTo>
                  <a:lnTo>
                    <a:pt x="593" y="1124"/>
                  </a:lnTo>
                  <a:lnTo>
                    <a:pt x="585" y="1119"/>
                  </a:lnTo>
                  <a:lnTo>
                    <a:pt x="576" y="1117"/>
                  </a:lnTo>
                  <a:lnTo>
                    <a:pt x="565" y="1115"/>
                  </a:lnTo>
                  <a:lnTo>
                    <a:pt x="553" y="1115"/>
                  </a:lnTo>
                  <a:lnTo>
                    <a:pt x="546" y="1116"/>
                  </a:lnTo>
                  <a:lnTo>
                    <a:pt x="540" y="1117"/>
                  </a:lnTo>
                  <a:lnTo>
                    <a:pt x="532" y="1119"/>
                  </a:lnTo>
                  <a:lnTo>
                    <a:pt x="526" y="1123"/>
                  </a:lnTo>
                  <a:lnTo>
                    <a:pt x="518" y="1126"/>
                  </a:lnTo>
                  <a:lnTo>
                    <a:pt x="509" y="1130"/>
                  </a:lnTo>
                  <a:lnTo>
                    <a:pt x="502" y="1136"/>
                  </a:lnTo>
                  <a:lnTo>
                    <a:pt x="493" y="1142"/>
                  </a:lnTo>
                  <a:lnTo>
                    <a:pt x="484" y="1150"/>
                  </a:lnTo>
                  <a:lnTo>
                    <a:pt x="475" y="1159"/>
                  </a:lnTo>
                  <a:lnTo>
                    <a:pt x="467" y="1169"/>
                  </a:lnTo>
                  <a:lnTo>
                    <a:pt x="458" y="1179"/>
                  </a:lnTo>
                  <a:lnTo>
                    <a:pt x="448" y="1193"/>
                  </a:lnTo>
                  <a:lnTo>
                    <a:pt x="438" y="1207"/>
                  </a:lnTo>
                  <a:lnTo>
                    <a:pt x="429" y="1222"/>
                  </a:lnTo>
                  <a:lnTo>
                    <a:pt x="420" y="1238"/>
                  </a:lnTo>
                  <a:lnTo>
                    <a:pt x="400" y="1220"/>
                  </a:lnTo>
                  <a:lnTo>
                    <a:pt x="377" y="1197"/>
                  </a:lnTo>
                  <a:lnTo>
                    <a:pt x="354" y="1174"/>
                  </a:lnTo>
                  <a:lnTo>
                    <a:pt x="336" y="1154"/>
                  </a:lnTo>
                  <a:lnTo>
                    <a:pt x="329" y="1134"/>
                  </a:lnTo>
                  <a:lnTo>
                    <a:pt x="322" y="1113"/>
                  </a:lnTo>
                  <a:lnTo>
                    <a:pt x="313" y="1094"/>
                  </a:lnTo>
                  <a:lnTo>
                    <a:pt x="303" y="1076"/>
                  </a:lnTo>
                  <a:lnTo>
                    <a:pt x="292" y="1058"/>
                  </a:lnTo>
                  <a:lnTo>
                    <a:pt x="281" y="1042"/>
                  </a:lnTo>
                  <a:lnTo>
                    <a:pt x="269" y="1026"/>
                  </a:lnTo>
                  <a:lnTo>
                    <a:pt x="256" y="1010"/>
                  </a:lnTo>
                  <a:lnTo>
                    <a:pt x="229" y="981"/>
                  </a:lnTo>
                  <a:lnTo>
                    <a:pt x="202" y="953"/>
                  </a:lnTo>
                  <a:lnTo>
                    <a:pt x="172" y="925"/>
                  </a:lnTo>
                  <a:lnTo>
                    <a:pt x="144" y="897"/>
                  </a:lnTo>
                  <a:lnTo>
                    <a:pt x="116" y="870"/>
                  </a:lnTo>
                  <a:lnTo>
                    <a:pt x="90" y="840"/>
                  </a:lnTo>
                  <a:lnTo>
                    <a:pt x="77" y="825"/>
                  </a:lnTo>
                  <a:lnTo>
                    <a:pt x="65" y="810"/>
                  </a:lnTo>
                  <a:lnTo>
                    <a:pt x="54" y="794"/>
                  </a:lnTo>
                  <a:lnTo>
                    <a:pt x="44" y="777"/>
                  </a:lnTo>
                  <a:lnTo>
                    <a:pt x="34" y="760"/>
                  </a:lnTo>
                  <a:lnTo>
                    <a:pt x="25" y="741"/>
                  </a:lnTo>
                  <a:lnTo>
                    <a:pt x="18" y="722"/>
                  </a:lnTo>
                  <a:lnTo>
                    <a:pt x="11" y="701"/>
                  </a:lnTo>
                  <a:lnTo>
                    <a:pt x="7" y="680"/>
                  </a:lnTo>
                  <a:lnTo>
                    <a:pt x="2" y="657"/>
                  </a:lnTo>
                  <a:lnTo>
                    <a:pt x="0" y="634"/>
                  </a:lnTo>
                  <a:lnTo>
                    <a:pt x="0" y="609"/>
                  </a:lnTo>
                  <a:lnTo>
                    <a:pt x="0" y="594"/>
                  </a:lnTo>
                  <a:lnTo>
                    <a:pt x="2" y="580"/>
                  </a:lnTo>
                  <a:lnTo>
                    <a:pt x="5" y="566"/>
                  </a:lnTo>
                  <a:lnTo>
                    <a:pt x="9" y="554"/>
                  </a:lnTo>
                  <a:lnTo>
                    <a:pt x="13" y="542"/>
                  </a:lnTo>
                  <a:lnTo>
                    <a:pt x="19" y="530"/>
                  </a:lnTo>
                  <a:lnTo>
                    <a:pt x="24" y="519"/>
                  </a:lnTo>
                  <a:lnTo>
                    <a:pt x="32" y="509"/>
                  </a:lnTo>
                  <a:lnTo>
                    <a:pt x="46" y="489"/>
                  </a:lnTo>
                  <a:lnTo>
                    <a:pt x="62" y="472"/>
                  </a:lnTo>
                  <a:lnTo>
                    <a:pt x="80" y="456"/>
                  </a:lnTo>
                  <a:lnTo>
                    <a:pt x="97" y="438"/>
                  </a:lnTo>
                  <a:lnTo>
                    <a:pt x="112" y="422"/>
                  </a:lnTo>
                  <a:lnTo>
                    <a:pt x="128" y="404"/>
                  </a:lnTo>
                  <a:lnTo>
                    <a:pt x="134" y="395"/>
                  </a:lnTo>
                  <a:lnTo>
                    <a:pt x="141" y="385"/>
                  </a:lnTo>
                  <a:lnTo>
                    <a:pt x="145" y="375"/>
                  </a:lnTo>
                  <a:lnTo>
                    <a:pt x="151" y="364"/>
                  </a:lnTo>
                  <a:lnTo>
                    <a:pt x="154" y="353"/>
                  </a:lnTo>
                  <a:lnTo>
                    <a:pt x="156" y="341"/>
                  </a:lnTo>
                  <a:lnTo>
                    <a:pt x="158" y="328"/>
                  </a:lnTo>
                  <a:lnTo>
                    <a:pt x="158" y="315"/>
                  </a:lnTo>
                  <a:lnTo>
                    <a:pt x="157" y="301"/>
                  </a:lnTo>
                  <a:lnTo>
                    <a:pt x="155" y="286"/>
                  </a:lnTo>
                  <a:lnTo>
                    <a:pt x="152" y="269"/>
                  </a:lnTo>
                  <a:lnTo>
                    <a:pt x="146" y="252"/>
                  </a:lnTo>
                  <a:lnTo>
                    <a:pt x="193" y="256"/>
                  </a:lnTo>
                  <a:lnTo>
                    <a:pt x="237" y="258"/>
                  </a:lnTo>
                  <a:lnTo>
                    <a:pt x="276" y="261"/>
                  </a:lnTo>
                  <a:lnTo>
                    <a:pt x="312" y="262"/>
                  </a:lnTo>
                  <a:lnTo>
                    <a:pt x="344" y="262"/>
                  </a:lnTo>
                  <a:lnTo>
                    <a:pt x="372" y="261"/>
                  </a:lnTo>
                  <a:lnTo>
                    <a:pt x="398" y="259"/>
                  </a:lnTo>
                  <a:lnTo>
                    <a:pt x="420" y="257"/>
                  </a:lnTo>
                  <a:lnTo>
                    <a:pt x="439" y="254"/>
                  </a:lnTo>
                  <a:lnTo>
                    <a:pt x="457" y="251"/>
                  </a:lnTo>
                  <a:lnTo>
                    <a:pt x="471" y="246"/>
                  </a:lnTo>
                  <a:lnTo>
                    <a:pt x="483" y="241"/>
                  </a:lnTo>
                  <a:lnTo>
                    <a:pt x="493" y="235"/>
                  </a:lnTo>
                  <a:lnTo>
                    <a:pt x="500" y="228"/>
                  </a:lnTo>
                  <a:lnTo>
                    <a:pt x="507" y="221"/>
                  </a:lnTo>
                  <a:lnTo>
                    <a:pt x="511" y="213"/>
                  </a:lnTo>
                  <a:lnTo>
                    <a:pt x="514" y="204"/>
                  </a:lnTo>
                  <a:lnTo>
                    <a:pt x="515" y="195"/>
                  </a:lnTo>
                  <a:lnTo>
                    <a:pt x="516" y="185"/>
                  </a:lnTo>
                  <a:lnTo>
                    <a:pt x="515" y="174"/>
                  </a:lnTo>
                  <a:lnTo>
                    <a:pt x="510" y="152"/>
                  </a:lnTo>
                  <a:lnTo>
                    <a:pt x="504" y="125"/>
                  </a:lnTo>
                  <a:lnTo>
                    <a:pt x="496" y="97"/>
                  </a:lnTo>
                  <a:lnTo>
                    <a:pt x="490" y="68"/>
                  </a:lnTo>
                  <a:lnTo>
                    <a:pt x="486" y="51"/>
                  </a:lnTo>
                  <a:lnTo>
                    <a:pt x="484" y="35"/>
                  </a:lnTo>
                  <a:lnTo>
                    <a:pt x="483" y="17"/>
                  </a:lnTo>
                  <a:lnTo>
                    <a:pt x="482" y="0"/>
                  </a:lnTo>
                  <a:lnTo>
                    <a:pt x="797" y="22"/>
                  </a:lnTo>
                  <a:close/>
                </a:path>
              </a:pathLst>
            </a:custGeom>
            <a:solidFill>
              <a:srgbClr val="dede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Freeform 11"/>
            <p:cNvSpPr/>
            <p:nvPr/>
          </p:nvSpPr>
          <p:spPr>
            <a:xfrm>
              <a:off x="4122000" y="3786120"/>
              <a:ext cx="383760" cy="372960"/>
            </a:xfrm>
            <a:custGeom>
              <a:avLst/>
              <a:gdLst>
                <a:gd name="textAreaLeft" fmla="*/ 0 w 383760"/>
                <a:gd name="textAreaRight" fmla="*/ 384120 w 383760"/>
                <a:gd name="textAreaTop" fmla="*/ 0 h 372960"/>
                <a:gd name="textAreaBottom" fmla="*/ 373320 h 372960"/>
              </a:gdLst>
              <a:ahLst/>
              <a:rect l="textAreaLeft" t="textAreaTop" r="textAreaRight" b="textAreaBottom"/>
              <a:pathLst>
                <a:path w="1056" h="1238">
                  <a:moveTo>
                    <a:pt x="797" y="22"/>
                  </a:moveTo>
                  <a:lnTo>
                    <a:pt x="793" y="28"/>
                  </a:lnTo>
                  <a:lnTo>
                    <a:pt x="783" y="48"/>
                  </a:lnTo>
                  <a:lnTo>
                    <a:pt x="777" y="61"/>
                  </a:lnTo>
                  <a:lnTo>
                    <a:pt x="773" y="75"/>
                  </a:lnTo>
                  <a:lnTo>
                    <a:pt x="769" y="92"/>
                  </a:lnTo>
                  <a:lnTo>
                    <a:pt x="765" y="108"/>
                  </a:lnTo>
                  <a:lnTo>
                    <a:pt x="764" y="117"/>
                  </a:lnTo>
                  <a:lnTo>
                    <a:pt x="764" y="124"/>
                  </a:lnTo>
                  <a:lnTo>
                    <a:pt x="765" y="133"/>
                  </a:lnTo>
                  <a:lnTo>
                    <a:pt x="766" y="142"/>
                  </a:lnTo>
                  <a:lnTo>
                    <a:pt x="769" y="149"/>
                  </a:lnTo>
                  <a:lnTo>
                    <a:pt x="771" y="157"/>
                  </a:lnTo>
                  <a:lnTo>
                    <a:pt x="774" y="165"/>
                  </a:lnTo>
                  <a:lnTo>
                    <a:pt x="779" y="172"/>
                  </a:lnTo>
                  <a:lnTo>
                    <a:pt x="785" y="179"/>
                  </a:lnTo>
                  <a:lnTo>
                    <a:pt x="791" y="185"/>
                  </a:lnTo>
                  <a:lnTo>
                    <a:pt x="800" y="191"/>
                  </a:lnTo>
                  <a:lnTo>
                    <a:pt x="809" y="196"/>
                  </a:lnTo>
                  <a:lnTo>
                    <a:pt x="820" y="201"/>
                  </a:lnTo>
                  <a:lnTo>
                    <a:pt x="832" y="205"/>
                  </a:lnTo>
                  <a:lnTo>
                    <a:pt x="845" y="208"/>
                  </a:lnTo>
                  <a:lnTo>
                    <a:pt x="860" y="210"/>
                  </a:lnTo>
                  <a:lnTo>
                    <a:pt x="867" y="207"/>
                  </a:lnTo>
                  <a:lnTo>
                    <a:pt x="886" y="200"/>
                  </a:lnTo>
                  <a:lnTo>
                    <a:pt x="898" y="195"/>
                  </a:lnTo>
                  <a:lnTo>
                    <a:pt x="911" y="191"/>
                  </a:lnTo>
                  <a:lnTo>
                    <a:pt x="927" y="186"/>
                  </a:lnTo>
                  <a:lnTo>
                    <a:pt x="941" y="184"/>
                  </a:lnTo>
                  <a:lnTo>
                    <a:pt x="956" y="183"/>
                  </a:lnTo>
                  <a:lnTo>
                    <a:pt x="969" y="184"/>
                  </a:lnTo>
                  <a:lnTo>
                    <a:pt x="976" y="185"/>
                  </a:lnTo>
                  <a:lnTo>
                    <a:pt x="982" y="186"/>
                  </a:lnTo>
                  <a:lnTo>
                    <a:pt x="988" y="190"/>
                  </a:lnTo>
                  <a:lnTo>
                    <a:pt x="993" y="193"/>
                  </a:lnTo>
                  <a:lnTo>
                    <a:pt x="997" y="196"/>
                  </a:lnTo>
                  <a:lnTo>
                    <a:pt x="1001" y="202"/>
                  </a:lnTo>
                  <a:lnTo>
                    <a:pt x="1004" y="207"/>
                  </a:lnTo>
                  <a:lnTo>
                    <a:pt x="1006" y="215"/>
                  </a:lnTo>
                  <a:lnTo>
                    <a:pt x="1008" y="222"/>
                  </a:lnTo>
                  <a:lnTo>
                    <a:pt x="1008" y="231"/>
                  </a:lnTo>
                  <a:lnTo>
                    <a:pt x="1008" y="241"/>
                  </a:lnTo>
                  <a:lnTo>
                    <a:pt x="1007" y="252"/>
                  </a:lnTo>
                  <a:lnTo>
                    <a:pt x="1016" y="256"/>
                  </a:lnTo>
                  <a:lnTo>
                    <a:pt x="1024" y="262"/>
                  </a:lnTo>
                  <a:lnTo>
                    <a:pt x="1029" y="267"/>
                  </a:lnTo>
                  <a:lnTo>
                    <a:pt x="1034" y="273"/>
                  </a:lnTo>
                  <a:lnTo>
                    <a:pt x="1038" y="279"/>
                  </a:lnTo>
                  <a:lnTo>
                    <a:pt x="1040" y="286"/>
                  </a:lnTo>
                  <a:lnTo>
                    <a:pt x="1041" y="292"/>
                  </a:lnTo>
                  <a:lnTo>
                    <a:pt x="1041" y="300"/>
                  </a:lnTo>
                  <a:lnTo>
                    <a:pt x="1040" y="307"/>
                  </a:lnTo>
                  <a:lnTo>
                    <a:pt x="1039" y="315"/>
                  </a:lnTo>
                  <a:lnTo>
                    <a:pt x="1036" y="323"/>
                  </a:lnTo>
                  <a:lnTo>
                    <a:pt x="1033" y="330"/>
                  </a:lnTo>
                  <a:lnTo>
                    <a:pt x="1025" y="347"/>
                  </a:lnTo>
                  <a:lnTo>
                    <a:pt x="1015" y="362"/>
                  </a:lnTo>
                  <a:lnTo>
                    <a:pt x="1003" y="378"/>
                  </a:lnTo>
                  <a:lnTo>
                    <a:pt x="991" y="392"/>
                  </a:lnTo>
                  <a:lnTo>
                    <a:pt x="980" y="406"/>
                  </a:lnTo>
                  <a:lnTo>
                    <a:pt x="968" y="418"/>
                  </a:lnTo>
                  <a:lnTo>
                    <a:pt x="951" y="435"/>
                  </a:lnTo>
                  <a:lnTo>
                    <a:pt x="944" y="442"/>
                  </a:lnTo>
                  <a:lnTo>
                    <a:pt x="949" y="447"/>
                  </a:lnTo>
                  <a:lnTo>
                    <a:pt x="966" y="462"/>
                  </a:lnTo>
                  <a:lnTo>
                    <a:pt x="977" y="473"/>
                  </a:lnTo>
                  <a:lnTo>
                    <a:pt x="988" y="486"/>
                  </a:lnTo>
                  <a:lnTo>
                    <a:pt x="1000" y="501"/>
                  </a:lnTo>
                  <a:lnTo>
                    <a:pt x="1012" y="517"/>
                  </a:lnTo>
                  <a:lnTo>
                    <a:pt x="1024" y="534"/>
                  </a:lnTo>
                  <a:lnTo>
                    <a:pt x="1033" y="553"/>
                  </a:lnTo>
                  <a:lnTo>
                    <a:pt x="1043" y="572"/>
                  </a:lnTo>
                  <a:lnTo>
                    <a:pt x="1050" y="592"/>
                  </a:lnTo>
                  <a:lnTo>
                    <a:pt x="1053" y="602"/>
                  </a:lnTo>
                  <a:lnTo>
                    <a:pt x="1054" y="612"/>
                  </a:lnTo>
                  <a:lnTo>
                    <a:pt x="1056" y="621"/>
                  </a:lnTo>
                  <a:lnTo>
                    <a:pt x="1056" y="632"/>
                  </a:lnTo>
                  <a:lnTo>
                    <a:pt x="1056" y="642"/>
                  </a:lnTo>
                  <a:lnTo>
                    <a:pt x="1054" y="652"/>
                  </a:lnTo>
                  <a:lnTo>
                    <a:pt x="1052" y="662"/>
                  </a:lnTo>
                  <a:lnTo>
                    <a:pt x="1049" y="671"/>
                  </a:lnTo>
                  <a:lnTo>
                    <a:pt x="1049" y="683"/>
                  </a:lnTo>
                  <a:lnTo>
                    <a:pt x="1046" y="714"/>
                  </a:lnTo>
                  <a:lnTo>
                    <a:pt x="1043" y="734"/>
                  </a:lnTo>
                  <a:lnTo>
                    <a:pt x="1040" y="755"/>
                  </a:lnTo>
                  <a:lnTo>
                    <a:pt x="1034" y="777"/>
                  </a:lnTo>
                  <a:lnTo>
                    <a:pt x="1028" y="800"/>
                  </a:lnTo>
                  <a:lnTo>
                    <a:pt x="1024" y="812"/>
                  </a:lnTo>
                  <a:lnTo>
                    <a:pt x="1019" y="823"/>
                  </a:lnTo>
                  <a:lnTo>
                    <a:pt x="1014" y="833"/>
                  </a:lnTo>
                  <a:lnTo>
                    <a:pt x="1007" y="843"/>
                  </a:lnTo>
                  <a:lnTo>
                    <a:pt x="1001" y="852"/>
                  </a:lnTo>
                  <a:lnTo>
                    <a:pt x="994" y="861"/>
                  </a:lnTo>
                  <a:lnTo>
                    <a:pt x="987" y="869"/>
                  </a:lnTo>
                  <a:lnTo>
                    <a:pt x="978" y="875"/>
                  </a:lnTo>
                  <a:lnTo>
                    <a:pt x="969" y="882"/>
                  </a:lnTo>
                  <a:lnTo>
                    <a:pt x="958" y="886"/>
                  </a:lnTo>
                  <a:lnTo>
                    <a:pt x="947" y="889"/>
                  </a:lnTo>
                  <a:lnTo>
                    <a:pt x="936" y="891"/>
                  </a:lnTo>
                  <a:lnTo>
                    <a:pt x="923" y="892"/>
                  </a:lnTo>
                  <a:lnTo>
                    <a:pt x="910" y="889"/>
                  </a:lnTo>
                  <a:lnTo>
                    <a:pt x="896" y="886"/>
                  </a:lnTo>
                  <a:lnTo>
                    <a:pt x="881" y="882"/>
                  </a:lnTo>
                  <a:lnTo>
                    <a:pt x="870" y="891"/>
                  </a:lnTo>
                  <a:lnTo>
                    <a:pt x="859" y="897"/>
                  </a:lnTo>
                  <a:lnTo>
                    <a:pt x="849" y="901"/>
                  </a:lnTo>
                  <a:lnTo>
                    <a:pt x="839" y="904"/>
                  </a:lnTo>
                  <a:lnTo>
                    <a:pt x="832" y="905"/>
                  </a:lnTo>
                  <a:lnTo>
                    <a:pt x="823" y="905"/>
                  </a:lnTo>
                  <a:lnTo>
                    <a:pt x="817" y="903"/>
                  </a:lnTo>
                  <a:lnTo>
                    <a:pt x="809" y="899"/>
                  </a:lnTo>
                  <a:lnTo>
                    <a:pt x="802" y="895"/>
                  </a:lnTo>
                  <a:lnTo>
                    <a:pt x="796" y="891"/>
                  </a:lnTo>
                  <a:lnTo>
                    <a:pt x="790" y="884"/>
                  </a:lnTo>
                  <a:lnTo>
                    <a:pt x="785" y="879"/>
                  </a:lnTo>
                  <a:lnTo>
                    <a:pt x="774" y="864"/>
                  </a:lnTo>
                  <a:lnTo>
                    <a:pt x="763" y="850"/>
                  </a:lnTo>
                  <a:lnTo>
                    <a:pt x="752" y="837"/>
                  </a:lnTo>
                  <a:lnTo>
                    <a:pt x="740" y="826"/>
                  </a:lnTo>
                  <a:lnTo>
                    <a:pt x="734" y="822"/>
                  </a:lnTo>
                  <a:lnTo>
                    <a:pt x="727" y="820"/>
                  </a:lnTo>
                  <a:lnTo>
                    <a:pt x="721" y="818"/>
                  </a:lnTo>
                  <a:lnTo>
                    <a:pt x="713" y="816"/>
                  </a:lnTo>
                  <a:lnTo>
                    <a:pt x="704" y="818"/>
                  </a:lnTo>
                  <a:lnTo>
                    <a:pt x="696" y="821"/>
                  </a:lnTo>
                  <a:lnTo>
                    <a:pt x="687" y="825"/>
                  </a:lnTo>
                  <a:lnTo>
                    <a:pt x="677" y="832"/>
                  </a:lnTo>
                  <a:lnTo>
                    <a:pt x="666" y="840"/>
                  </a:lnTo>
                  <a:lnTo>
                    <a:pt x="655" y="851"/>
                  </a:lnTo>
                  <a:lnTo>
                    <a:pt x="642" y="866"/>
                  </a:lnTo>
                  <a:lnTo>
                    <a:pt x="629" y="882"/>
                  </a:lnTo>
                  <a:lnTo>
                    <a:pt x="623" y="882"/>
                  </a:lnTo>
                  <a:lnTo>
                    <a:pt x="605" y="886"/>
                  </a:lnTo>
                  <a:lnTo>
                    <a:pt x="594" y="889"/>
                  </a:lnTo>
                  <a:lnTo>
                    <a:pt x="583" y="895"/>
                  </a:lnTo>
                  <a:lnTo>
                    <a:pt x="578" y="898"/>
                  </a:lnTo>
                  <a:lnTo>
                    <a:pt x="573" y="903"/>
                  </a:lnTo>
                  <a:lnTo>
                    <a:pt x="568" y="908"/>
                  </a:lnTo>
                  <a:lnTo>
                    <a:pt x="564" y="913"/>
                  </a:lnTo>
                  <a:lnTo>
                    <a:pt x="559" y="920"/>
                  </a:lnTo>
                  <a:lnTo>
                    <a:pt x="556" y="927"/>
                  </a:lnTo>
                  <a:lnTo>
                    <a:pt x="553" y="934"/>
                  </a:lnTo>
                  <a:lnTo>
                    <a:pt x="551" y="943"/>
                  </a:lnTo>
                  <a:lnTo>
                    <a:pt x="548" y="953"/>
                  </a:lnTo>
                  <a:lnTo>
                    <a:pt x="547" y="964"/>
                  </a:lnTo>
                  <a:lnTo>
                    <a:pt x="548" y="976"/>
                  </a:lnTo>
                  <a:lnTo>
                    <a:pt x="549" y="988"/>
                  </a:lnTo>
                  <a:lnTo>
                    <a:pt x="552" y="1002"/>
                  </a:lnTo>
                  <a:lnTo>
                    <a:pt x="555" y="1017"/>
                  </a:lnTo>
                  <a:lnTo>
                    <a:pt x="560" y="1033"/>
                  </a:lnTo>
                  <a:lnTo>
                    <a:pt x="567" y="1051"/>
                  </a:lnTo>
                  <a:lnTo>
                    <a:pt x="575" y="1069"/>
                  </a:lnTo>
                  <a:lnTo>
                    <a:pt x="584" y="1089"/>
                  </a:lnTo>
                  <a:lnTo>
                    <a:pt x="595" y="1111"/>
                  </a:lnTo>
                  <a:lnTo>
                    <a:pt x="608" y="1134"/>
                  </a:lnTo>
                  <a:lnTo>
                    <a:pt x="604" y="1130"/>
                  </a:lnTo>
                  <a:lnTo>
                    <a:pt x="593" y="1124"/>
                  </a:lnTo>
                  <a:lnTo>
                    <a:pt x="585" y="1119"/>
                  </a:lnTo>
                  <a:lnTo>
                    <a:pt x="576" y="1117"/>
                  </a:lnTo>
                  <a:lnTo>
                    <a:pt x="565" y="1115"/>
                  </a:lnTo>
                  <a:lnTo>
                    <a:pt x="553" y="1115"/>
                  </a:lnTo>
                  <a:lnTo>
                    <a:pt x="546" y="1116"/>
                  </a:lnTo>
                  <a:lnTo>
                    <a:pt x="540" y="1117"/>
                  </a:lnTo>
                  <a:lnTo>
                    <a:pt x="532" y="1119"/>
                  </a:lnTo>
                  <a:lnTo>
                    <a:pt x="526" y="1123"/>
                  </a:lnTo>
                  <a:lnTo>
                    <a:pt x="518" y="1126"/>
                  </a:lnTo>
                  <a:lnTo>
                    <a:pt x="509" y="1130"/>
                  </a:lnTo>
                  <a:lnTo>
                    <a:pt x="502" y="1136"/>
                  </a:lnTo>
                  <a:lnTo>
                    <a:pt x="493" y="1142"/>
                  </a:lnTo>
                  <a:lnTo>
                    <a:pt x="484" y="1150"/>
                  </a:lnTo>
                  <a:lnTo>
                    <a:pt x="475" y="1159"/>
                  </a:lnTo>
                  <a:lnTo>
                    <a:pt x="467" y="1169"/>
                  </a:lnTo>
                  <a:lnTo>
                    <a:pt x="458" y="1179"/>
                  </a:lnTo>
                  <a:lnTo>
                    <a:pt x="448" y="1193"/>
                  </a:lnTo>
                  <a:lnTo>
                    <a:pt x="438" y="1207"/>
                  </a:lnTo>
                  <a:lnTo>
                    <a:pt x="429" y="1222"/>
                  </a:lnTo>
                  <a:lnTo>
                    <a:pt x="420" y="1238"/>
                  </a:lnTo>
                  <a:lnTo>
                    <a:pt x="400" y="1220"/>
                  </a:lnTo>
                  <a:lnTo>
                    <a:pt x="377" y="1197"/>
                  </a:lnTo>
                  <a:lnTo>
                    <a:pt x="354" y="1174"/>
                  </a:lnTo>
                  <a:lnTo>
                    <a:pt x="336" y="1154"/>
                  </a:lnTo>
                  <a:lnTo>
                    <a:pt x="329" y="1134"/>
                  </a:lnTo>
                  <a:lnTo>
                    <a:pt x="322" y="1113"/>
                  </a:lnTo>
                  <a:lnTo>
                    <a:pt x="313" y="1094"/>
                  </a:lnTo>
                  <a:lnTo>
                    <a:pt x="303" y="1076"/>
                  </a:lnTo>
                  <a:lnTo>
                    <a:pt x="292" y="1058"/>
                  </a:lnTo>
                  <a:lnTo>
                    <a:pt x="281" y="1042"/>
                  </a:lnTo>
                  <a:lnTo>
                    <a:pt x="269" y="1026"/>
                  </a:lnTo>
                  <a:lnTo>
                    <a:pt x="256" y="1010"/>
                  </a:lnTo>
                  <a:lnTo>
                    <a:pt x="229" y="981"/>
                  </a:lnTo>
                  <a:lnTo>
                    <a:pt x="202" y="953"/>
                  </a:lnTo>
                  <a:lnTo>
                    <a:pt x="172" y="925"/>
                  </a:lnTo>
                  <a:lnTo>
                    <a:pt x="144" y="897"/>
                  </a:lnTo>
                  <a:lnTo>
                    <a:pt x="116" y="870"/>
                  </a:lnTo>
                  <a:lnTo>
                    <a:pt x="90" y="840"/>
                  </a:lnTo>
                  <a:lnTo>
                    <a:pt x="77" y="825"/>
                  </a:lnTo>
                  <a:lnTo>
                    <a:pt x="65" y="810"/>
                  </a:lnTo>
                  <a:lnTo>
                    <a:pt x="54" y="794"/>
                  </a:lnTo>
                  <a:lnTo>
                    <a:pt x="44" y="777"/>
                  </a:lnTo>
                  <a:lnTo>
                    <a:pt x="34" y="760"/>
                  </a:lnTo>
                  <a:lnTo>
                    <a:pt x="25" y="741"/>
                  </a:lnTo>
                  <a:lnTo>
                    <a:pt x="18" y="722"/>
                  </a:lnTo>
                  <a:lnTo>
                    <a:pt x="11" y="701"/>
                  </a:lnTo>
                  <a:lnTo>
                    <a:pt x="7" y="680"/>
                  </a:lnTo>
                  <a:lnTo>
                    <a:pt x="2" y="657"/>
                  </a:lnTo>
                  <a:lnTo>
                    <a:pt x="0" y="634"/>
                  </a:lnTo>
                  <a:lnTo>
                    <a:pt x="0" y="609"/>
                  </a:lnTo>
                  <a:lnTo>
                    <a:pt x="0" y="594"/>
                  </a:lnTo>
                  <a:lnTo>
                    <a:pt x="2" y="580"/>
                  </a:lnTo>
                  <a:lnTo>
                    <a:pt x="5" y="566"/>
                  </a:lnTo>
                  <a:lnTo>
                    <a:pt x="9" y="554"/>
                  </a:lnTo>
                  <a:lnTo>
                    <a:pt x="13" y="542"/>
                  </a:lnTo>
                  <a:lnTo>
                    <a:pt x="19" y="530"/>
                  </a:lnTo>
                  <a:lnTo>
                    <a:pt x="24" y="519"/>
                  </a:lnTo>
                  <a:lnTo>
                    <a:pt x="32" y="509"/>
                  </a:lnTo>
                  <a:lnTo>
                    <a:pt x="46" y="489"/>
                  </a:lnTo>
                  <a:lnTo>
                    <a:pt x="62" y="472"/>
                  </a:lnTo>
                  <a:lnTo>
                    <a:pt x="80" y="456"/>
                  </a:lnTo>
                  <a:lnTo>
                    <a:pt x="97" y="438"/>
                  </a:lnTo>
                  <a:lnTo>
                    <a:pt x="112" y="422"/>
                  </a:lnTo>
                  <a:lnTo>
                    <a:pt x="128" y="404"/>
                  </a:lnTo>
                  <a:lnTo>
                    <a:pt x="134" y="395"/>
                  </a:lnTo>
                  <a:lnTo>
                    <a:pt x="141" y="385"/>
                  </a:lnTo>
                  <a:lnTo>
                    <a:pt x="145" y="375"/>
                  </a:lnTo>
                  <a:lnTo>
                    <a:pt x="151" y="364"/>
                  </a:lnTo>
                  <a:lnTo>
                    <a:pt x="154" y="353"/>
                  </a:lnTo>
                  <a:lnTo>
                    <a:pt x="156" y="341"/>
                  </a:lnTo>
                  <a:lnTo>
                    <a:pt x="158" y="328"/>
                  </a:lnTo>
                  <a:lnTo>
                    <a:pt x="158" y="315"/>
                  </a:lnTo>
                  <a:lnTo>
                    <a:pt x="157" y="301"/>
                  </a:lnTo>
                  <a:lnTo>
                    <a:pt x="155" y="286"/>
                  </a:lnTo>
                  <a:lnTo>
                    <a:pt x="152" y="269"/>
                  </a:lnTo>
                  <a:lnTo>
                    <a:pt x="146" y="252"/>
                  </a:lnTo>
                  <a:lnTo>
                    <a:pt x="193" y="256"/>
                  </a:lnTo>
                  <a:lnTo>
                    <a:pt x="237" y="258"/>
                  </a:lnTo>
                  <a:lnTo>
                    <a:pt x="276" y="261"/>
                  </a:lnTo>
                  <a:lnTo>
                    <a:pt x="312" y="262"/>
                  </a:lnTo>
                  <a:lnTo>
                    <a:pt x="344" y="262"/>
                  </a:lnTo>
                  <a:lnTo>
                    <a:pt x="372" y="261"/>
                  </a:lnTo>
                  <a:lnTo>
                    <a:pt x="398" y="259"/>
                  </a:lnTo>
                  <a:lnTo>
                    <a:pt x="420" y="257"/>
                  </a:lnTo>
                  <a:lnTo>
                    <a:pt x="439" y="254"/>
                  </a:lnTo>
                  <a:lnTo>
                    <a:pt x="457" y="251"/>
                  </a:lnTo>
                  <a:lnTo>
                    <a:pt x="471" y="246"/>
                  </a:lnTo>
                  <a:lnTo>
                    <a:pt x="483" y="241"/>
                  </a:lnTo>
                  <a:lnTo>
                    <a:pt x="493" y="235"/>
                  </a:lnTo>
                  <a:lnTo>
                    <a:pt x="500" y="228"/>
                  </a:lnTo>
                  <a:lnTo>
                    <a:pt x="507" y="221"/>
                  </a:lnTo>
                  <a:lnTo>
                    <a:pt x="511" y="213"/>
                  </a:lnTo>
                  <a:lnTo>
                    <a:pt x="514" y="204"/>
                  </a:lnTo>
                  <a:lnTo>
                    <a:pt x="515" y="195"/>
                  </a:lnTo>
                  <a:lnTo>
                    <a:pt x="516" y="185"/>
                  </a:lnTo>
                  <a:lnTo>
                    <a:pt x="515" y="174"/>
                  </a:lnTo>
                  <a:lnTo>
                    <a:pt x="510" y="152"/>
                  </a:lnTo>
                  <a:lnTo>
                    <a:pt x="504" y="125"/>
                  </a:lnTo>
                  <a:lnTo>
                    <a:pt x="496" y="97"/>
                  </a:lnTo>
                  <a:lnTo>
                    <a:pt x="490" y="68"/>
                  </a:lnTo>
                  <a:lnTo>
                    <a:pt x="486" y="51"/>
                  </a:lnTo>
                  <a:lnTo>
                    <a:pt x="484" y="35"/>
                  </a:lnTo>
                  <a:lnTo>
                    <a:pt x="483" y="17"/>
                  </a:lnTo>
                  <a:lnTo>
                    <a:pt x="482" y="0"/>
                  </a:lnTo>
                  <a:lnTo>
                    <a:pt x="797" y="22"/>
                  </a:lnTo>
                </a:path>
              </a:pathLst>
            </a:custGeom>
            <a:noFill/>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Freeform 12"/>
            <p:cNvSpPr/>
            <p:nvPr/>
          </p:nvSpPr>
          <p:spPr>
            <a:xfrm>
              <a:off x="4433760" y="2546280"/>
              <a:ext cx="639360" cy="931680"/>
            </a:xfrm>
            <a:custGeom>
              <a:avLst/>
              <a:gdLst>
                <a:gd name="textAreaLeft" fmla="*/ 0 w 639360"/>
                <a:gd name="textAreaRight" fmla="*/ 639720 w 639360"/>
                <a:gd name="textAreaTop" fmla="*/ 0 h 931680"/>
                <a:gd name="textAreaBottom" fmla="*/ 932040 h 931680"/>
              </a:gdLst>
              <a:ahLst/>
              <a:rect l="textAreaLeft" t="textAreaTop" r="textAreaRight" b="textAreaBottom"/>
              <a:pathLst>
                <a:path w="1762" h="3105">
                  <a:moveTo>
                    <a:pt x="252" y="84"/>
                  </a:moveTo>
                  <a:lnTo>
                    <a:pt x="231" y="335"/>
                  </a:lnTo>
                  <a:lnTo>
                    <a:pt x="247" y="363"/>
                  </a:lnTo>
                  <a:lnTo>
                    <a:pt x="263" y="388"/>
                  </a:lnTo>
                  <a:lnTo>
                    <a:pt x="276" y="412"/>
                  </a:lnTo>
                  <a:lnTo>
                    <a:pt x="289" y="434"/>
                  </a:lnTo>
                  <a:lnTo>
                    <a:pt x="299" y="454"/>
                  </a:lnTo>
                  <a:lnTo>
                    <a:pt x="309" y="475"/>
                  </a:lnTo>
                  <a:lnTo>
                    <a:pt x="316" y="494"/>
                  </a:lnTo>
                  <a:lnTo>
                    <a:pt x="324" y="511"/>
                  </a:lnTo>
                  <a:lnTo>
                    <a:pt x="329" y="527"/>
                  </a:lnTo>
                  <a:lnTo>
                    <a:pt x="334" y="543"/>
                  </a:lnTo>
                  <a:lnTo>
                    <a:pt x="337" y="557"/>
                  </a:lnTo>
                  <a:lnTo>
                    <a:pt x="340" y="571"/>
                  </a:lnTo>
                  <a:lnTo>
                    <a:pt x="342" y="584"/>
                  </a:lnTo>
                  <a:lnTo>
                    <a:pt x="343" y="596"/>
                  </a:lnTo>
                  <a:lnTo>
                    <a:pt x="343" y="608"/>
                  </a:lnTo>
                  <a:lnTo>
                    <a:pt x="343" y="619"/>
                  </a:lnTo>
                  <a:lnTo>
                    <a:pt x="341" y="640"/>
                  </a:lnTo>
                  <a:lnTo>
                    <a:pt x="338" y="659"/>
                  </a:lnTo>
                  <a:lnTo>
                    <a:pt x="334" y="678"/>
                  </a:lnTo>
                  <a:lnTo>
                    <a:pt x="328" y="695"/>
                  </a:lnTo>
                  <a:lnTo>
                    <a:pt x="323" y="714"/>
                  </a:lnTo>
                  <a:lnTo>
                    <a:pt x="318" y="733"/>
                  </a:lnTo>
                  <a:lnTo>
                    <a:pt x="316" y="754"/>
                  </a:lnTo>
                  <a:lnTo>
                    <a:pt x="315" y="776"/>
                  </a:lnTo>
                  <a:lnTo>
                    <a:pt x="316" y="912"/>
                  </a:lnTo>
                  <a:lnTo>
                    <a:pt x="318" y="1023"/>
                  </a:lnTo>
                  <a:lnTo>
                    <a:pt x="318" y="1072"/>
                  </a:lnTo>
                  <a:lnTo>
                    <a:pt x="317" y="1116"/>
                  </a:lnTo>
                  <a:lnTo>
                    <a:pt x="316" y="1137"/>
                  </a:lnTo>
                  <a:lnTo>
                    <a:pt x="314" y="1157"/>
                  </a:lnTo>
                  <a:lnTo>
                    <a:pt x="312" y="1177"/>
                  </a:lnTo>
                  <a:lnTo>
                    <a:pt x="310" y="1196"/>
                  </a:lnTo>
                  <a:lnTo>
                    <a:pt x="306" y="1214"/>
                  </a:lnTo>
                  <a:lnTo>
                    <a:pt x="302" y="1233"/>
                  </a:lnTo>
                  <a:lnTo>
                    <a:pt x="298" y="1250"/>
                  </a:lnTo>
                  <a:lnTo>
                    <a:pt x="292" y="1267"/>
                  </a:lnTo>
                  <a:lnTo>
                    <a:pt x="286" y="1285"/>
                  </a:lnTo>
                  <a:lnTo>
                    <a:pt x="279" y="1302"/>
                  </a:lnTo>
                  <a:lnTo>
                    <a:pt x="270" y="1320"/>
                  </a:lnTo>
                  <a:lnTo>
                    <a:pt x="262" y="1337"/>
                  </a:lnTo>
                  <a:lnTo>
                    <a:pt x="251" y="1355"/>
                  </a:lnTo>
                  <a:lnTo>
                    <a:pt x="240" y="1372"/>
                  </a:lnTo>
                  <a:lnTo>
                    <a:pt x="228" y="1391"/>
                  </a:lnTo>
                  <a:lnTo>
                    <a:pt x="214" y="1409"/>
                  </a:lnTo>
                  <a:lnTo>
                    <a:pt x="200" y="1428"/>
                  </a:lnTo>
                  <a:lnTo>
                    <a:pt x="183" y="1448"/>
                  </a:lnTo>
                  <a:lnTo>
                    <a:pt x="166" y="1468"/>
                  </a:lnTo>
                  <a:lnTo>
                    <a:pt x="147" y="1490"/>
                  </a:lnTo>
                  <a:lnTo>
                    <a:pt x="135" y="1502"/>
                  </a:lnTo>
                  <a:lnTo>
                    <a:pt x="124" y="1515"/>
                  </a:lnTo>
                  <a:lnTo>
                    <a:pt x="115" y="1529"/>
                  </a:lnTo>
                  <a:lnTo>
                    <a:pt x="106" y="1543"/>
                  </a:lnTo>
                  <a:lnTo>
                    <a:pt x="97" y="1557"/>
                  </a:lnTo>
                  <a:lnTo>
                    <a:pt x="89" y="1574"/>
                  </a:lnTo>
                  <a:lnTo>
                    <a:pt x="83" y="1589"/>
                  </a:lnTo>
                  <a:lnTo>
                    <a:pt x="76" y="1605"/>
                  </a:lnTo>
                  <a:lnTo>
                    <a:pt x="65" y="1638"/>
                  </a:lnTo>
                  <a:lnTo>
                    <a:pt x="56" y="1672"/>
                  </a:lnTo>
                  <a:lnTo>
                    <a:pt x="48" y="1706"/>
                  </a:lnTo>
                  <a:lnTo>
                    <a:pt x="42" y="1738"/>
                  </a:lnTo>
                  <a:lnTo>
                    <a:pt x="32" y="1800"/>
                  </a:lnTo>
                  <a:lnTo>
                    <a:pt x="23" y="1853"/>
                  </a:lnTo>
                  <a:lnTo>
                    <a:pt x="19" y="1873"/>
                  </a:lnTo>
                  <a:lnTo>
                    <a:pt x="13" y="1890"/>
                  </a:lnTo>
                  <a:lnTo>
                    <a:pt x="10" y="1897"/>
                  </a:lnTo>
                  <a:lnTo>
                    <a:pt x="7" y="1903"/>
                  </a:lnTo>
                  <a:lnTo>
                    <a:pt x="3" y="1906"/>
                  </a:lnTo>
                  <a:lnTo>
                    <a:pt x="0" y="1909"/>
                  </a:lnTo>
                  <a:lnTo>
                    <a:pt x="15" y="1931"/>
                  </a:lnTo>
                  <a:lnTo>
                    <a:pt x="31" y="1950"/>
                  </a:lnTo>
                  <a:lnTo>
                    <a:pt x="45" y="1966"/>
                  </a:lnTo>
                  <a:lnTo>
                    <a:pt x="58" y="1980"/>
                  </a:lnTo>
                  <a:lnTo>
                    <a:pt x="69" y="1993"/>
                  </a:lnTo>
                  <a:lnTo>
                    <a:pt x="76" y="2006"/>
                  </a:lnTo>
                  <a:lnTo>
                    <a:pt x="80" y="2013"/>
                  </a:lnTo>
                  <a:lnTo>
                    <a:pt x="82" y="2021"/>
                  </a:lnTo>
                  <a:lnTo>
                    <a:pt x="83" y="2027"/>
                  </a:lnTo>
                  <a:lnTo>
                    <a:pt x="84" y="2035"/>
                  </a:lnTo>
                  <a:lnTo>
                    <a:pt x="87" y="2037"/>
                  </a:lnTo>
                  <a:lnTo>
                    <a:pt x="98" y="2041"/>
                  </a:lnTo>
                  <a:lnTo>
                    <a:pt x="115" y="2049"/>
                  </a:lnTo>
                  <a:lnTo>
                    <a:pt x="136" y="2057"/>
                  </a:lnTo>
                  <a:lnTo>
                    <a:pt x="161" y="2064"/>
                  </a:lnTo>
                  <a:lnTo>
                    <a:pt x="190" y="2071"/>
                  </a:lnTo>
                  <a:lnTo>
                    <a:pt x="205" y="2073"/>
                  </a:lnTo>
                  <a:lnTo>
                    <a:pt x="220" y="2075"/>
                  </a:lnTo>
                  <a:lnTo>
                    <a:pt x="235" y="2076"/>
                  </a:lnTo>
                  <a:lnTo>
                    <a:pt x="252" y="2077"/>
                  </a:lnTo>
                  <a:lnTo>
                    <a:pt x="249" y="2082"/>
                  </a:lnTo>
                  <a:lnTo>
                    <a:pt x="245" y="2086"/>
                  </a:lnTo>
                  <a:lnTo>
                    <a:pt x="244" y="2091"/>
                  </a:lnTo>
                  <a:lnTo>
                    <a:pt x="243" y="2097"/>
                  </a:lnTo>
                  <a:lnTo>
                    <a:pt x="242" y="2110"/>
                  </a:lnTo>
                  <a:lnTo>
                    <a:pt x="244" y="2124"/>
                  </a:lnTo>
                  <a:lnTo>
                    <a:pt x="246" y="2141"/>
                  </a:lnTo>
                  <a:lnTo>
                    <a:pt x="249" y="2160"/>
                  </a:lnTo>
                  <a:lnTo>
                    <a:pt x="251" y="2181"/>
                  </a:lnTo>
                  <a:lnTo>
                    <a:pt x="252" y="2203"/>
                  </a:lnTo>
                  <a:lnTo>
                    <a:pt x="252" y="2234"/>
                  </a:lnTo>
                  <a:lnTo>
                    <a:pt x="254" y="2267"/>
                  </a:lnTo>
                  <a:lnTo>
                    <a:pt x="256" y="2299"/>
                  </a:lnTo>
                  <a:lnTo>
                    <a:pt x="259" y="2330"/>
                  </a:lnTo>
                  <a:lnTo>
                    <a:pt x="263" y="2362"/>
                  </a:lnTo>
                  <a:lnTo>
                    <a:pt x="268" y="2392"/>
                  </a:lnTo>
                  <a:lnTo>
                    <a:pt x="274" y="2422"/>
                  </a:lnTo>
                  <a:lnTo>
                    <a:pt x="280" y="2450"/>
                  </a:lnTo>
                  <a:lnTo>
                    <a:pt x="288" y="2476"/>
                  </a:lnTo>
                  <a:lnTo>
                    <a:pt x="295" y="2501"/>
                  </a:lnTo>
                  <a:lnTo>
                    <a:pt x="304" y="2524"/>
                  </a:lnTo>
                  <a:lnTo>
                    <a:pt x="314" y="2545"/>
                  </a:lnTo>
                  <a:lnTo>
                    <a:pt x="324" y="2563"/>
                  </a:lnTo>
                  <a:lnTo>
                    <a:pt x="334" y="2580"/>
                  </a:lnTo>
                  <a:lnTo>
                    <a:pt x="339" y="2586"/>
                  </a:lnTo>
                  <a:lnTo>
                    <a:pt x="344" y="2592"/>
                  </a:lnTo>
                  <a:lnTo>
                    <a:pt x="351" y="2597"/>
                  </a:lnTo>
                  <a:lnTo>
                    <a:pt x="356" y="2602"/>
                  </a:lnTo>
                  <a:lnTo>
                    <a:pt x="335" y="2601"/>
                  </a:lnTo>
                  <a:lnTo>
                    <a:pt x="303" y="2596"/>
                  </a:lnTo>
                  <a:lnTo>
                    <a:pt x="265" y="2593"/>
                  </a:lnTo>
                  <a:lnTo>
                    <a:pt x="226" y="2591"/>
                  </a:lnTo>
                  <a:lnTo>
                    <a:pt x="206" y="2592"/>
                  </a:lnTo>
                  <a:lnTo>
                    <a:pt x="188" y="2594"/>
                  </a:lnTo>
                  <a:lnTo>
                    <a:pt x="171" y="2597"/>
                  </a:lnTo>
                  <a:lnTo>
                    <a:pt x="156" y="2602"/>
                  </a:lnTo>
                  <a:lnTo>
                    <a:pt x="149" y="2605"/>
                  </a:lnTo>
                  <a:lnTo>
                    <a:pt x="143" y="2608"/>
                  </a:lnTo>
                  <a:lnTo>
                    <a:pt x="138" y="2613"/>
                  </a:lnTo>
                  <a:lnTo>
                    <a:pt x="134" y="2618"/>
                  </a:lnTo>
                  <a:lnTo>
                    <a:pt x="131" y="2623"/>
                  </a:lnTo>
                  <a:lnTo>
                    <a:pt x="128" y="2629"/>
                  </a:lnTo>
                  <a:lnTo>
                    <a:pt x="127" y="2636"/>
                  </a:lnTo>
                  <a:lnTo>
                    <a:pt x="125" y="2644"/>
                  </a:lnTo>
                  <a:lnTo>
                    <a:pt x="127" y="2663"/>
                  </a:lnTo>
                  <a:lnTo>
                    <a:pt x="128" y="2681"/>
                  </a:lnTo>
                  <a:lnTo>
                    <a:pt x="131" y="2698"/>
                  </a:lnTo>
                  <a:lnTo>
                    <a:pt x="135" y="2714"/>
                  </a:lnTo>
                  <a:lnTo>
                    <a:pt x="140" y="2728"/>
                  </a:lnTo>
                  <a:lnTo>
                    <a:pt x="145" y="2742"/>
                  </a:lnTo>
                  <a:lnTo>
                    <a:pt x="152" y="2756"/>
                  </a:lnTo>
                  <a:lnTo>
                    <a:pt x="158" y="2769"/>
                  </a:lnTo>
                  <a:lnTo>
                    <a:pt x="166" y="2781"/>
                  </a:lnTo>
                  <a:lnTo>
                    <a:pt x="174" y="2793"/>
                  </a:lnTo>
                  <a:lnTo>
                    <a:pt x="183" y="2804"/>
                  </a:lnTo>
                  <a:lnTo>
                    <a:pt x="192" y="2815"/>
                  </a:lnTo>
                  <a:lnTo>
                    <a:pt x="212" y="2837"/>
                  </a:lnTo>
                  <a:lnTo>
                    <a:pt x="231" y="2859"/>
                  </a:lnTo>
                  <a:lnTo>
                    <a:pt x="250" y="2881"/>
                  </a:lnTo>
                  <a:lnTo>
                    <a:pt x="269" y="2904"/>
                  </a:lnTo>
                  <a:lnTo>
                    <a:pt x="278" y="2917"/>
                  </a:lnTo>
                  <a:lnTo>
                    <a:pt x="287" y="2929"/>
                  </a:lnTo>
                  <a:lnTo>
                    <a:pt x="295" y="2943"/>
                  </a:lnTo>
                  <a:lnTo>
                    <a:pt x="303" y="2957"/>
                  </a:lnTo>
                  <a:lnTo>
                    <a:pt x="310" y="2971"/>
                  </a:lnTo>
                  <a:lnTo>
                    <a:pt x="316" y="2987"/>
                  </a:lnTo>
                  <a:lnTo>
                    <a:pt x="322" y="3004"/>
                  </a:lnTo>
                  <a:lnTo>
                    <a:pt x="327" y="3021"/>
                  </a:lnTo>
                  <a:lnTo>
                    <a:pt x="330" y="3041"/>
                  </a:lnTo>
                  <a:lnTo>
                    <a:pt x="334" y="3060"/>
                  </a:lnTo>
                  <a:lnTo>
                    <a:pt x="335" y="3082"/>
                  </a:lnTo>
                  <a:lnTo>
                    <a:pt x="336" y="3105"/>
                  </a:lnTo>
                  <a:lnTo>
                    <a:pt x="483" y="3105"/>
                  </a:lnTo>
                  <a:lnTo>
                    <a:pt x="498" y="3098"/>
                  </a:lnTo>
                  <a:lnTo>
                    <a:pt x="514" y="3091"/>
                  </a:lnTo>
                  <a:lnTo>
                    <a:pt x="532" y="3086"/>
                  </a:lnTo>
                  <a:lnTo>
                    <a:pt x="548" y="3080"/>
                  </a:lnTo>
                  <a:lnTo>
                    <a:pt x="583" y="3071"/>
                  </a:lnTo>
                  <a:lnTo>
                    <a:pt x="619" y="3064"/>
                  </a:lnTo>
                  <a:lnTo>
                    <a:pt x="689" y="3052"/>
                  </a:lnTo>
                  <a:lnTo>
                    <a:pt x="755" y="3040"/>
                  </a:lnTo>
                  <a:lnTo>
                    <a:pt x="771" y="3037"/>
                  </a:lnTo>
                  <a:lnTo>
                    <a:pt x="786" y="3032"/>
                  </a:lnTo>
                  <a:lnTo>
                    <a:pt x="800" y="3028"/>
                  </a:lnTo>
                  <a:lnTo>
                    <a:pt x="813" y="3022"/>
                  </a:lnTo>
                  <a:lnTo>
                    <a:pt x="826" y="3017"/>
                  </a:lnTo>
                  <a:lnTo>
                    <a:pt x="838" y="3011"/>
                  </a:lnTo>
                  <a:lnTo>
                    <a:pt x="850" y="3004"/>
                  </a:lnTo>
                  <a:lnTo>
                    <a:pt x="860" y="2996"/>
                  </a:lnTo>
                  <a:lnTo>
                    <a:pt x="870" y="2987"/>
                  </a:lnTo>
                  <a:lnTo>
                    <a:pt x="877" y="2978"/>
                  </a:lnTo>
                  <a:lnTo>
                    <a:pt x="885" y="2967"/>
                  </a:lnTo>
                  <a:lnTo>
                    <a:pt x="890" y="2955"/>
                  </a:lnTo>
                  <a:lnTo>
                    <a:pt x="896" y="2943"/>
                  </a:lnTo>
                  <a:lnTo>
                    <a:pt x="899" y="2928"/>
                  </a:lnTo>
                  <a:lnTo>
                    <a:pt x="901" y="2912"/>
                  </a:lnTo>
                  <a:lnTo>
                    <a:pt x="902" y="2896"/>
                  </a:lnTo>
                  <a:lnTo>
                    <a:pt x="902" y="2880"/>
                  </a:lnTo>
                  <a:lnTo>
                    <a:pt x="902" y="2864"/>
                  </a:lnTo>
                  <a:lnTo>
                    <a:pt x="902" y="2848"/>
                  </a:lnTo>
                  <a:lnTo>
                    <a:pt x="902" y="2833"/>
                  </a:lnTo>
                  <a:lnTo>
                    <a:pt x="944" y="2839"/>
                  </a:lnTo>
                  <a:lnTo>
                    <a:pt x="982" y="2842"/>
                  </a:lnTo>
                  <a:lnTo>
                    <a:pt x="1017" y="2842"/>
                  </a:lnTo>
                  <a:lnTo>
                    <a:pt x="1050" y="2840"/>
                  </a:lnTo>
                  <a:lnTo>
                    <a:pt x="1079" y="2836"/>
                  </a:lnTo>
                  <a:lnTo>
                    <a:pt x="1106" y="2828"/>
                  </a:lnTo>
                  <a:lnTo>
                    <a:pt x="1131" y="2820"/>
                  </a:lnTo>
                  <a:lnTo>
                    <a:pt x="1154" y="2809"/>
                  </a:lnTo>
                  <a:lnTo>
                    <a:pt x="1175" y="2797"/>
                  </a:lnTo>
                  <a:lnTo>
                    <a:pt x="1195" y="2783"/>
                  </a:lnTo>
                  <a:lnTo>
                    <a:pt x="1212" y="2766"/>
                  </a:lnTo>
                  <a:lnTo>
                    <a:pt x="1228" y="2750"/>
                  </a:lnTo>
                  <a:lnTo>
                    <a:pt x="1244" y="2732"/>
                  </a:lnTo>
                  <a:lnTo>
                    <a:pt x="1258" y="2714"/>
                  </a:lnTo>
                  <a:lnTo>
                    <a:pt x="1272" y="2694"/>
                  </a:lnTo>
                  <a:lnTo>
                    <a:pt x="1285" y="2675"/>
                  </a:lnTo>
                  <a:lnTo>
                    <a:pt x="1310" y="2635"/>
                  </a:lnTo>
                  <a:lnTo>
                    <a:pt x="1335" y="2596"/>
                  </a:lnTo>
                  <a:lnTo>
                    <a:pt x="1348" y="2578"/>
                  </a:lnTo>
                  <a:lnTo>
                    <a:pt x="1361" y="2559"/>
                  </a:lnTo>
                  <a:lnTo>
                    <a:pt x="1377" y="2542"/>
                  </a:lnTo>
                  <a:lnTo>
                    <a:pt x="1392" y="2525"/>
                  </a:lnTo>
                  <a:lnTo>
                    <a:pt x="1408" y="2510"/>
                  </a:lnTo>
                  <a:lnTo>
                    <a:pt x="1427" y="2497"/>
                  </a:lnTo>
                  <a:lnTo>
                    <a:pt x="1446" y="2485"/>
                  </a:lnTo>
                  <a:lnTo>
                    <a:pt x="1467" y="2474"/>
                  </a:lnTo>
                  <a:lnTo>
                    <a:pt x="1490" y="2466"/>
                  </a:lnTo>
                  <a:lnTo>
                    <a:pt x="1516" y="2460"/>
                  </a:lnTo>
                  <a:lnTo>
                    <a:pt x="1543" y="2457"/>
                  </a:lnTo>
                  <a:lnTo>
                    <a:pt x="1574" y="2454"/>
                  </a:lnTo>
                  <a:lnTo>
                    <a:pt x="1574" y="2434"/>
                  </a:lnTo>
                  <a:lnTo>
                    <a:pt x="1559" y="2406"/>
                  </a:lnTo>
                  <a:lnTo>
                    <a:pt x="1547" y="2379"/>
                  </a:lnTo>
                  <a:lnTo>
                    <a:pt x="1536" y="2352"/>
                  </a:lnTo>
                  <a:lnTo>
                    <a:pt x="1527" y="2325"/>
                  </a:lnTo>
                  <a:lnTo>
                    <a:pt x="1511" y="2272"/>
                  </a:lnTo>
                  <a:lnTo>
                    <a:pt x="1497" y="2221"/>
                  </a:lnTo>
                  <a:lnTo>
                    <a:pt x="1490" y="2197"/>
                  </a:lnTo>
                  <a:lnTo>
                    <a:pt x="1482" y="2174"/>
                  </a:lnTo>
                  <a:lnTo>
                    <a:pt x="1474" y="2151"/>
                  </a:lnTo>
                  <a:lnTo>
                    <a:pt x="1464" y="2130"/>
                  </a:lnTo>
                  <a:lnTo>
                    <a:pt x="1458" y="2120"/>
                  </a:lnTo>
                  <a:lnTo>
                    <a:pt x="1453" y="2110"/>
                  </a:lnTo>
                  <a:lnTo>
                    <a:pt x="1446" y="2100"/>
                  </a:lnTo>
                  <a:lnTo>
                    <a:pt x="1440" y="2090"/>
                  </a:lnTo>
                  <a:lnTo>
                    <a:pt x="1432" y="2082"/>
                  </a:lnTo>
                  <a:lnTo>
                    <a:pt x="1423" y="2073"/>
                  </a:lnTo>
                  <a:lnTo>
                    <a:pt x="1415" y="2064"/>
                  </a:lnTo>
                  <a:lnTo>
                    <a:pt x="1406" y="2057"/>
                  </a:lnTo>
                  <a:lnTo>
                    <a:pt x="1420" y="2040"/>
                  </a:lnTo>
                  <a:lnTo>
                    <a:pt x="1432" y="2025"/>
                  </a:lnTo>
                  <a:lnTo>
                    <a:pt x="1443" y="2009"/>
                  </a:lnTo>
                  <a:lnTo>
                    <a:pt x="1451" y="1992"/>
                  </a:lnTo>
                  <a:lnTo>
                    <a:pt x="1458" y="1976"/>
                  </a:lnTo>
                  <a:lnTo>
                    <a:pt x="1464" y="1960"/>
                  </a:lnTo>
                  <a:lnTo>
                    <a:pt x="1468" y="1942"/>
                  </a:lnTo>
                  <a:lnTo>
                    <a:pt x="1471" y="1925"/>
                  </a:lnTo>
                  <a:lnTo>
                    <a:pt x="1476" y="1889"/>
                  </a:lnTo>
                  <a:lnTo>
                    <a:pt x="1479" y="1850"/>
                  </a:lnTo>
                  <a:lnTo>
                    <a:pt x="1483" y="1808"/>
                  </a:lnTo>
                  <a:lnTo>
                    <a:pt x="1490" y="1762"/>
                  </a:lnTo>
                  <a:lnTo>
                    <a:pt x="1493" y="1749"/>
                  </a:lnTo>
                  <a:lnTo>
                    <a:pt x="1499" y="1735"/>
                  </a:lnTo>
                  <a:lnTo>
                    <a:pt x="1504" y="1723"/>
                  </a:lnTo>
                  <a:lnTo>
                    <a:pt x="1509" y="1710"/>
                  </a:lnTo>
                  <a:lnTo>
                    <a:pt x="1516" y="1698"/>
                  </a:lnTo>
                  <a:lnTo>
                    <a:pt x="1523" y="1686"/>
                  </a:lnTo>
                  <a:lnTo>
                    <a:pt x="1530" y="1675"/>
                  </a:lnTo>
                  <a:lnTo>
                    <a:pt x="1538" y="1664"/>
                  </a:lnTo>
                  <a:lnTo>
                    <a:pt x="1554" y="1642"/>
                  </a:lnTo>
                  <a:lnTo>
                    <a:pt x="1572" y="1623"/>
                  </a:lnTo>
                  <a:lnTo>
                    <a:pt x="1590" y="1604"/>
                  </a:lnTo>
                  <a:lnTo>
                    <a:pt x="1610" y="1587"/>
                  </a:lnTo>
                  <a:lnTo>
                    <a:pt x="1629" y="1570"/>
                  </a:lnTo>
                  <a:lnTo>
                    <a:pt x="1650" y="1555"/>
                  </a:lnTo>
                  <a:lnTo>
                    <a:pt x="1670" y="1542"/>
                  </a:lnTo>
                  <a:lnTo>
                    <a:pt x="1690" y="1529"/>
                  </a:lnTo>
                  <a:lnTo>
                    <a:pt x="1729" y="1507"/>
                  </a:lnTo>
                  <a:lnTo>
                    <a:pt x="1762" y="1490"/>
                  </a:lnTo>
                  <a:lnTo>
                    <a:pt x="1762" y="776"/>
                  </a:lnTo>
                  <a:lnTo>
                    <a:pt x="420" y="0"/>
                  </a:lnTo>
                  <a:lnTo>
                    <a:pt x="398" y="1"/>
                  </a:lnTo>
                  <a:lnTo>
                    <a:pt x="379" y="3"/>
                  </a:lnTo>
                  <a:lnTo>
                    <a:pt x="363" y="6"/>
                  </a:lnTo>
                  <a:lnTo>
                    <a:pt x="349" y="11"/>
                  </a:lnTo>
                  <a:lnTo>
                    <a:pt x="336" y="14"/>
                  </a:lnTo>
                  <a:lnTo>
                    <a:pt x="322" y="17"/>
                  </a:lnTo>
                  <a:lnTo>
                    <a:pt x="309" y="19"/>
                  </a:lnTo>
                  <a:lnTo>
                    <a:pt x="293" y="20"/>
                  </a:lnTo>
                  <a:lnTo>
                    <a:pt x="285" y="30"/>
                  </a:lnTo>
                  <a:lnTo>
                    <a:pt x="265" y="52"/>
                  </a:lnTo>
                  <a:lnTo>
                    <a:pt x="255" y="64"/>
                  </a:lnTo>
                  <a:lnTo>
                    <a:pt x="250" y="74"/>
                  </a:lnTo>
                  <a:lnTo>
                    <a:pt x="247" y="78"/>
                  </a:lnTo>
                  <a:lnTo>
                    <a:pt x="247" y="82"/>
                  </a:lnTo>
                  <a:lnTo>
                    <a:pt x="249" y="83"/>
                  </a:lnTo>
                  <a:lnTo>
                    <a:pt x="252" y="84"/>
                  </a:lnTo>
                  <a:close/>
                </a:path>
              </a:pathLst>
            </a:custGeom>
            <a:solidFill>
              <a:srgbClr val="dede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Freeform 13"/>
            <p:cNvSpPr/>
            <p:nvPr/>
          </p:nvSpPr>
          <p:spPr>
            <a:xfrm>
              <a:off x="4433760" y="2546280"/>
              <a:ext cx="639360" cy="931680"/>
            </a:xfrm>
            <a:custGeom>
              <a:avLst/>
              <a:gdLst>
                <a:gd name="textAreaLeft" fmla="*/ 0 w 639360"/>
                <a:gd name="textAreaRight" fmla="*/ 639720 w 639360"/>
                <a:gd name="textAreaTop" fmla="*/ 0 h 931680"/>
                <a:gd name="textAreaBottom" fmla="*/ 932040 h 931680"/>
              </a:gdLst>
              <a:ahLst/>
              <a:rect l="textAreaLeft" t="textAreaTop" r="textAreaRight" b="textAreaBottom"/>
              <a:pathLst>
                <a:path w="1762" h="3105">
                  <a:moveTo>
                    <a:pt x="252" y="84"/>
                  </a:moveTo>
                  <a:lnTo>
                    <a:pt x="231" y="335"/>
                  </a:lnTo>
                  <a:lnTo>
                    <a:pt x="247" y="363"/>
                  </a:lnTo>
                  <a:lnTo>
                    <a:pt x="263" y="388"/>
                  </a:lnTo>
                  <a:lnTo>
                    <a:pt x="276" y="412"/>
                  </a:lnTo>
                  <a:lnTo>
                    <a:pt x="289" y="434"/>
                  </a:lnTo>
                  <a:lnTo>
                    <a:pt x="299" y="454"/>
                  </a:lnTo>
                  <a:lnTo>
                    <a:pt x="309" y="475"/>
                  </a:lnTo>
                  <a:lnTo>
                    <a:pt x="316" y="494"/>
                  </a:lnTo>
                  <a:lnTo>
                    <a:pt x="324" y="511"/>
                  </a:lnTo>
                  <a:lnTo>
                    <a:pt x="329" y="527"/>
                  </a:lnTo>
                  <a:lnTo>
                    <a:pt x="334" y="543"/>
                  </a:lnTo>
                  <a:lnTo>
                    <a:pt x="337" y="557"/>
                  </a:lnTo>
                  <a:lnTo>
                    <a:pt x="340" y="571"/>
                  </a:lnTo>
                  <a:lnTo>
                    <a:pt x="342" y="584"/>
                  </a:lnTo>
                  <a:lnTo>
                    <a:pt x="343" y="596"/>
                  </a:lnTo>
                  <a:lnTo>
                    <a:pt x="343" y="608"/>
                  </a:lnTo>
                  <a:lnTo>
                    <a:pt x="343" y="619"/>
                  </a:lnTo>
                  <a:lnTo>
                    <a:pt x="341" y="640"/>
                  </a:lnTo>
                  <a:lnTo>
                    <a:pt x="338" y="659"/>
                  </a:lnTo>
                  <a:lnTo>
                    <a:pt x="334" y="678"/>
                  </a:lnTo>
                  <a:lnTo>
                    <a:pt x="328" y="695"/>
                  </a:lnTo>
                  <a:lnTo>
                    <a:pt x="323" y="714"/>
                  </a:lnTo>
                  <a:lnTo>
                    <a:pt x="318" y="733"/>
                  </a:lnTo>
                  <a:lnTo>
                    <a:pt x="316" y="754"/>
                  </a:lnTo>
                  <a:lnTo>
                    <a:pt x="315" y="776"/>
                  </a:lnTo>
                  <a:lnTo>
                    <a:pt x="316" y="912"/>
                  </a:lnTo>
                  <a:lnTo>
                    <a:pt x="318" y="1023"/>
                  </a:lnTo>
                  <a:lnTo>
                    <a:pt x="318" y="1072"/>
                  </a:lnTo>
                  <a:lnTo>
                    <a:pt x="317" y="1116"/>
                  </a:lnTo>
                  <a:lnTo>
                    <a:pt x="316" y="1137"/>
                  </a:lnTo>
                  <a:lnTo>
                    <a:pt x="314" y="1157"/>
                  </a:lnTo>
                  <a:lnTo>
                    <a:pt x="312" y="1177"/>
                  </a:lnTo>
                  <a:lnTo>
                    <a:pt x="310" y="1196"/>
                  </a:lnTo>
                  <a:lnTo>
                    <a:pt x="306" y="1214"/>
                  </a:lnTo>
                  <a:lnTo>
                    <a:pt x="302" y="1233"/>
                  </a:lnTo>
                  <a:lnTo>
                    <a:pt x="298" y="1250"/>
                  </a:lnTo>
                  <a:lnTo>
                    <a:pt x="292" y="1267"/>
                  </a:lnTo>
                  <a:lnTo>
                    <a:pt x="286" y="1285"/>
                  </a:lnTo>
                  <a:lnTo>
                    <a:pt x="279" y="1302"/>
                  </a:lnTo>
                  <a:lnTo>
                    <a:pt x="270" y="1320"/>
                  </a:lnTo>
                  <a:lnTo>
                    <a:pt x="262" y="1337"/>
                  </a:lnTo>
                  <a:lnTo>
                    <a:pt x="251" y="1355"/>
                  </a:lnTo>
                  <a:lnTo>
                    <a:pt x="240" y="1372"/>
                  </a:lnTo>
                  <a:lnTo>
                    <a:pt x="228" y="1391"/>
                  </a:lnTo>
                  <a:lnTo>
                    <a:pt x="214" y="1409"/>
                  </a:lnTo>
                  <a:lnTo>
                    <a:pt x="200" y="1428"/>
                  </a:lnTo>
                  <a:lnTo>
                    <a:pt x="183" y="1448"/>
                  </a:lnTo>
                  <a:lnTo>
                    <a:pt x="166" y="1468"/>
                  </a:lnTo>
                  <a:lnTo>
                    <a:pt x="147" y="1490"/>
                  </a:lnTo>
                  <a:lnTo>
                    <a:pt x="135" y="1502"/>
                  </a:lnTo>
                  <a:lnTo>
                    <a:pt x="124" y="1515"/>
                  </a:lnTo>
                  <a:lnTo>
                    <a:pt x="115" y="1529"/>
                  </a:lnTo>
                  <a:lnTo>
                    <a:pt x="106" y="1543"/>
                  </a:lnTo>
                  <a:lnTo>
                    <a:pt x="97" y="1557"/>
                  </a:lnTo>
                  <a:lnTo>
                    <a:pt x="89" y="1574"/>
                  </a:lnTo>
                  <a:lnTo>
                    <a:pt x="83" y="1589"/>
                  </a:lnTo>
                  <a:lnTo>
                    <a:pt x="76" y="1605"/>
                  </a:lnTo>
                  <a:lnTo>
                    <a:pt x="65" y="1638"/>
                  </a:lnTo>
                  <a:lnTo>
                    <a:pt x="56" y="1672"/>
                  </a:lnTo>
                  <a:lnTo>
                    <a:pt x="48" y="1706"/>
                  </a:lnTo>
                  <a:lnTo>
                    <a:pt x="42" y="1738"/>
                  </a:lnTo>
                  <a:lnTo>
                    <a:pt x="32" y="1800"/>
                  </a:lnTo>
                  <a:lnTo>
                    <a:pt x="23" y="1853"/>
                  </a:lnTo>
                  <a:lnTo>
                    <a:pt x="19" y="1873"/>
                  </a:lnTo>
                  <a:lnTo>
                    <a:pt x="13" y="1890"/>
                  </a:lnTo>
                  <a:lnTo>
                    <a:pt x="10" y="1897"/>
                  </a:lnTo>
                  <a:lnTo>
                    <a:pt x="7" y="1903"/>
                  </a:lnTo>
                  <a:lnTo>
                    <a:pt x="3" y="1906"/>
                  </a:lnTo>
                  <a:lnTo>
                    <a:pt x="0" y="1909"/>
                  </a:lnTo>
                  <a:lnTo>
                    <a:pt x="15" y="1931"/>
                  </a:lnTo>
                  <a:lnTo>
                    <a:pt x="31" y="1950"/>
                  </a:lnTo>
                  <a:lnTo>
                    <a:pt x="45" y="1966"/>
                  </a:lnTo>
                  <a:lnTo>
                    <a:pt x="58" y="1980"/>
                  </a:lnTo>
                  <a:lnTo>
                    <a:pt x="69" y="1993"/>
                  </a:lnTo>
                  <a:lnTo>
                    <a:pt x="76" y="2006"/>
                  </a:lnTo>
                  <a:lnTo>
                    <a:pt x="80" y="2013"/>
                  </a:lnTo>
                  <a:lnTo>
                    <a:pt x="82" y="2021"/>
                  </a:lnTo>
                  <a:lnTo>
                    <a:pt x="83" y="2027"/>
                  </a:lnTo>
                  <a:lnTo>
                    <a:pt x="84" y="2035"/>
                  </a:lnTo>
                  <a:lnTo>
                    <a:pt x="87" y="2037"/>
                  </a:lnTo>
                  <a:lnTo>
                    <a:pt x="98" y="2041"/>
                  </a:lnTo>
                  <a:lnTo>
                    <a:pt x="115" y="2049"/>
                  </a:lnTo>
                  <a:lnTo>
                    <a:pt x="136" y="2057"/>
                  </a:lnTo>
                  <a:lnTo>
                    <a:pt x="161" y="2064"/>
                  </a:lnTo>
                  <a:lnTo>
                    <a:pt x="190" y="2071"/>
                  </a:lnTo>
                  <a:lnTo>
                    <a:pt x="205" y="2073"/>
                  </a:lnTo>
                  <a:lnTo>
                    <a:pt x="220" y="2075"/>
                  </a:lnTo>
                  <a:lnTo>
                    <a:pt x="235" y="2076"/>
                  </a:lnTo>
                  <a:lnTo>
                    <a:pt x="252" y="2077"/>
                  </a:lnTo>
                  <a:lnTo>
                    <a:pt x="249" y="2082"/>
                  </a:lnTo>
                  <a:lnTo>
                    <a:pt x="245" y="2086"/>
                  </a:lnTo>
                  <a:lnTo>
                    <a:pt x="244" y="2091"/>
                  </a:lnTo>
                  <a:lnTo>
                    <a:pt x="243" y="2097"/>
                  </a:lnTo>
                  <a:lnTo>
                    <a:pt x="242" y="2110"/>
                  </a:lnTo>
                  <a:lnTo>
                    <a:pt x="244" y="2124"/>
                  </a:lnTo>
                  <a:lnTo>
                    <a:pt x="246" y="2141"/>
                  </a:lnTo>
                  <a:lnTo>
                    <a:pt x="249" y="2160"/>
                  </a:lnTo>
                  <a:lnTo>
                    <a:pt x="251" y="2181"/>
                  </a:lnTo>
                  <a:lnTo>
                    <a:pt x="252" y="2203"/>
                  </a:lnTo>
                  <a:lnTo>
                    <a:pt x="252" y="2234"/>
                  </a:lnTo>
                  <a:lnTo>
                    <a:pt x="254" y="2267"/>
                  </a:lnTo>
                  <a:lnTo>
                    <a:pt x="256" y="2299"/>
                  </a:lnTo>
                  <a:lnTo>
                    <a:pt x="259" y="2330"/>
                  </a:lnTo>
                  <a:lnTo>
                    <a:pt x="263" y="2362"/>
                  </a:lnTo>
                  <a:lnTo>
                    <a:pt x="268" y="2392"/>
                  </a:lnTo>
                  <a:lnTo>
                    <a:pt x="274" y="2422"/>
                  </a:lnTo>
                  <a:lnTo>
                    <a:pt x="280" y="2450"/>
                  </a:lnTo>
                  <a:lnTo>
                    <a:pt x="288" y="2476"/>
                  </a:lnTo>
                  <a:lnTo>
                    <a:pt x="295" y="2501"/>
                  </a:lnTo>
                  <a:lnTo>
                    <a:pt x="304" y="2524"/>
                  </a:lnTo>
                  <a:lnTo>
                    <a:pt x="314" y="2545"/>
                  </a:lnTo>
                  <a:lnTo>
                    <a:pt x="324" y="2563"/>
                  </a:lnTo>
                  <a:lnTo>
                    <a:pt x="334" y="2580"/>
                  </a:lnTo>
                  <a:lnTo>
                    <a:pt x="339" y="2586"/>
                  </a:lnTo>
                  <a:lnTo>
                    <a:pt x="344" y="2592"/>
                  </a:lnTo>
                  <a:lnTo>
                    <a:pt x="351" y="2597"/>
                  </a:lnTo>
                  <a:lnTo>
                    <a:pt x="356" y="2602"/>
                  </a:lnTo>
                  <a:lnTo>
                    <a:pt x="335" y="2601"/>
                  </a:lnTo>
                  <a:lnTo>
                    <a:pt x="303" y="2596"/>
                  </a:lnTo>
                  <a:lnTo>
                    <a:pt x="265" y="2593"/>
                  </a:lnTo>
                  <a:lnTo>
                    <a:pt x="226" y="2591"/>
                  </a:lnTo>
                  <a:lnTo>
                    <a:pt x="206" y="2592"/>
                  </a:lnTo>
                  <a:lnTo>
                    <a:pt x="188" y="2594"/>
                  </a:lnTo>
                  <a:lnTo>
                    <a:pt x="171" y="2597"/>
                  </a:lnTo>
                  <a:lnTo>
                    <a:pt x="156" y="2602"/>
                  </a:lnTo>
                  <a:lnTo>
                    <a:pt x="149" y="2605"/>
                  </a:lnTo>
                  <a:lnTo>
                    <a:pt x="143" y="2608"/>
                  </a:lnTo>
                  <a:lnTo>
                    <a:pt x="138" y="2613"/>
                  </a:lnTo>
                  <a:lnTo>
                    <a:pt x="134" y="2618"/>
                  </a:lnTo>
                  <a:lnTo>
                    <a:pt x="131" y="2623"/>
                  </a:lnTo>
                  <a:lnTo>
                    <a:pt x="128" y="2629"/>
                  </a:lnTo>
                  <a:lnTo>
                    <a:pt x="127" y="2636"/>
                  </a:lnTo>
                  <a:lnTo>
                    <a:pt x="125" y="2644"/>
                  </a:lnTo>
                  <a:lnTo>
                    <a:pt x="127" y="2663"/>
                  </a:lnTo>
                  <a:lnTo>
                    <a:pt x="128" y="2681"/>
                  </a:lnTo>
                  <a:lnTo>
                    <a:pt x="131" y="2698"/>
                  </a:lnTo>
                  <a:lnTo>
                    <a:pt x="135" y="2714"/>
                  </a:lnTo>
                  <a:lnTo>
                    <a:pt x="140" y="2728"/>
                  </a:lnTo>
                  <a:lnTo>
                    <a:pt x="145" y="2742"/>
                  </a:lnTo>
                  <a:lnTo>
                    <a:pt x="152" y="2756"/>
                  </a:lnTo>
                  <a:lnTo>
                    <a:pt x="158" y="2769"/>
                  </a:lnTo>
                  <a:lnTo>
                    <a:pt x="166" y="2781"/>
                  </a:lnTo>
                  <a:lnTo>
                    <a:pt x="174" y="2793"/>
                  </a:lnTo>
                  <a:lnTo>
                    <a:pt x="183" y="2804"/>
                  </a:lnTo>
                  <a:lnTo>
                    <a:pt x="192" y="2815"/>
                  </a:lnTo>
                  <a:lnTo>
                    <a:pt x="212" y="2837"/>
                  </a:lnTo>
                  <a:lnTo>
                    <a:pt x="231" y="2859"/>
                  </a:lnTo>
                  <a:lnTo>
                    <a:pt x="250" y="2881"/>
                  </a:lnTo>
                  <a:lnTo>
                    <a:pt x="269" y="2904"/>
                  </a:lnTo>
                  <a:lnTo>
                    <a:pt x="278" y="2917"/>
                  </a:lnTo>
                  <a:lnTo>
                    <a:pt x="287" y="2929"/>
                  </a:lnTo>
                  <a:lnTo>
                    <a:pt x="295" y="2943"/>
                  </a:lnTo>
                  <a:lnTo>
                    <a:pt x="303" y="2957"/>
                  </a:lnTo>
                  <a:lnTo>
                    <a:pt x="310" y="2971"/>
                  </a:lnTo>
                  <a:lnTo>
                    <a:pt x="316" y="2987"/>
                  </a:lnTo>
                  <a:lnTo>
                    <a:pt x="322" y="3004"/>
                  </a:lnTo>
                  <a:lnTo>
                    <a:pt x="327" y="3021"/>
                  </a:lnTo>
                  <a:lnTo>
                    <a:pt x="330" y="3041"/>
                  </a:lnTo>
                  <a:lnTo>
                    <a:pt x="334" y="3060"/>
                  </a:lnTo>
                  <a:lnTo>
                    <a:pt x="335" y="3082"/>
                  </a:lnTo>
                  <a:lnTo>
                    <a:pt x="336" y="3105"/>
                  </a:lnTo>
                  <a:lnTo>
                    <a:pt x="483" y="3105"/>
                  </a:lnTo>
                  <a:lnTo>
                    <a:pt x="498" y="3098"/>
                  </a:lnTo>
                  <a:lnTo>
                    <a:pt x="514" y="3091"/>
                  </a:lnTo>
                  <a:lnTo>
                    <a:pt x="532" y="3086"/>
                  </a:lnTo>
                  <a:lnTo>
                    <a:pt x="548" y="3080"/>
                  </a:lnTo>
                  <a:lnTo>
                    <a:pt x="583" y="3071"/>
                  </a:lnTo>
                  <a:lnTo>
                    <a:pt x="619" y="3064"/>
                  </a:lnTo>
                  <a:lnTo>
                    <a:pt x="689" y="3052"/>
                  </a:lnTo>
                  <a:lnTo>
                    <a:pt x="755" y="3040"/>
                  </a:lnTo>
                  <a:lnTo>
                    <a:pt x="771" y="3037"/>
                  </a:lnTo>
                  <a:lnTo>
                    <a:pt x="786" y="3032"/>
                  </a:lnTo>
                  <a:lnTo>
                    <a:pt x="800" y="3028"/>
                  </a:lnTo>
                  <a:lnTo>
                    <a:pt x="813" y="3022"/>
                  </a:lnTo>
                  <a:lnTo>
                    <a:pt x="826" y="3017"/>
                  </a:lnTo>
                  <a:lnTo>
                    <a:pt x="838" y="3011"/>
                  </a:lnTo>
                  <a:lnTo>
                    <a:pt x="850" y="3004"/>
                  </a:lnTo>
                  <a:lnTo>
                    <a:pt x="860" y="2996"/>
                  </a:lnTo>
                  <a:lnTo>
                    <a:pt x="870" y="2987"/>
                  </a:lnTo>
                  <a:lnTo>
                    <a:pt x="877" y="2978"/>
                  </a:lnTo>
                  <a:lnTo>
                    <a:pt x="885" y="2967"/>
                  </a:lnTo>
                  <a:lnTo>
                    <a:pt x="890" y="2955"/>
                  </a:lnTo>
                  <a:lnTo>
                    <a:pt x="896" y="2943"/>
                  </a:lnTo>
                  <a:lnTo>
                    <a:pt x="899" y="2928"/>
                  </a:lnTo>
                  <a:lnTo>
                    <a:pt x="901" y="2912"/>
                  </a:lnTo>
                  <a:lnTo>
                    <a:pt x="902" y="2896"/>
                  </a:lnTo>
                  <a:lnTo>
                    <a:pt x="902" y="2880"/>
                  </a:lnTo>
                  <a:lnTo>
                    <a:pt x="902" y="2864"/>
                  </a:lnTo>
                  <a:lnTo>
                    <a:pt x="902" y="2848"/>
                  </a:lnTo>
                  <a:lnTo>
                    <a:pt x="902" y="2833"/>
                  </a:lnTo>
                  <a:lnTo>
                    <a:pt x="944" y="2839"/>
                  </a:lnTo>
                  <a:lnTo>
                    <a:pt x="982" y="2842"/>
                  </a:lnTo>
                  <a:lnTo>
                    <a:pt x="1017" y="2842"/>
                  </a:lnTo>
                  <a:lnTo>
                    <a:pt x="1050" y="2840"/>
                  </a:lnTo>
                  <a:lnTo>
                    <a:pt x="1079" y="2836"/>
                  </a:lnTo>
                  <a:lnTo>
                    <a:pt x="1106" y="2828"/>
                  </a:lnTo>
                  <a:lnTo>
                    <a:pt x="1131" y="2820"/>
                  </a:lnTo>
                  <a:lnTo>
                    <a:pt x="1154" y="2809"/>
                  </a:lnTo>
                  <a:lnTo>
                    <a:pt x="1175" y="2797"/>
                  </a:lnTo>
                  <a:lnTo>
                    <a:pt x="1195" y="2783"/>
                  </a:lnTo>
                  <a:lnTo>
                    <a:pt x="1212" y="2766"/>
                  </a:lnTo>
                  <a:lnTo>
                    <a:pt x="1228" y="2750"/>
                  </a:lnTo>
                  <a:lnTo>
                    <a:pt x="1244" y="2732"/>
                  </a:lnTo>
                  <a:lnTo>
                    <a:pt x="1258" y="2714"/>
                  </a:lnTo>
                  <a:lnTo>
                    <a:pt x="1272" y="2694"/>
                  </a:lnTo>
                  <a:lnTo>
                    <a:pt x="1285" y="2675"/>
                  </a:lnTo>
                  <a:lnTo>
                    <a:pt x="1310" y="2635"/>
                  </a:lnTo>
                  <a:lnTo>
                    <a:pt x="1335" y="2596"/>
                  </a:lnTo>
                  <a:lnTo>
                    <a:pt x="1348" y="2578"/>
                  </a:lnTo>
                  <a:lnTo>
                    <a:pt x="1361" y="2559"/>
                  </a:lnTo>
                  <a:lnTo>
                    <a:pt x="1377" y="2542"/>
                  </a:lnTo>
                  <a:lnTo>
                    <a:pt x="1392" y="2525"/>
                  </a:lnTo>
                  <a:lnTo>
                    <a:pt x="1408" y="2510"/>
                  </a:lnTo>
                  <a:lnTo>
                    <a:pt x="1427" y="2497"/>
                  </a:lnTo>
                  <a:lnTo>
                    <a:pt x="1446" y="2485"/>
                  </a:lnTo>
                  <a:lnTo>
                    <a:pt x="1467" y="2474"/>
                  </a:lnTo>
                  <a:lnTo>
                    <a:pt x="1490" y="2466"/>
                  </a:lnTo>
                  <a:lnTo>
                    <a:pt x="1516" y="2460"/>
                  </a:lnTo>
                  <a:lnTo>
                    <a:pt x="1543" y="2457"/>
                  </a:lnTo>
                  <a:lnTo>
                    <a:pt x="1574" y="2454"/>
                  </a:lnTo>
                  <a:lnTo>
                    <a:pt x="1574" y="2434"/>
                  </a:lnTo>
                  <a:lnTo>
                    <a:pt x="1559" y="2406"/>
                  </a:lnTo>
                  <a:lnTo>
                    <a:pt x="1547" y="2379"/>
                  </a:lnTo>
                  <a:lnTo>
                    <a:pt x="1536" y="2352"/>
                  </a:lnTo>
                  <a:lnTo>
                    <a:pt x="1527" y="2325"/>
                  </a:lnTo>
                  <a:lnTo>
                    <a:pt x="1511" y="2272"/>
                  </a:lnTo>
                  <a:lnTo>
                    <a:pt x="1497" y="2221"/>
                  </a:lnTo>
                  <a:lnTo>
                    <a:pt x="1490" y="2197"/>
                  </a:lnTo>
                  <a:lnTo>
                    <a:pt x="1482" y="2174"/>
                  </a:lnTo>
                  <a:lnTo>
                    <a:pt x="1474" y="2151"/>
                  </a:lnTo>
                  <a:lnTo>
                    <a:pt x="1464" y="2130"/>
                  </a:lnTo>
                  <a:lnTo>
                    <a:pt x="1458" y="2120"/>
                  </a:lnTo>
                  <a:lnTo>
                    <a:pt x="1453" y="2110"/>
                  </a:lnTo>
                  <a:lnTo>
                    <a:pt x="1446" y="2100"/>
                  </a:lnTo>
                  <a:lnTo>
                    <a:pt x="1440" y="2090"/>
                  </a:lnTo>
                  <a:lnTo>
                    <a:pt x="1432" y="2082"/>
                  </a:lnTo>
                  <a:lnTo>
                    <a:pt x="1423" y="2073"/>
                  </a:lnTo>
                  <a:lnTo>
                    <a:pt x="1415" y="2064"/>
                  </a:lnTo>
                  <a:lnTo>
                    <a:pt x="1406" y="2057"/>
                  </a:lnTo>
                  <a:lnTo>
                    <a:pt x="1420" y="2040"/>
                  </a:lnTo>
                  <a:lnTo>
                    <a:pt x="1432" y="2025"/>
                  </a:lnTo>
                  <a:lnTo>
                    <a:pt x="1443" y="2009"/>
                  </a:lnTo>
                  <a:lnTo>
                    <a:pt x="1451" y="1992"/>
                  </a:lnTo>
                  <a:lnTo>
                    <a:pt x="1458" y="1976"/>
                  </a:lnTo>
                  <a:lnTo>
                    <a:pt x="1464" y="1960"/>
                  </a:lnTo>
                  <a:lnTo>
                    <a:pt x="1468" y="1942"/>
                  </a:lnTo>
                  <a:lnTo>
                    <a:pt x="1471" y="1925"/>
                  </a:lnTo>
                  <a:lnTo>
                    <a:pt x="1476" y="1889"/>
                  </a:lnTo>
                  <a:lnTo>
                    <a:pt x="1479" y="1850"/>
                  </a:lnTo>
                  <a:lnTo>
                    <a:pt x="1483" y="1808"/>
                  </a:lnTo>
                  <a:lnTo>
                    <a:pt x="1490" y="1762"/>
                  </a:lnTo>
                  <a:lnTo>
                    <a:pt x="1493" y="1749"/>
                  </a:lnTo>
                  <a:lnTo>
                    <a:pt x="1499" y="1735"/>
                  </a:lnTo>
                  <a:lnTo>
                    <a:pt x="1504" y="1723"/>
                  </a:lnTo>
                  <a:lnTo>
                    <a:pt x="1509" y="1710"/>
                  </a:lnTo>
                  <a:lnTo>
                    <a:pt x="1516" y="1698"/>
                  </a:lnTo>
                  <a:lnTo>
                    <a:pt x="1523" y="1686"/>
                  </a:lnTo>
                  <a:lnTo>
                    <a:pt x="1530" y="1675"/>
                  </a:lnTo>
                  <a:lnTo>
                    <a:pt x="1538" y="1664"/>
                  </a:lnTo>
                  <a:lnTo>
                    <a:pt x="1554" y="1642"/>
                  </a:lnTo>
                  <a:lnTo>
                    <a:pt x="1572" y="1623"/>
                  </a:lnTo>
                  <a:lnTo>
                    <a:pt x="1590" y="1604"/>
                  </a:lnTo>
                  <a:lnTo>
                    <a:pt x="1610" y="1587"/>
                  </a:lnTo>
                  <a:lnTo>
                    <a:pt x="1629" y="1570"/>
                  </a:lnTo>
                  <a:lnTo>
                    <a:pt x="1650" y="1555"/>
                  </a:lnTo>
                  <a:lnTo>
                    <a:pt x="1670" y="1542"/>
                  </a:lnTo>
                  <a:lnTo>
                    <a:pt x="1690" y="1529"/>
                  </a:lnTo>
                  <a:lnTo>
                    <a:pt x="1729" y="1507"/>
                  </a:lnTo>
                  <a:lnTo>
                    <a:pt x="1762" y="1490"/>
                  </a:lnTo>
                  <a:lnTo>
                    <a:pt x="1762" y="776"/>
                  </a:lnTo>
                  <a:lnTo>
                    <a:pt x="420" y="0"/>
                  </a:lnTo>
                  <a:lnTo>
                    <a:pt x="398" y="1"/>
                  </a:lnTo>
                  <a:lnTo>
                    <a:pt x="379" y="3"/>
                  </a:lnTo>
                  <a:lnTo>
                    <a:pt x="363" y="6"/>
                  </a:lnTo>
                  <a:lnTo>
                    <a:pt x="349" y="11"/>
                  </a:lnTo>
                  <a:lnTo>
                    <a:pt x="336" y="14"/>
                  </a:lnTo>
                  <a:lnTo>
                    <a:pt x="322" y="17"/>
                  </a:lnTo>
                  <a:lnTo>
                    <a:pt x="309" y="19"/>
                  </a:lnTo>
                  <a:lnTo>
                    <a:pt x="293" y="20"/>
                  </a:lnTo>
                  <a:lnTo>
                    <a:pt x="285" y="30"/>
                  </a:lnTo>
                  <a:lnTo>
                    <a:pt x="265" y="52"/>
                  </a:lnTo>
                  <a:lnTo>
                    <a:pt x="255" y="64"/>
                  </a:lnTo>
                  <a:lnTo>
                    <a:pt x="250" y="74"/>
                  </a:lnTo>
                  <a:lnTo>
                    <a:pt x="247" y="78"/>
                  </a:lnTo>
                  <a:lnTo>
                    <a:pt x="247" y="82"/>
                  </a:lnTo>
                  <a:lnTo>
                    <a:pt x="249" y="83"/>
                  </a:lnTo>
                  <a:lnTo>
                    <a:pt x="252" y="84"/>
                  </a:lnTo>
                </a:path>
              </a:pathLst>
            </a:custGeom>
            <a:noFill/>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Freeform 16"/>
            <p:cNvSpPr/>
            <p:nvPr/>
          </p:nvSpPr>
          <p:spPr>
            <a:xfrm>
              <a:off x="2533680" y="3179520"/>
              <a:ext cx="200160" cy="109440"/>
            </a:xfrm>
            <a:custGeom>
              <a:avLst/>
              <a:gdLst>
                <a:gd name="textAreaLeft" fmla="*/ 0 w 200160"/>
                <a:gd name="textAreaRight" fmla="*/ 200520 w 200160"/>
                <a:gd name="textAreaTop" fmla="*/ 0 h 109440"/>
                <a:gd name="textAreaBottom" fmla="*/ 109800 h 109440"/>
              </a:gdLst>
              <a:ahLst/>
              <a:rect l="textAreaLeft" t="textAreaTop" r="textAreaRight" b="textAreaBottom"/>
              <a:pathLst>
                <a:path w="546" h="365">
                  <a:moveTo>
                    <a:pt x="546" y="30"/>
                  </a:moveTo>
                  <a:lnTo>
                    <a:pt x="533" y="52"/>
                  </a:lnTo>
                  <a:lnTo>
                    <a:pt x="520" y="76"/>
                  </a:lnTo>
                  <a:lnTo>
                    <a:pt x="506" y="99"/>
                  </a:lnTo>
                  <a:lnTo>
                    <a:pt x="490" y="123"/>
                  </a:lnTo>
                  <a:lnTo>
                    <a:pt x="475" y="146"/>
                  </a:lnTo>
                  <a:lnTo>
                    <a:pt x="458" y="169"/>
                  </a:lnTo>
                  <a:lnTo>
                    <a:pt x="440" y="191"/>
                  </a:lnTo>
                  <a:lnTo>
                    <a:pt x="423" y="213"/>
                  </a:lnTo>
                  <a:lnTo>
                    <a:pt x="403" y="234"/>
                  </a:lnTo>
                  <a:lnTo>
                    <a:pt x="383" y="255"/>
                  </a:lnTo>
                  <a:lnTo>
                    <a:pt x="363" y="275"/>
                  </a:lnTo>
                  <a:lnTo>
                    <a:pt x="342" y="294"/>
                  </a:lnTo>
                  <a:lnTo>
                    <a:pt x="320" y="313"/>
                  </a:lnTo>
                  <a:lnTo>
                    <a:pt x="298" y="331"/>
                  </a:lnTo>
                  <a:lnTo>
                    <a:pt x="276" y="349"/>
                  </a:lnTo>
                  <a:lnTo>
                    <a:pt x="252" y="365"/>
                  </a:lnTo>
                  <a:lnTo>
                    <a:pt x="244" y="353"/>
                  </a:lnTo>
                  <a:lnTo>
                    <a:pt x="237" y="341"/>
                  </a:lnTo>
                  <a:lnTo>
                    <a:pt x="232" y="329"/>
                  </a:lnTo>
                  <a:lnTo>
                    <a:pt x="227" y="318"/>
                  </a:lnTo>
                  <a:lnTo>
                    <a:pt x="218" y="295"/>
                  </a:lnTo>
                  <a:lnTo>
                    <a:pt x="210" y="273"/>
                  </a:lnTo>
                  <a:lnTo>
                    <a:pt x="201" y="252"/>
                  </a:lnTo>
                  <a:lnTo>
                    <a:pt x="193" y="232"/>
                  </a:lnTo>
                  <a:lnTo>
                    <a:pt x="187" y="222"/>
                  </a:lnTo>
                  <a:lnTo>
                    <a:pt x="182" y="214"/>
                  </a:lnTo>
                  <a:lnTo>
                    <a:pt x="175" y="205"/>
                  </a:lnTo>
                  <a:lnTo>
                    <a:pt x="168" y="197"/>
                  </a:lnTo>
                  <a:lnTo>
                    <a:pt x="122" y="152"/>
                  </a:lnTo>
                  <a:lnTo>
                    <a:pt x="91" y="121"/>
                  </a:lnTo>
                  <a:lnTo>
                    <a:pt x="72" y="104"/>
                  </a:lnTo>
                  <a:lnTo>
                    <a:pt x="60" y="95"/>
                  </a:lnTo>
                  <a:lnTo>
                    <a:pt x="51" y="91"/>
                  </a:lnTo>
                  <a:lnTo>
                    <a:pt x="41" y="87"/>
                  </a:lnTo>
                  <a:lnTo>
                    <a:pt x="25" y="83"/>
                  </a:lnTo>
                  <a:lnTo>
                    <a:pt x="0" y="71"/>
                  </a:lnTo>
                  <a:lnTo>
                    <a:pt x="63" y="50"/>
                  </a:lnTo>
                  <a:lnTo>
                    <a:pt x="84" y="39"/>
                  </a:lnTo>
                  <a:lnTo>
                    <a:pt x="106" y="30"/>
                  </a:lnTo>
                  <a:lnTo>
                    <a:pt x="128" y="21"/>
                  </a:lnTo>
                  <a:lnTo>
                    <a:pt x="154" y="14"/>
                  </a:lnTo>
                  <a:lnTo>
                    <a:pt x="179" y="9"/>
                  </a:lnTo>
                  <a:lnTo>
                    <a:pt x="207" y="4"/>
                  </a:lnTo>
                  <a:lnTo>
                    <a:pt x="235" y="2"/>
                  </a:lnTo>
                  <a:lnTo>
                    <a:pt x="265" y="0"/>
                  </a:lnTo>
                  <a:lnTo>
                    <a:pt x="296" y="0"/>
                  </a:lnTo>
                  <a:lnTo>
                    <a:pt x="328" y="1"/>
                  </a:lnTo>
                  <a:lnTo>
                    <a:pt x="362" y="2"/>
                  </a:lnTo>
                  <a:lnTo>
                    <a:pt x="397" y="6"/>
                  </a:lnTo>
                  <a:lnTo>
                    <a:pt x="433" y="10"/>
                  </a:lnTo>
                  <a:lnTo>
                    <a:pt x="468" y="15"/>
                  </a:lnTo>
                  <a:lnTo>
                    <a:pt x="507" y="22"/>
                  </a:lnTo>
                  <a:lnTo>
                    <a:pt x="546" y="30"/>
                  </a:lnTo>
                  <a:close/>
                </a:path>
              </a:pathLst>
            </a:custGeom>
            <a:solidFill>
              <a:srgbClr val="dede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Freeform 22"/>
            <p:cNvSpPr/>
            <p:nvPr/>
          </p:nvSpPr>
          <p:spPr>
            <a:xfrm>
              <a:off x="2520360" y="3119040"/>
              <a:ext cx="204120" cy="38160"/>
            </a:xfrm>
            <a:custGeom>
              <a:avLst/>
              <a:gdLst>
                <a:gd name="textAreaLeft" fmla="*/ 0 w 204120"/>
                <a:gd name="textAreaRight" fmla="*/ 204480 w 204120"/>
                <a:gd name="textAreaTop" fmla="*/ 0 h 38160"/>
                <a:gd name="textAreaBottom" fmla="*/ 38520 h 38160"/>
              </a:gdLst>
              <a:ahLst/>
              <a:rect l="textAreaLeft" t="textAreaTop" r="textAreaRight" b="textAreaBottom"/>
              <a:pathLst>
                <a:path w="566" h="126">
                  <a:moveTo>
                    <a:pt x="0" y="64"/>
                  </a:moveTo>
                  <a:lnTo>
                    <a:pt x="53" y="48"/>
                  </a:lnTo>
                  <a:lnTo>
                    <a:pt x="101" y="35"/>
                  </a:lnTo>
                  <a:lnTo>
                    <a:pt x="145" y="24"/>
                  </a:lnTo>
                  <a:lnTo>
                    <a:pt x="189" y="16"/>
                  </a:lnTo>
                  <a:lnTo>
                    <a:pt x="233" y="9"/>
                  </a:lnTo>
                  <a:lnTo>
                    <a:pt x="277" y="4"/>
                  </a:lnTo>
                  <a:lnTo>
                    <a:pt x="325" y="2"/>
                  </a:lnTo>
                  <a:lnTo>
                    <a:pt x="378" y="0"/>
                  </a:lnTo>
                  <a:lnTo>
                    <a:pt x="416" y="0"/>
                  </a:lnTo>
                  <a:lnTo>
                    <a:pt x="452" y="2"/>
                  </a:lnTo>
                  <a:lnTo>
                    <a:pt x="468" y="3"/>
                  </a:lnTo>
                  <a:lnTo>
                    <a:pt x="483" y="5"/>
                  </a:lnTo>
                  <a:lnTo>
                    <a:pt x="498" y="7"/>
                  </a:lnTo>
                  <a:lnTo>
                    <a:pt x="512" y="10"/>
                  </a:lnTo>
                  <a:lnTo>
                    <a:pt x="524" y="16"/>
                  </a:lnTo>
                  <a:lnTo>
                    <a:pt x="534" y="21"/>
                  </a:lnTo>
                  <a:lnTo>
                    <a:pt x="544" y="28"/>
                  </a:lnTo>
                  <a:lnTo>
                    <a:pt x="552" y="35"/>
                  </a:lnTo>
                  <a:lnTo>
                    <a:pt x="555" y="41"/>
                  </a:lnTo>
                  <a:lnTo>
                    <a:pt x="558" y="45"/>
                  </a:lnTo>
                  <a:lnTo>
                    <a:pt x="561" y="51"/>
                  </a:lnTo>
                  <a:lnTo>
                    <a:pt x="563" y="56"/>
                  </a:lnTo>
                  <a:lnTo>
                    <a:pt x="566" y="69"/>
                  </a:lnTo>
                  <a:lnTo>
                    <a:pt x="566" y="84"/>
                  </a:lnTo>
                  <a:lnTo>
                    <a:pt x="555" y="88"/>
                  </a:lnTo>
                  <a:lnTo>
                    <a:pt x="543" y="90"/>
                  </a:lnTo>
                  <a:lnTo>
                    <a:pt x="531" y="92"/>
                  </a:lnTo>
                  <a:lnTo>
                    <a:pt x="519" y="93"/>
                  </a:lnTo>
                  <a:lnTo>
                    <a:pt x="494" y="93"/>
                  </a:lnTo>
                  <a:lnTo>
                    <a:pt x="469" y="92"/>
                  </a:lnTo>
                  <a:lnTo>
                    <a:pt x="443" y="90"/>
                  </a:lnTo>
                  <a:lnTo>
                    <a:pt x="416" y="88"/>
                  </a:lnTo>
                  <a:lnTo>
                    <a:pt x="387" y="85"/>
                  </a:lnTo>
                  <a:lnTo>
                    <a:pt x="357" y="84"/>
                  </a:lnTo>
                  <a:lnTo>
                    <a:pt x="331" y="84"/>
                  </a:lnTo>
                  <a:lnTo>
                    <a:pt x="306" y="85"/>
                  </a:lnTo>
                  <a:lnTo>
                    <a:pt x="282" y="88"/>
                  </a:lnTo>
                  <a:lnTo>
                    <a:pt x="260" y="91"/>
                  </a:lnTo>
                  <a:lnTo>
                    <a:pt x="218" y="97"/>
                  </a:lnTo>
                  <a:lnTo>
                    <a:pt x="178" y="105"/>
                  </a:lnTo>
                  <a:lnTo>
                    <a:pt x="139" y="113"/>
                  </a:lnTo>
                  <a:lnTo>
                    <a:pt x="97" y="119"/>
                  </a:lnTo>
                  <a:lnTo>
                    <a:pt x="75" y="123"/>
                  </a:lnTo>
                  <a:lnTo>
                    <a:pt x="52" y="125"/>
                  </a:lnTo>
                  <a:lnTo>
                    <a:pt x="27" y="126"/>
                  </a:lnTo>
                  <a:lnTo>
                    <a:pt x="0" y="126"/>
                  </a:lnTo>
                  <a:lnTo>
                    <a:pt x="0" y="111"/>
                  </a:lnTo>
                  <a:lnTo>
                    <a:pt x="0" y="94"/>
                  </a:lnTo>
                  <a:lnTo>
                    <a:pt x="0" y="79"/>
                  </a:lnTo>
                  <a:lnTo>
                    <a:pt x="0" y="64"/>
                  </a:lnTo>
                  <a:close/>
                </a:path>
              </a:pathLst>
            </a:custGeom>
            <a:solidFill>
              <a:srgbClr val="dededd"/>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135" name="Line 24"/>
            <p:cNvSpPr/>
            <p:nvPr/>
          </p:nvSpPr>
          <p:spPr>
            <a:xfrm flipH="1" flipV="1">
              <a:off x="4647600" y="5862240"/>
              <a:ext cx="12960" cy="44640"/>
            </a:xfrm>
            <a:prstGeom prst="line">
              <a:avLst/>
            </a:prstGeom>
            <a:ln w="0">
              <a:solidFill>
                <a:srgbClr val="949393"/>
              </a:solid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36" name="Line 25"/>
            <p:cNvSpPr/>
            <p:nvPr/>
          </p:nvSpPr>
          <p:spPr>
            <a:xfrm flipV="1">
              <a:off x="4335480" y="4740120"/>
              <a:ext cx="1800" cy="10008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27"/>
            <p:cNvSpPr/>
            <p:nvPr/>
          </p:nvSpPr>
          <p:spPr>
            <a:xfrm>
              <a:off x="6477840" y="1704600"/>
              <a:ext cx="1800" cy="39261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27"/>
            <p:cNvSpPr/>
            <p:nvPr/>
          </p:nvSpPr>
          <p:spPr>
            <a:xfrm>
              <a:off x="4571640" y="1857240"/>
              <a:ext cx="1800" cy="39258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27"/>
            <p:cNvSpPr/>
            <p:nvPr/>
          </p:nvSpPr>
          <p:spPr>
            <a:xfrm>
              <a:off x="2575080" y="1904760"/>
              <a:ext cx="1440" cy="39258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27"/>
            <p:cNvSpPr/>
            <p:nvPr/>
          </p:nvSpPr>
          <p:spPr>
            <a:xfrm flipH="1">
              <a:off x="2211480" y="1750680"/>
              <a:ext cx="467604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141" name="Group 65"/>
            <p:cNvGrpSpPr/>
            <p:nvPr/>
          </p:nvGrpSpPr>
          <p:grpSpPr>
            <a:xfrm>
              <a:off x="1848600" y="1155600"/>
              <a:ext cx="1503000" cy="1139760"/>
              <a:chOff x="1848600" y="1155600"/>
              <a:chExt cx="1503000" cy="1139760"/>
            </a:xfrm>
          </p:grpSpPr>
          <p:grpSp>
            <p:nvGrpSpPr>
              <p:cNvPr id="142" name="Group 66"/>
              <p:cNvGrpSpPr/>
              <p:nvPr/>
            </p:nvGrpSpPr>
            <p:grpSpPr>
              <a:xfrm>
                <a:off x="1848600" y="1155600"/>
                <a:ext cx="1475640" cy="1139760"/>
                <a:chOff x="1848600" y="1155600"/>
                <a:chExt cx="1475640" cy="1139760"/>
              </a:xfrm>
            </p:grpSpPr>
            <p:grpSp>
              <p:nvGrpSpPr>
                <p:cNvPr id="143" name="Group 67"/>
                <p:cNvGrpSpPr/>
                <p:nvPr/>
              </p:nvGrpSpPr>
              <p:grpSpPr>
                <a:xfrm>
                  <a:off x="1909800" y="1155600"/>
                  <a:ext cx="1372320" cy="1139760"/>
                  <a:chOff x="1909800" y="1155600"/>
                  <a:chExt cx="1372320" cy="1139760"/>
                </a:xfrm>
              </p:grpSpPr>
              <p:sp>
                <p:nvSpPr>
                  <p:cNvPr id="144" name="Freeform 68"/>
                  <p:cNvSpPr/>
                  <p:nvPr/>
                </p:nvSpPr>
                <p:spPr>
                  <a:xfrm>
                    <a:off x="1909800" y="1155600"/>
                    <a:ext cx="1372320" cy="1139760"/>
                  </a:xfrm>
                  <a:custGeom>
                    <a:avLst/>
                    <a:gdLst>
                      <a:gd name="textAreaLeft" fmla="*/ 0 w 1372320"/>
                      <a:gd name="textAreaRight" fmla="*/ 1372680 w 1372320"/>
                      <a:gd name="textAreaTop" fmla="*/ 0 h 1139760"/>
                      <a:gd name="textAreaBottom" fmla="*/ 1140120 h 1139760"/>
                    </a:gdLst>
                    <a:ahLst/>
                    <a:rect l="textAreaLeft" t="textAreaTop" r="textAreaRight" b="textAreaBottom"/>
                    <a:pathLst>
                      <a:path w="3795" h="3795">
                        <a:moveTo>
                          <a:pt x="1898" y="3795"/>
                        </a:moveTo>
                        <a:lnTo>
                          <a:pt x="1995" y="3793"/>
                        </a:lnTo>
                        <a:lnTo>
                          <a:pt x="2091" y="3786"/>
                        </a:lnTo>
                        <a:lnTo>
                          <a:pt x="2185" y="3774"/>
                        </a:lnTo>
                        <a:lnTo>
                          <a:pt x="2279" y="3756"/>
                        </a:lnTo>
                        <a:lnTo>
                          <a:pt x="2371" y="3735"/>
                        </a:lnTo>
                        <a:lnTo>
                          <a:pt x="2461" y="3709"/>
                        </a:lnTo>
                        <a:lnTo>
                          <a:pt x="2548" y="3680"/>
                        </a:lnTo>
                        <a:lnTo>
                          <a:pt x="2634" y="3646"/>
                        </a:lnTo>
                        <a:lnTo>
                          <a:pt x="2718" y="3608"/>
                        </a:lnTo>
                        <a:lnTo>
                          <a:pt x="2800" y="3565"/>
                        </a:lnTo>
                        <a:lnTo>
                          <a:pt x="2880" y="3520"/>
                        </a:lnTo>
                        <a:lnTo>
                          <a:pt x="2957" y="3471"/>
                        </a:lnTo>
                        <a:lnTo>
                          <a:pt x="3031" y="3417"/>
                        </a:lnTo>
                        <a:lnTo>
                          <a:pt x="3103" y="3360"/>
                        </a:lnTo>
                        <a:lnTo>
                          <a:pt x="3172" y="3302"/>
                        </a:lnTo>
                        <a:lnTo>
                          <a:pt x="3238" y="3238"/>
                        </a:lnTo>
                        <a:lnTo>
                          <a:pt x="3301" y="3172"/>
                        </a:lnTo>
                        <a:lnTo>
                          <a:pt x="3360" y="3103"/>
                        </a:lnTo>
                        <a:lnTo>
                          <a:pt x="3417" y="3031"/>
                        </a:lnTo>
                        <a:lnTo>
                          <a:pt x="3470" y="2957"/>
                        </a:lnTo>
                        <a:lnTo>
                          <a:pt x="3519" y="2880"/>
                        </a:lnTo>
                        <a:lnTo>
                          <a:pt x="3565" y="2801"/>
                        </a:lnTo>
                        <a:lnTo>
                          <a:pt x="3608" y="2720"/>
                        </a:lnTo>
                        <a:lnTo>
                          <a:pt x="3646" y="2635"/>
                        </a:lnTo>
                        <a:lnTo>
                          <a:pt x="3679" y="2548"/>
                        </a:lnTo>
                        <a:lnTo>
                          <a:pt x="3709" y="2461"/>
                        </a:lnTo>
                        <a:lnTo>
                          <a:pt x="3735" y="2371"/>
                        </a:lnTo>
                        <a:lnTo>
                          <a:pt x="3756" y="2279"/>
                        </a:lnTo>
                        <a:lnTo>
                          <a:pt x="3773" y="2185"/>
                        </a:lnTo>
                        <a:lnTo>
                          <a:pt x="3785" y="2091"/>
                        </a:lnTo>
                        <a:lnTo>
                          <a:pt x="3792" y="1995"/>
                        </a:lnTo>
                        <a:lnTo>
                          <a:pt x="3795" y="1898"/>
                        </a:lnTo>
                        <a:lnTo>
                          <a:pt x="3792" y="1801"/>
                        </a:lnTo>
                        <a:lnTo>
                          <a:pt x="3785" y="1704"/>
                        </a:lnTo>
                        <a:lnTo>
                          <a:pt x="3773" y="1609"/>
                        </a:lnTo>
                        <a:lnTo>
                          <a:pt x="3756" y="1516"/>
                        </a:lnTo>
                        <a:lnTo>
                          <a:pt x="3735" y="1425"/>
                        </a:lnTo>
                        <a:lnTo>
                          <a:pt x="3709" y="1334"/>
                        </a:lnTo>
                        <a:lnTo>
                          <a:pt x="3679" y="1246"/>
                        </a:lnTo>
                        <a:lnTo>
                          <a:pt x="3646" y="1160"/>
                        </a:lnTo>
                        <a:lnTo>
                          <a:pt x="3608" y="1076"/>
                        </a:lnTo>
                        <a:lnTo>
                          <a:pt x="3565" y="994"/>
                        </a:lnTo>
                        <a:lnTo>
                          <a:pt x="3519" y="915"/>
                        </a:lnTo>
                        <a:lnTo>
                          <a:pt x="3470" y="838"/>
                        </a:lnTo>
                        <a:lnTo>
                          <a:pt x="3417" y="763"/>
                        </a:lnTo>
                        <a:lnTo>
                          <a:pt x="3360" y="692"/>
                        </a:lnTo>
                        <a:lnTo>
                          <a:pt x="3301" y="622"/>
                        </a:lnTo>
                        <a:lnTo>
                          <a:pt x="3238" y="557"/>
                        </a:lnTo>
                        <a:lnTo>
                          <a:pt x="3172" y="494"/>
                        </a:lnTo>
                        <a:lnTo>
                          <a:pt x="3103" y="434"/>
                        </a:lnTo>
                        <a:lnTo>
                          <a:pt x="3031" y="378"/>
                        </a:lnTo>
                        <a:lnTo>
                          <a:pt x="2957" y="325"/>
                        </a:lnTo>
                        <a:lnTo>
                          <a:pt x="2880" y="276"/>
                        </a:lnTo>
                        <a:lnTo>
                          <a:pt x="2800" y="230"/>
                        </a:lnTo>
                        <a:lnTo>
                          <a:pt x="2718" y="187"/>
                        </a:lnTo>
                        <a:lnTo>
                          <a:pt x="2634" y="149"/>
                        </a:lnTo>
                        <a:lnTo>
                          <a:pt x="2548" y="116"/>
                        </a:lnTo>
                        <a:lnTo>
                          <a:pt x="2461" y="85"/>
                        </a:lnTo>
                        <a:lnTo>
                          <a:pt x="2371" y="60"/>
                        </a:lnTo>
                        <a:lnTo>
                          <a:pt x="2279" y="38"/>
                        </a:lnTo>
                        <a:lnTo>
                          <a:pt x="2185" y="22"/>
                        </a:lnTo>
                        <a:lnTo>
                          <a:pt x="2091" y="10"/>
                        </a:lnTo>
                        <a:lnTo>
                          <a:pt x="1995" y="2"/>
                        </a:lnTo>
                        <a:lnTo>
                          <a:pt x="1898" y="0"/>
                        </a:lnTo>
                        <a:lnTo>
                          <a:pt x="1800" y="2"/>
                        </a:lnTo>
                        <a:lnTo>
                          <a:pt x="1704" y="10"/>
                        </a:lnTo>
                        <a:lnTo>
                          <a:pt x="1609" y="22"/>
                        </a:lnTo>
                        <a:lnTo>
                          <a:pt x="1516" y="38"/>
                        </a:lnTo>
                        <a:lnTo>
                          <a:pt x="1425" y="60"/>
                        </a:lnTo>
                        <a:lnTo>
                          <a:pt x="1334" y="85"/>
                        </a:lnTo>
                        <a:lnTo>
                          <a:pt x="1246" y="116"/>
                        </a:lnTo>
                        <a:lnTo>
                          <a:pt x="1160" y="149"/>
                        </a:lnTo>
                        <a:lnTo>
                          <a:pt x="1076" y="187"/>
                        </a:lnTo>
                        <a:lnTo>
                          <a:pt x="994" y="230"/>
                        </a:lnTo>
                        <a:lnTo>
                          <a:pt x="915" y="276"/>
                        </a:lnTo>
                        <a:lnTo>
                          <a:pt x="838" y="325"/>
                        </a:lnTo>
                        <a:lnTo>
                          <a:pt x="763" y="378"/>
                        </a:lnTo>
                        <a:lnTo>
                          <a:pt x="692" y="434"/>
                        </a:lnTo>
                        <a:lnTo>
                          <a:pt x="623" y="494"/>
                        </a:lnTo>
                        <a:lnTo>
                          <a:pt x="557" y="557"/>
                        </a:lnTo>
                        <a:lnTo>
                          <a:pt x="494" y="622"/>
                        </a:lnTo>
                        <a:lnTo>
                          <a:pt x="434" y="692"/>
                        </a:lnTo>
                        <a:lnTo>
                          <a:pt x="378" y="763"/>
                        </a:lnTo>
                        <a:lnTo>
                          <a:pt x="325" y="838"/>
                        </a:lnTo>
                        <a:lnTo>
                          <a:pt x="276" y="915"/>
                        </a:lnTo>
                        <a:lnTo>
                          <a:pt x="230" y="994"/>
                        </a:lnTo>
                        <a:lnTo>
                          <a:pt x="188" y="1076"/>
                        </a:lnTo>
                        <a:lnTo>
                          <a:pt x="150" y="1160"/>
                        </a:lnTo>
                        <a:lnTo>
                          <a:pt x="116" y="1246"/>
                        </a:lnTo>
                        <a:lnTo>
                          <a:pt x="85" y="1334"/>
                        </a:lnTo>
                        <a:lnTo>
                          <a:pt x="60" y="1425"/>
                        </a:lnTo>
                        <a:lnTo>
                          <a:pt x="38" y="1516"/>
                        </a:lnTo>
                        <a:lnTo>
                          <a:pt x="22" y="1609"/>
                        </a:lnTo>
                        <a:lnTo>
                          <a:pt x="10" y="1704"/>
                        </a:lnTo>
                        <a:lnTo>
                          <a:pt x="2" y="1801"/>
                        </a:lnTo>
                        <a:lnTo>
                          <a:pt x="0" y="1898"/>
                        </a:lnTo>
                        <a:lnTo>
                          <a:pt x="2" y="1995"/>
                        </a:lnTo>
                        <a:lnTo>
                          <a:pt x="10" y="2091"/>
                        </a:lnTo>
                        <a:lnTo>
                          <a:pt x="22" y="2185"/>
                        </a:lnTo>
                        <a:lnTo>
                          <a:pt x="38" y="2279"/>
                        </a:lnTo>
                        <a:lnTo>
                          <a:pt x="60" y="2371"/>
                        </a:lnTo>
                        <a:lnTo>
                          <a:pt x="85" y="2461"/>
                        </a:lnTo>
                        <a:lnTo>
                          <a:pt x="116" y="2548"/>
                        </a:lnTo>
                        <a:lnTo>
                          <a:pt x="150" y="2635"/>
                        </a:lnTo>
                        <a:lnTo>
                          <a:pt x="188" y="2720"/>
                        </a:lnTo>
                        <a:lnTo>
                          <a:pt x="230" y="2801"/>
                        </a:lnTo>
                        <a:lnTo>
                          <a:pt x="276" y="2880"/>
                        </a:lnTo>
                        <a:lnTo>
                          <a:pt x="325" y="2957"/>
                        </a:lnTo>
                        <a:lnTo>
                          <a:pt x="378" y="3031"/>
                        </a:lnTo>
                        <a:lnTo>
                          <a:pt x="434" y="3103"/>
                        </a:lnTo>
                        <a:lnTo>
                          <a:pt x="494" y="3172"/>
                        </a:lnTo>
                        <a:lnTo>
                          <a:pt x="557" y="3238"/>
                        </a:lnTo>
                        <a:lnTo>
                          <a:pt x="623" y="3302"/>
                        </a:lnTo>
                        <a:lnTo>
                          <a:pt x="692" y="3360"/>
                        </a:lnTo>
                        <a:lnTo>
                          <a:pt x="763" y="3417"/>
                        </a:lnTo>
                        <a:lnTo>
                          <a:pt x="838" y="3471"/>
                        </a:lnTo>
                        <a:lnTo>
                          <a:pt x="915" y="3520"/>
                        </a:lnTo>
                        <a:lnTo>
                          <a:pt x="994" y="3565"/>
                        </a:lnTo>
                        <a:lnTo>
                          <a:pt x="1076" y="3608"/>
                        </a:lnTo>
                        <a:lnTo>
                          <a:pt x="1160" y="3646"/>
                        </a:lnTo>
                        <a:lnTo>
                          <a:pt x="1246" y="3680"/>
                        </a:lnTo>
                        <a:lnTo>
                          <a:pt x="1334" y="3709"/>
                        </a:lnTo>
                        <a:lnTo>
                          <a:pt x="1425" y="3735"/>
                        </a:lnTo>
                        <a:lnTo>
                          <a:pt x="1516" y="3756"/>
                        </a:lnTo>
                        <a:lnTo>
                          <a:pt x="1609" y="3774"/>
                        </a:lnTo>
                        <a:lnTo>
                          <a:pt x="1704" y="3786"/>
                        </a:lnTo>
                        <a:lnTo>
                          <a:pt x="1800" y="3793"/>
                        </a:lnTo>
                        <a:lnTo>
                          <a:pt x="1898"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Freeform 69"/>
                  <p:cNvSpPr/>
                  <p:nvPr/>
                </p:nvSpPr>
                <p:spPr>
                  <a:xfrm>
                    <a:off x="1909800" y="1155600"/>
                    <a:ext cx="1372320" cy="1139760"/>
                  </a:xfrm>
                  <a:custGeom>
                    <a:avLst/>
                    <a:gdLst>
                      <a:gd name="textAreaLeft" fmla="*/ 0 w 1372320"/>
                      <a:gd name="textAreaRight" fmla="*/ 1372680 w 1372320"/>
                      <a:gd name="textAreaTop" fmla="*/ 0 h 1139760"/>
                      <a:gd name="textAreaBottom" fmla="*/ 1140120 h 1139760"/>
                    </a:gdLst>
                    <a:ahLst/>
                    <a:rect l="textAreaLeft" t="textAreaTop" r="textAreaRight" b="textAreaBottom"/>
                    <a:pathLst>
                      <a:path w="3795" h="3795">
                        <a:moveTo>
                          <a:pt x="1898" y="3795"/>
                        </a:moveTo>
                        <a:lnTo>
                          <a:pt x="1995" y="3793"/>
                        </a:lnTo>
                        <a:lnTo>
                          <a:pt x="2091" y="3786"/>
                        </a:lnTo>
                        <a:lnTo>
                          <a:pt x="2185" y="3774"/>
                        </a:lnTo>
                        <a:lnTo>
                          <a:pt x="2279" y="3756"/>
                        </a:lnTo>
                        <a:lnTo>
                          <a:pt x="2371" y="3735"/>
                        </a:lnTo>
                        <a:lnTo>
                          <a:pt x="2461" y="3709"/>
                        </a:lnTo>
                        <a:lnTo>
                          <a:pt x="2548" y="3680"/>
                        </a:lnTo>
                        <a:lnTo>
                          <a:pt x="2634" y="3646"/>
                        </a:lnTo>
                        <a:lnTo>
                          <a:pt x="2718" y="3608"/>
                        </a:lnTo>
                        <a:lnTo>
                          <a:pt x="2800" y="3565"/>
                        </a:lnTo>
                        <a:lnTo>
                          <a:pt x="2880" y="3520"/>
                        </a:lnTo>
                        <a:lnTo>
                          <a:pt x="2957" y="3471"/>
                        </a:lnTo>
                        <a:lnTo>
                          <a:pt x="3031" y="3417"/>
                        </a:lnTo>
                        <a:lnTo>
                          <a:pt x="3103" y="3360"/>
                        </a:lnTo>
                        <a:lnTo>
                          <a:pt x="3172" y="3302"/>
                        </a:lnTo>
                        <a:lnTo>
                          <a:pt x="3238" y="3238"/>
                        </a:lnTo>
                        <a:lnTo>
                          <a:pt x="3301" y="3172"/>
                        </a:lnTo>
                        <a:lnTo>
                          <a:pt x="3360" y="3103"/>
                        </a:lnTo>
                        <a:lnTo>
                          <a:pt x="3417" y="3031"/>
                        </a:lnTo>
                        <a:lnTo>
                          <a:pt x="3470" y="2957"/>
                        </a:lnTo>
                        <a:lnTo>
                          <a:pt x="3519" y="2880"/>
                        </a:lnTo>
                        <a:lnTo>
                          <a:pt x="3565" y="2801"/>
                        </a:lnTo>
                        <a:lnTo>
                          <a:pt x="3608" y="2720"/>
                        </a:lnTo>
                        <a:lnTo>
                          <a:pt x="3646" y="2635"/>
                        </a:lnTo>
                        <a:lnTo>
                          <a:pt x="3679" y="2548"/>
                        </a:lnTo>
                        <a:lnTo>
                          <a:pt x="3709" y="2461"/>
                        </a:lnTo>
                        <a:lnTo>
                          <a:pt x="3735" y="2371"/>
                        </a:lnTo>
                        <a:lnTo>
                          <a:pt x="3756" y="2279"/>
                        </a:lnTo>
                        <a:lnTo>
                          <a:pt x="3773" y="2185"/>
                        </a:lnTo>
                        <a:lnTo>
                          <a:pt x="3785" y="2091"/>
                        </a:lnTo>
                        <a:lnTo>
                          <a:pt x="3792" y="1995"/>
                        </a:lnTo>
                        <a:lnTo>
                          <a:pt x="3795" y="1898"/>
                        </a:lnTo>
                        <a:lnTo>
                          <a:pt x="3792" y="1801"/>
                        </a:lnTo>
                        <a:lnTo>
                          <a:pt x="3785" y="1704"/>
                        </a:lnTo>
                        <a:lnTo>
                          <a:pt x="3773" y="1609"/>
                        </a:lnTo>
                        <a:lnTo>
                          <a:pt x="3756" y="1516"/>
                        </a:lnTo>
                        <a:lnTo>
                          <a:pt x="3735" y="1425"/>
                        </a:lnTo>
                        <a:lnTo>
                          <a:pt x="3709" y="1334"/>
                        </a:lnTo>
                        <a:lnTo>
                          <a:pt x="3679" y="1246"/>
                        </a:lnTo>
                        <a:lnTo>
                          <a:pt x="3646" y="1160"/>
                        </a:lnTo>
                        <a:lnTo>
                          <a:pt x="3608" y="1076"/>
                        </a:lnTo>
                        <a:lnTo>
                          <a:pt x="3565" y="994"/>
                        </a:lnTo>
                        <a:lnTo>
                          <a:pt x="3519" y="915"/>
                        </a:lnTo>
                        <a:lnTo>
                          <a:pt x="3470" y="838"/>
                        </a:lnTo>
                        <a:lnTo>
                          <a:pt x="3417" y="763"/>
                        </a:lnTo>
                        <a:lnTo>
                          <a:pt x="3360" y="692"/>
                        </a:lnTo>
                        <a:lnTo>
                          <a:pt x="3301" y="622"/>
                        </a:lnTo>
                        <a:lnTo>
                          <a:pt x="3238" y="557"/>
                        </a:lnTo>
                        <a:lnTo>
                          <a:pt x="3172" y="494"/>
                        </a:lnTo>
                        <a:lnTo>
                          <a:pt x="3103" y="434"/>
                        </a:lnTo>
                        <a:lnTo>
                          <a:pt x="3031" y="378"/>
                        </a:lnTo>
                        <a:lnTo>
                          <a:pt x="2957" y="325"/>
                        </a:lnTo>
                        <a:lnTo>
                          <a:pt x="2880" y="276"/>
                        </a:lnTo>
                        <a:lnTo>
                          <a:pt x="2800" y="230"/>
                        </a:lnTo>
                        <a:lnTo>
                          <a:pt x="2718" y="187"/>
                        </a:lnTo>
                        <a:lnTo>
                          <a:pt x="2634" y="149"/>
                        </a:lnTo>
                        <a:lnTo>
                          <a:pt x="2548" y="116"/>
                        </a:lnTo>
                        <a:lnTo>
                          <a:pt x="2461" y="85"/>
                        </a:lnTo>
                        <a:lnTo>
                          <a:pt x="2371" y="60"/>
                        </a:lnTo>
                        <a:lnTo>
                          <a:pt x="2279" y="38"/>
                        </a:lnTo>
                        <a:lnTo>
                          <a:pt x="2185" y="22"/>
                        </a:lnTo>
                        <a:lnTo>
                          <a:pt x="2091" y="10"/>
                        </a:lnTo>
                        <a:lnTo>
                          <a:pt x="1995" y="2"/>
                        </a:lnTo>
                        <a:lnTo>
                          <a:pt x="1898" y="0"/>
                        </a:lnTo>
                        <a:lnTo>
                          <a:pt x="1800" y="2"/>
                        </a:lnTo>
                        <a:lnTo>
                          <a:pt x="1704" y="10"/>
                        </a:lnTo>
                        <a:lnTo>
                          <a:pt x="1609" y="22"/>
                        </a:lnTo>
                        <a:lnTo>
                          <a:pt x="1516" y="38"/>
                        </a:lnTo>
                        <a:lnTo>
                          <a:pt x="1425" y="60"/>
                        </a:lnTo>
                        <a:lnTo>
                          <a:pt x="1334" y="85"/>
                        </a:lnTo>
                        <a:lnTo>
                          <a:pt x="1246" y="116"/>
                        </a:lnTo>
                        <a:lnTo>
                          <a:pt x="1160" y="149"/>
                        </a:lnTo>
                        <a:lnTo>
                          <a:pt x="1076" y="187"/>
                        </a:lnTo>
                        <a:lnTo>
                          <a:pt x="994" y="230"/>
                        </a:lnTo>
                        <a:lnTo>
                          <a:pt x="915" y="276"/>
                        </a:lnTo>
                        <a:lnTo>
                          <a:pt x="838" y="325"/>
                        </a:lnTo>
                        <a:lnTo>
                          <a:pt x="763" y="378"/>
                        </a:lnTo>
                        <a:lnTo>
                          <a:pt x="692" y="434"/>
                        </a:lnTo>
                        <a:lnTo>
                          <a:pt x="623" y="494"/>
                        </a:lnTo>
                        <a:lnTo>
                          <a:pt x="557" y="557"/>
                        </a:lnTo>
                        <a:lnTo>
                          <a:pt x="494" y="622"/>
                        </a:lnTo>
                        <a:lnTo>
                          <a:pt x="434" y="692"/>
                        </a:lnTo>
                        <a:lnTo>
                          <a:pt x="378" y="763"/>
                        </a:lnTo>
                        <a:lnTo>
                          <a:pt x="325" y="838"/>
                        </a:lnTo>
                        <a:lnTo>
                          <a:pt x="276" y="915"/>
                        </a:lnTo>
                        <a:lnTo>
                          <a:pt x="230" y="994"/>
                        </a:lnTo>
                        <a:lnTo>
                          <a:pt x="188" y="1076"/>
                        </a:lnTo>
                        <a:lnTo>
                          <a:pt x="150" y="1160"/>
                        </a:lnTo>
                        <a:lnTo>
                          <a:pt x="116" y="1246"/>
                        </a:lnTo>
                        <a:lnTo>
                          <a:pt x="85" y="1334"/>
                        </a:lnTo>
                        <a:lnTo>
                          <a:pt x="60" y="1425"/>
                        </a:lnTo>
                        <a:lnTo>
                          <a:pt x="38" y="1516"/>
                        </a:lnTo>
                        <a:lnTo>
                          <a:pt x="22" y="1609"/>
                        </a:lnTo>
                        <a:lnTo>
                          <a:pt x="10" y="1704"/>
                        </a:lnTo>
                        <a:lnTo>
                          <a:pt x="2" y="1801"/>
                        </a:lnTo>
                        <a:lnTo>
                          <a:pt x="0" y="1898"/>
                        </a:lnTo>
                        <a:lnTo>
                          <a:pt x="2" y="1995"/>
                        </a:lnTo>
                        <a:lnTo>
                          <a:pt x="10" y="2091"/>
                        </a:lnTo>
                        <a:lnTo>
                          <a:pt x="22" y="2185"/>
                        </a:lnTo>
                        <a:lnTo>
                          <a:pt x="38" y="2279"/>
                        </a:lnTo>
                        <a:lnTo>
                          <a:pt x="60" y="2371"/>
                        </a:lnTo>
                        <a:lnTo>
                          <a:pt x="85" y="2461"/>
                        </a:lnTo>
                        <a:lnTo>
                          <a:pt x="116" y="2548"/>
                        </a:lnTo>
                        <a:lnTo>
                          <a:pt x="150" y="2635"/>
                        </a:lnTo>
                        <a:lnTo>
                          <a:pt x="188" y="2720"/>
                        </a:lnTo>
                        <a:lnTo>
                          <a:pt x="230" y="2801"/>
                        </a:lnTo>
                        <a:lnTo>
                          <a:pt x="276" y="2880"/>
                        </a:lnTo>
                        <a:lnTo>
                          <a:pt x="325" y="2957"/>
                        </a:lnTo>
                        <a:lnTo>
                          <a:pt x="378" y="3031"/>
                        </a:lnTo>
                        <a:lnTo>
                          <a:pt x="434" y="3103"/>
                        </a:lnTo>
                        <a:lnTo>
                          <a:pt x="494" y="3172"/>
                        </a:lnTo>
                        <a:lnTo>
                          <a:pt x="557" y="3238"/>
                        </a:lnTo>
                        <a:lnTo>
                          <a:pt x="623" y="3302"/>
                        </a:lnTo>
                        <a:lnTo>
                          <a:pt x="692" y="3360"/>
                        </a:lnTo>
                        <a:lnTo>
                          <a:pt x="763" y="3417"/>
                        </a:lnTo>
                        <a:lnTo>
                          <a:pt x="838" y="3471"/>
                        </a:lnTo>
                        <a:lnTo>
                          <a:pt x="915" y="3520"/>
                        </a:lnTo>
                        <a:lnTo>
                          <a:pt x="994" y="3565"/>
                        </a:lnTo>
                        <a:lnTo>
                          <a:pt x="1076" y="3608"/>
                        </a:lnTo>
                        <a:lnTo>
                          <a:pt x="1160" y="3646"/>
                        </a:lnTo>
                        <a:lnTo>
                          <a:pt x="1246" y="3680"/>
                        </a:lnTo>
                        <a:lnTo>
                          <a:pt x="1334" y="3709"/>
                        </a:lnTo>
                        <a:lnTo>
                          <a:pt x="1425" y="3735"/>
                        </a:lnTo>
                        <a:lnTo>
                          <a:pt x="1516" y="3756"/>
                        </a:lnTo>
                        <a:lnTo>
                          <a:pt x="1609" y="3774"/>
                        </a:lnTo>
                        <a:lnTo>
                          <a:pt x="1704" y="3786"/>
                        </a:lnTo>
                        <a:lnTo>
                          <a:pt x="1800" y="3793"/>
                        </a:lnTo>
                        <a:lnTo>
                          <a:pt x="1898" y="3795"/>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6" name="Text Box 70"/>
                <p:cNvSpPr/>
                <p:nvPr/>
              </p:nvSpPr>
              <p:spPr>
                <a:xfrm>
                  <a:off x="1848600" y="1418400"/>
                  <a:ext cx="1475640" cy="367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7" name="Text Box 71"/>
              <p:cNvSpPr/>
              <p:nvPr/>
            </p:nvSpPr>
            <p:spPr>
              <a:xfrm>
                <a:off x="1875600" y="1628640"/>
                <a:ext cx="1476000" cy="276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Организация</a:t>
                </a:r>
                <a:endParaRPr b="0" lang="en-US" sz="1200" spc="-1" strike="noStrike">
                  <a:solidFill>
                    <a:srgbClr val="000000"/>
                  </a:solidFill>
                  <a:latin typeface="Arial"/>
                </a:endParaRPr>
              </a:p>
            </p:txBody>
          </p:sp>
        </p:grpSp>
        <p:grpSp>
          <p:nvGrpSpPr>
            <p:cNvPr id="148" name="Group 72"/>
            <p:cNvGrpSpPr/>
            <p:nvPr/>
          </p:nvGrpSpPr>
          <p:grpSpPr>
            <a:xfrm>
              <a:off x="3821400" y="1155600"/>
              <a:ext cx="1476360" cy="1139760"/>
              <a:chOff x="3821400" y="1155600"/>
              <a:chExt cx="1476360" cy="1139760"/>
            </a:xfrm>
          </p:grpSpPr>
          <p:sp>
            <p:nvSpPr>
              <p:cNvPr id="149" name="Freeform 73"/>
              <p:cNvSpPr/>
              <p:nvPr/>
            </p:nvSpPr>
            <p:spPr>
              <a:xfrm>
                <a:off x="3870000" y="1155600"/>
                <a:ext cx="1373400" cy="1139760"/>
              </a:xfrm>
              <a:custGeom>
                <a:avLst/>
                <a:gdLst>
                  <a:gd name="textAreaLeft" fmla="*/ 0 w 1373400"/>
                  <a:gd name="textAreaRight" fmla="*/ 1373760 w 1373400"/>
                  <a:gd name="textAreaTop" fmla="*/ 0 h 1139760"/>
                  <a:gd name="textAreaBottom" fmla="*/ 1140120 h 1139760"/>
                </a:gdLst>
                <a:ahLst/>
                <a:rect l="textAreaLeft" t="textAreaTop" r="textAreaRight" b="textAreaBottom"/>
                <a:pathLst>
                  <a:path w="3795" h="3795">
                    <a:moveTo>
                      <a:pt x="1897" y="3795"/>
                    </a:moveTo>
                    <a:lnTo>
                      <a:pt x="1994" y="3793"/>
                    </a:lnTo>
                    <a:lnTo>
                      <a:pt x="2090" y="3786"/>
                    </a:lnTo>
                    <a:lnTo>
                      <a:pt x="2185" y="3774"/>
                    </a:lnTo>
                    <a:lnTo>
                      <a:pt x="2279" y="3756"/>
                    </a:lnTo>
                    <a:lnTo>
                      <a:pt x="2370" y="3735"/>
                    </a:lnTo>
                    <a:lnTo>
                      <a:pt x="2460" y="3709"/>
                    </a:lnTo>
                    <a:lnTo>
                      <a:pt x="2548" y="3680"/>
                    </a:lnTo>
                    <a:lnTo>
                      <a:pt x="2634" y="3646"/>
                    </a:lnTo>
                    <a:lnTo>
                      <a:pt x="2718" y="3608"/>
                    </a:lnTo>
                    <a:lnTo>
                      <a:pt x="2800" y="3565"/>
                    </a:lnTo>
                    <a:lnTo>
                      <a:pt x="2879" y="3520"/>
                    </a:lnTo>
                    <a:lnTo>
                      <a:pt x="2956" y="3471"/>
                    </a:lnTo>
                    <a:lnTo>
                      <a:pt x="3031" y="3417"/>
                    </a:lnTo>
                    <a:lnTo>
                      <a:pt x="3103" y="3360"/>
                    </a:lnTo>
                    <a:lnTo>
                      <a:pt x="3171" y="3302"/>
                    </a:lnTo>
                    <a:lnTo>
                      <a:pt x="3238" y="3238"/>
                    </a:lnTo>
                    <a:lnTo>
                      <a:pt x="3300" y="3172"/>
                    </a:lnTo>
                    <a:lnTo>
                      <a:pt x="3360" y="3103"/>
                    </a:lnTo>
                    <a:lnTo>
                      <a:pt x="3416" y="3031"/>
                    </a:lnTo>
                    <a:lnTo>
                      <a:pt x="3470" y="2957"/>
                    </a:lnTo>
                    <a:lnTo>
                      <a:pt x="3519" y="2880"/>
                    </a:lnTo>
                    <a:lnTo>
                      <a:pt x="3565" y="2801"/>
                    </a:lnTo>
                    <a:lnTo>
                      <a:pt x="3606" y="2720"/>
                    </a:lnTo>
                    <a:lnTo>
                      <a:pt x="3644" y="2635"/>
                    </a:lnTo>
                    <a:lnTo>
                      <a:pt x="3679" y="2548"/>
                    </a:lnTo>
                    <a:lnTo>
                      <a:pt x="3708" y="2461"/>
                    </a:lnTo>
                    <a:lnTo>
                      <a:pt x="3735" y="2371"/>
                    </a:lnTo>
                    <a:lnTo>
                      <a:pt x="3755" y="2279"/>
                    </a:lnTo>
                    <a:lnTo>
                      <a:pt x="3772" y="2185"/>
                    </a:lnTo>
                    <a:lnTo>
                      <a:pt x="3785" y="2091"/>
                    </a:lnTo>
                    <a:lnTo>
                      <a:pt x="3791" y="1995"/>
                    </a:lnTo>
                    <a:lnTo>
                      <a:pt x="3795" y="1898"/>
                    </a:lnTo>
                    <a:lnTo>
                      <a:pt x="3791" y="1801"/>
                    </a:lnTo>
                    <a:lnTo>
                      <a:pt x="3785" y="1704"/>
                    </a:lnTo>
                    <a:lnTo>
                      <a:pt x="3772" y="1609"/>
                    </a:lnTo>
                    <a:lnTo>
                      <a:pt x="3755" y="1516"/>
                    </a:lnTo>
                    <a:lnTo>
                      <a:pt x="3735" y="1425"/>
                    </a:lnTo>
                    <a:lnTo>
                      <a:pt x="3708" y="1334"/>
                    </a:lnTo>
                    <a:lnTo>
                      <a:pt x="3679" y="1246"/>
                    </a:lnTo>
                    <a:lnTo>
                      <a:pt x="3644" y="1160"/>
                    </a:lnTo>
                    <a:lnTo>
                      <a:pt x="3606" y="1076"/>
                    </a:lnTo>
                    <a:lnTo>
                      <a:pt x="3565" y="994"/>
                    </a:lnTo>
                    <a:lnTo>
                      <a:pt x="3519" y="915"/>
                    </a:lnTo>
                    <a:lnTo>
                      <a:pt x="3470" y="838"/>
                    </a:lnTo>
                    <a:lnTo>
                      <a:pt x="3416" y="763"/>
                    </a:lnTo>
                    <a:lnTo>
                      <a:pt x="3360" y="692"/>
                    </a:lnTo>
                    <a:lnTo>
                      <a:pt x="3300" y="622"/>
                    </a:lnTo>
                    <a:lnTo>
                      <a:pt x="3238" y="557"/>
                    </a:lnTo>
                    <a:lnTo>
                      <a:pt x="3171" y="494"/>
                    </a:lnTo>
                    <a:lnTo>
                      <a:pt x="3103" y="434"/>
                    </a:lnTo>
                    <a:lnTo>
                      <a:pt x="3031" y="378"/>
                    </a:lnTo>
                    <a:lnTo>
                      <a:pt x="2956" y="325"/>
                    </a:lnTo>
                    <a:lnTo>
                      <a:pt x="2879" y="276"/>
                    </a:lnTo>
                    <a:lnTo>
                      <a:pt x="2800" y="230"/>
                    </a:lnTo>
                    <a:lnTo>
                      <a:pt x="2718" y="187"/>
                    </a:lnTo>
                    <a:lnTo>
                      <a:pt x="2634" y="149"/>
                    </a:lnTo>
                    <a:lnTo>
                      <a:pt x="2548" y="116"/>
                    </a:lnTo>
                    <a:lnTo>
                      <a:pt x="2460" y="85"/>
                    </a:lnTo>
                    <a:lnTo>
                      <a:pt x="2370" y="60"/>
                    </a:lnTo>
                    <a:lnTo>
                      <a:pt x="2279" y="38"/>
                    </a:lnTo>
                    <a:lnTo>
                      <a:pt x="2185" y="22"/>
                    </a:lnTo>
                    <a:lnTo>
                      <a:pt x="2090" y="10"/>
                    </a:lnTo>
                    <a:lnTo>
                      <a:pt x="1994" y="2"/>
                    </a:lnTo>
                    <a:lnTo>
                      <a:pt x="1897" y="0"/>
                    </a:lnTo>
                    <a:lnTo>
                      <a:pt x="1799" y="2"/>
                    </a:lnTo>
                    <a:lnTo>
                      <a:pt x="1703" y="10"/>
                    </a:lnTo>
                    <a:lnTo>
                      <a:pt x="1608" y="22"/>
                    </a:lnTo>
                    <a:lnTo>
                      <a:pt x="1516" y="38"/>
                    </a:lnTo>
                    <a:lnTo>
                      <a:pt x="1423" y="60"/>
                    </a:lnTo>
                    <a:lnTo>
                      <a:pt x="1334" y="85"/>
                    </a:lnTo>
                    <a:lnTo>
                      <a:pt x="1245" y="116"/>
                    </a:lnTo>
                    <a:lnTo>
                      <a:pt x="1159" y="149"/>
                    </a:lnTo>
                    <a:lnTo>
                      <a:pt x="1075" y="187"/>
                    </a:lnTo>
                    <a:lnTo>
                      <a:pt x="994" y="230"/>
                    </a:lnTo>
                    <a:lnTo>
                      <a:pt x="914" y="276"/>
                    </a:lnTo>
                    <a:lnTo>
                      <a:pt x="837" y="325"/>
                    </a:lnTo>
                    <a:lnTo>
                      <a:pt x="763" y="378"/>
                    </a:lnTo>
                    <a:lnTo>
                      <a:pt x="691" y="434"/>
                    </a:lnTo>
                    <a:lnTo>
                      <a:pt x="622" y="494"/>
                    </a:lnTo>
                    <a:lnTo>
                      <a:pt x="557" y="557"/>
                    </a:lnTo>
                    <a:lnTo>
                      <a:pt x="494" y="622"/>
                    </a:lnTo>
                    <a:lnTo>
                      <a:pt x="434" y="692"/>
                    </a:lnTo>
                    <a:lnTo>
                      <a:pt x="377" y="763"/>
                    </a:lnTo>
                    <a:lnTo>
                      <a:pt x="325" y="838"/>
                    </a:lnTo>
                    <a:lnTo>
                      <a:pt x="274" y="915"/>
                    </a:lnTo>
                    <a:lnTo>
                      <a:pt x="229" y="994"/>
                    </a:lnTo>
                    <a:lnTo>
                      <a:pt x="187" y="1076"/>
                    </a:lnTo>
                    <a:lnTo>
                      <a:pt x="149" y="1160"/>
                    </a:lnTo>
                    <a:lnTo>
                      <a:pt x="115" y="1246"/>
                    </a:lnTo>
                    <a:lnTo>
                      <a:pt x="85" y="1334"/>
                    </a:lnTo>
                    <a:lnTo>
                      <a:pt x="60" y="1425"/>
                    </a:lnTo>
                    <a:lnTo>
                      <a:pt x="38" y="1516"/>
                    </a:lnTo>
                    <a:lnTo>
                      <a:pt x="22" y="1609"/>
                    </a:lnTo>
                    <a:lnTo>
                      <a:pt x="10" y="1704"/>
                    </a:lnTo>
                    <a:lnTo>
                      <a:pt x="2" y="1801"/>
                    </a:lnTo>
                    <a:lnTo>
                      <a:pt x="0" y="1898"/>
                    </a:lnTo>
                    <a:lnTo>
                      <a:pt x="2" y="1995"/>
                    </a:lnTo>
                    <a:lnTo>
                      <a:pt x="10" y="2091"/>
                    </a:lnTo>
                    <a:lnTo>
                      <a:pt x="22" y="2185"/>
                    </a:lnTo>
                    <a:lnTo>
                      <a:pt x="38" y="2279"/>
                    </a:lnTo>
                    <a:lnTo>
                      <a:pt x="60" y="2371"/>
                    </a:lnTo>
                    <a:lnTo>
                      <a:pt x="85" y="2461"/>
                    </a:lnTo>
                    <a:lnTo>
                      <a:pt x="115" y="2548"/>
                    </a:lnTo>
                    <a:lnTo>
                      <a:pt x="149" y="2635"/>
                    </a:lnTo>
                    <a:lnTo>
                      <a:pt x="187" y="2720"/>
                    </a:lnTo>
                    <a:lnTo>
                      <a:pt x="229" y="2801"/>
                    </a:lnTo>
                    <a:lnTo>
                      <a:pt x="274" y="2880"/>
                    </a:lnTo>
                    <a:lnTo>
                      <a:pt x="325" y="2957"/>
                    </a:lnTo>
                    <a:lnTo>
                      <a:pt x="377" y="3031"/>
                    </a:lnTo>
                    <a:lnTo>
                      <a:pt x="434" y="3103"/>
                    </a:lnTo>
                    <a:lnTo>
                      <a:pt x="494" y="3172"/>
                    </a:lnTo>
                    <a:lnTo>
                      <a:pt x="557" y="3238"/>
                    </a:lnTo>
                    <a:lnTo>
                      <a:pt x="622" y="3302"/>
                    </a:lnTo>
                    <a:lnTo>
                      <a:pt x="691" y="3360"/>
                    </a:lnTo>
                    <a:lnTo>
                      <a:pt x="763" y="3417"/>
                    </a:lnTo>
                    <a:lnTo>
                      <a:pt x="837" y="3471"/>
                    </a:lnTo>
                    <a:lnTo>
                      <a:pt x="914" y="3520"/>
                    </a:lnTo>
                    <a:lnTo>
                      <a:pt x="994" y="3565"/>
                    </a:lnTo>
                    <a:lnTo>
                      <a:pt x="1075" y="3608"/>
                    </a:lnTo>
                    <a:lnTo>
                      <a:pt x="1159" y="3646"/>
                    </a:lnTo>
                    <a:lnTo>
                      <a:pt x="1245" y="3680"/>
                    </a:lnTo>
                    <a:lnTo>
                      <a:pt x="1334" y="3709"/>
                    </a:lnTo>
                    <a:lnTo>
                      <a:pt x="1423" y="3735"/>
                    </a:lnTo>
                    <a:lnTo>
                      <a:pt x="1516" y="3756"/>
                    </a:lnTo>
                    <a:lnTo>
                      <a:pt x="1608" y="3774"/>
                    </a:lnTo>
                    <a:lnTo>
                      <a:pt x="1703" y="3786"/>
                    </a:lnTo>
                    <a:lnTo>
                      <a:pt x="1799" y="3793"/>
                    </a:lnTo>
                    <a:lnTo>
                      <a:pt x="1897" y="3795"/>
                    </a:lnTo>
                    <a:close/>
                  </a:path>
                </a:pathLst>
              </a:custGeom>
              <a:solidFill>
                <a:srgbClr val="00007d"/>
              </a:solidFill>
              <a:ln w="9360">
                <a:solidFill>
                  <a:srgbClr val="0000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Text Box 74"/>
              <p:cNvSpPr/>
              <p:nvPr/>
            </p:nvSpPr>
            <p:spPr>
              <a:xfrm>
                <a:off x="3821400" y="1628640"/>
                <a:ext cx="1476360" cy="276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Персонал</a:t>
                </a:r>
                <a:endParaRPr b="0" lang="en-US" sz="1200" spc="-1" strike="noStrike">
                  <a:solidFill>
                    <a:srgbClr val="000000"/>
                  </a:solidFill>
                  <a:latin typeface="Arial"/>
                </a:endParaRPr>
              </a:p>
            </p:txBody>
          </p:sp>
        </p:grpSp>
        <p:grpSp>
          <p:nvGrpSpPr>
            <p:cNvPr id="151" name="Group 75"/>
            <p:cNvGrpSpPr/>
            <p:nvPr/>
          </p:nvGrpSpPr>
          <p:grpSpPr>
            <a:xfrm>
              <a:off x="5727600" y="1155600"/>
              <a:ext cx="1476360" cy="1139760"/>
              <a:chOff x="5727600" y="1155600"/>
              <a:chExt cx="1476360" cy="1139760"/>
            </a:xfrm>
          </p:grpSpPr>
          <p:grpSp>
            <p:nvGrpSpPr>
              <p:cNvPr id="152" name="Group 76"/>
              <p:cNvGrpSpPr/>
              <p:nvPr/>
            </p:nvGrpSpPr>
            <p:grpSpPr>
              <a:xfrm>
                <a:off x="5781600" y="1155600"/>
                <a:ext cx="1373040" cy="1139760"/>
                <a:chOff x="5781600" y="1155600"/>
                <a:chExt cx="1373040" cy="1139760"/>
              </a:xfrm>
            </p:grpSpPr>
            <p:sp>
              <p:nvSpPr>
                <p:cNvPr id="153" name="Freeform 77"/>
                <p:cNvSpPr/>
                <p:nvPr/>
              </p:nvSpPr>
              <p:spPr>
                <a:xfrm>
                  <a:off x="5781600" y="1155600"/>
                  <a:ext cx="1373040" cy="1139760"/>
                </a:xfrm>
                <a:custGeom>
                  <a:avLst/>
                  <a:gdLst>
                    <a:gd name="textAreaLeft" fmla="*/ 0 w 1373040"/>
                    <a:gd name="textAreaRight" fmla="*/ 1373400 w 1373040"/>
                    <a:gd name="textAreaTop" fmla="*/ 0 h 1139760"/>
                    <a:gd name="textAreaBottom" fmla="*/ 1140120 h 1139760"/>
                  </a:gdLst>
                  <a:ahLst/>
                  <a:rect l="textAreaLeft" t="textAreaTop" r="textAreaRight" b="textAreaBottom"/>
                  <a:pathLst>
                    <a:path w="3795" h="3795">
                      <a:moveTo>
                        <a:pt x="1897" y="3795"/>
                      </a:moveTo>
                      <a:lnTo>
                        <a:pt x="1995" y="3793"/>
                      </a:lnTo>
                      <a:lnTo>
                        <a:pt x="2091" y="3786"/>
                      </a:lnTo>
                      <a:lnTo>
                        <a:pt x="2186" y="3774"/>
                      </a:lnTo>
                      <a:lnTo>
                        <a:pt x="2279" y="3756"/>
                      </a:lnTo>
                      <a:lnTo>
                        <a:pt x="2371" y="3735"/>
                      </a:lnTo>
                      <a:lnTo>
                        <a:pt x="2461" y="3709"/>
                      </a:lnTo>
                      <a:lnTo>
                        <a:pt x="2549" y="3680"/>
                      </a:lnTo>
                      <a:lnTo>
                        <a:pt x="2635" y="3646"/>
                      </a:lnTo>
                      <a:lnTo>
                        <a:pt x="2719" y="3608"/>
                      </a:lnTo>
                      <a:lnTo>
                        <a:pt x="2801" y="3565"/>
                      </a:lnTo>
                      <a:lnTo>
                        <a:pt x="2880" y="3520"/>
                      </a:lnTo>
                      <a:lnTo>
                        <a:pt x="2958" y="3471"/>
                      </a:lnTo>
                      <a:lnTo>
                        <a:pt x="3032" y="3417"/>
                      </a:lnTo>
                      <a:lnTo>
                        <a:pt x="3104" y="3360"/>
                      </a:lnTo>
                      <a:lnTo>
                        <a:pt x="3172" y="3302"/>
                      </a:lnTo>
                      <a:lnTo>
                        <a:pt x="3238" y="3238"/>
                      </a:lnTo>
                      <a:lnTo>
                        <a:pt x="3301" y="3172"/>
                      </a:lnTo>
                      <a:lnTo>
                        <a:pt x="3361" y="3103"/>
                      </a:lnTo>
                      <a:lnTo>
                        <a:pt x="3418" y="3031"/>
                      </a:lnTo>
                      <a:lnTo>
                        <a:pt x="3470" y="2957"/>
                      </a:lnTo>
                      <a:lnTo>
                        <a:pt x="3520" y="2880"/>
                      </a:lnTo>
                      <a:lnTo>
                        <a:pt x="3566" y="2801"/>
                      </a:lnTo>
                      <a:lnTo>
                        <a:pt x="3607" y="2720"/>
                      </a:lnTo>
                      <a:lnTo>
                        <a:pt x="3645" y="2635"/>
                      </a:lnTo>
                      <a:lnTo>
                        <a:pt x="3679" y="2548"/>
                      </a:lnTo>
                      <a:lnTo>
                        <a:pt x="3710" y="2461"/>
                      </a:lnTo>
                      <a:lnTo>
                        <a:pt x="3735" y="2371"/>
                      </a:lnTo>
                      <a:lnTo>
                        <a:pt x="3756" y="2279"/>
                      </a:lnTo>
                      <a:lnTo>
                        <a:pt x="3773" y="2185"/>
                      </a:lnTo>
                      <a:lnTo>
                        <a:pt x="3785" y="2091"/>
                      </a:lnTo>
                      <a:lnTo>
                        <a:pt x="3792" y="1995"/>
                      </a:lnTo>
                      <a:lnTo>
                        <a:pt x="3795" y="1898"/>
                      </a:lnTo>
                      <a:lnTo>
                        <a:pt x="3792" y="1801"/>
                      </a:lnTo>
                      <a:lnTo>
                        <a:pt x="3785" y="1704"/>
                      </a:lnTo>
                      <a:lnTo>
                        <a:pt x="3773" y="1609"/>
                      </a:lnTo>
                      <a:lnTo>
                        <a:pt x="3756" y="1516"/>
                      </a:lnTo>
                      <a:lnTo>
                        <a:pt x="3735" y="1425"/>
                      </a:lnTo>
                      <a:lnTo>
                        <a:pt x="3710" y="1334"/>
                      </a:lnTo>
                      <a:lnTo>
                        <a:pt x="3679" y="1246"/>
                      </a:lnTo>
                      <a:lnTo>
                        <a:pt x="3645" y="1160"/>
                      </a:lnTo>
                      <a:lnTo>
                        <a:pt x="3607" y="1076"/>
                      </a:lnTo>
                      <a:lnTo>
                        <a:pt x="3566" y="994"/>
                      </a:lnTo>
                      <a:lnTo>
                        <a:pt x="3520" y="915"/>
                      </a:lnTo>
                      <a:lnTo>
                        <a:pt x="3470" y="838"/>
                      </a:lnTo>
                      <a:lnTo>
                        <a:pt x="3418" y="763"/>
                      </a:lnTo>
                      <a:lnTo>
                        <a:pt x="3361" y="692"/>
                      </a:lnTo>
                      <a:lnTo>
                        <a:pt x="3301" y="622"/>
                      </a:lnTo>
                      <a:lnTo>
                        <a:pt x="3238" y="557"/>
                      </a:lnTo>
                      <a:lnTo>
                        <a:pt x="3172" y="494"/>
                      </a:lnTo>
                      <a:lnTo>
                        <a:pt x="3104" y="434"/>
                      </a:lnTo>
                      <a:lnTo>
                        <a:pt x="3032" y="378"/>
                      </a:lnTo>
                      <a:lnTo>
                        <a:pt x="2958" y="325"/>
                      </a:lnTo>
                      <a:lnTo>
                        <a:pt x="2880" y="276"/>
                      </a:lnTo>
                      <a:lnTo>
                        <a:pt x="2801" y="230"/>
                      </a:lnTo>
                      <a:lnTo>
                        <a:pt x="2719" y="187"/>
                      </a:lnTo>
                      <a:lnTo>
                        <a:pt x="2635" y="149"/>
                      </a:lnTo>
                      <a:lnTo>
                        <a:pt x="2549" y="116"/>
                      </a:lnTo>
                      <a:lnTo>
                        <a:pt x="2461" y="85"/>
                      </a:lnTo>
                      <a:lnTo>
                        <a:pt x="2371" y="60"/>
                      </a:lnTo>
                      <a:lnTo>
                        <a:pt x="2279" y="38"/>
                      </a:lnTo>
                      <a:lnTo>
                        <a:pt x="2186" y="22"/>
                      </a:lnTo>
                      <a:lnTo>
                        <a:pt x="2091" y="10"/>
                      </a:lnTo>
                      <a:lnTo>
                        <a:pt x="1995" y="2"/>
                      </a:lnTo>
                      <a:lnTo>
                        <a:pt x="1897" y="0"/>
                      </a:lnTo>
                      <a:lnTo>
                        <a:pt x="1800" y="2"/>
                      </a:lnTo>
                      <a:lnTo>
                        <a:pt x="1704" y="10"/>
                      </a:lnTo>
                      <a:lnTo>
                        <a:pt x="1610" y="22"/>
                      </a:lnTo>
                      <a:lnTo>
                        <a:pt x="1516" y="38"/>
                      </a:lnTo>
                      <a:lnTo>
                        <a:pt x="1424" y="60"/>
                      </a:lnTo>
                      <a:lnTo>
                        <a:pt x="1335" y="85"/>
                      </a:lnTo>
                      <a:lnTo>
                        <a:pt x="1247" y="116"/>
                      </a:lnTo>
                      <a:lnTo>
                        <a:pt x="1161" y="149"/>
                      </a:lnTo>
                      <a:lnTo>
                        <a:pt x="1077" y="187"/>
                      </a:lnTo>
                      <a:lnTo>
                        <a:pt x="995" y="230"/>
                      </a:lnTo>
                      <a:lnTo>
                        <a:pt x="915" y="276"/>
                      </a:lnTo>
                      <a:lnTo>
                        <a:pt x="838" y="325"/>
                      </a:lnTo>
                      <a:lnTo>
                        <a:pt x="764" y="378"/>
                      </a:lnTo>
                      <a:lnTo>
                        <a:pt x="692" y="434"/>
                      </a:lnTo>
                      <a:lnTo>
                        <a:pt x="623" y="494"/>
                      </a:lnTo>
                      <a:lnTo>
                        <a:pt x="557" y="557"/>
                      </a:lnTo>
                      <a:lnTo>
                        <a:pt x="495" y="622"/>
                      </a:lnTo>
                      <a:lnTo>
                        <a:pt x="435" y="692"/>
                      </a:lnTo>
                      <a:lnTo>
                        <a:pt x="378" y="763"/>
                      </a:lnTo>
                      <a:lnTo>
                        <a:pt x="325" y="838"/>
                      </a:lnTo>
                      <a:lnTo>
                        <a:pt x="276" y="915"/>
                      </a:lnTo>
                      <a:lnTo>
                        <a:pt x="230" y="994"/>
                      </a:lnTo>
                      <a:lnTo>
                        <a:pt x="187" y="1076"/>
                      </a:lnTo>
                      <a:lnTo>
                        <a:pt x="150" y="1160"/>
                      </a:lnTo>
                      <a:lnTo>
                        <a:pt x="115" y="1246"/>
                      </a:lnTo>
                      <a:lnTo>
                        <a:pt x="86" y="1334"/>
                      </a:lnTo>
                      <a:lnTo>
                        <a:pt x="60" y="1425"/>
                      </a:lnTo>
                      <a:lnTo>
                        <a:pt x="39" y="1516"/>
                      </a:lnTo>
                      <a:lnTo>
                        <a:pt x="23" y="1609"/>
                      </a:lnTo>
                      <a:lnTo>
                        <a:pt x="10" y="1704"/>
                      </a:lnTo>
                      <a:lnTo>
                        <a:pt x="3" y="1801"/>
                      </a:lnTo>
                      <a:lnTo>
                        <a:pt x="0" y="1898"/>
                      </a:lnTo>
                      <a:lnTo>
                        <a:pt x="3" y="1995"/>
                      </a:lnTo>
                      <a:lnTo>
                        <a:pt x="10" y="2091"/>
                      </a:lnTo>
                      <a:lnTo>
                        <a:pt x="23" y="2185"/>
                      </a:lnTo>
                      <a:lnTo>
                        <a:pt x="39" y="2279"/>
                      </a:lnTo>
                      <a:lnTo>
                        <a:pt x="60" y="2371"/>
                      </a:lnTo>
                      <a:lnTo>
                        <a:pt x="86" y="2461"/>
                      </a:lnTo>
                      <a:lnTo>
                        <a:pt x="115" y="2548"/>
                      </a:lnTo>
                      <a:lnTo>
                        <a:pt x="150" y="2635"/>
                      </a:lnTo>
                      <a:lnTo>
                        <a:pt x="187" y="2720"/>
                      </a:lnTo>
                      <a:lnTo>
                        <a:pt x="230" y="2801"/>
                      </a:lnTo>
                      <a:lnTo>
                        <a:pt x="276" y="2880"/>
                      </a:lnTo>
                      <a:lnTo>
                        <a:pt x="325" y="2957"/>
                      </a:lnTo>
                      <a:lnTo>
                        <a:pt x="378" y="3031"/>
                      </a:lnTo>
                      <a:lnTo>
                        <a:pt x="435" y="3103"/>
                      </a:lnTo>
                      <a:lnTo>
                        <a:pt x="495" y="3172"/>
                      </a:lnTo>
                      <a:lnTo>
                        <a:pt x="557" y="3238"/>
                      </a:lnTo>
                      <a:lnTo>
                        <a:pt x="623" y="3302"/>
                      </a:lnTo>
                      <a:lnTo>
                        <a:pt x="692" y="3360"/>
                      </a:lnTo>
                      <a:lnTo>
                        <a:pt x="764" y="3417"/>
                      </a:lnTo>
                      <a:lnTo>
                        <a:pt x="838" y="3471"/>
                      </a:lnTo>
                      <a:lnTo>
                        <a:pt x="915" y="3520"/>
                      </a:lnTo>
                      <a:lnTo>
                        <a:pt x="995" y="3565"/>
                      </a:lnTo>
                      <a:lnTo>
                        <a:pt x="1077" y="3608"/>
                      </a:lnTo>
                      <a:lnTo>
                        <a:pt x="1161" y="3646"/>
                      </a:lnTo>
                      <a:lnTo>
                        <a:pt x="1247" y="3680"/>
                      </a:lnTo>
                      <a:lnTo>
                        <a:pt x="1335" y="3709"/>
                      </a:lnTo>
                      <a:lnTo>
                        <a:pt x="1424" y="3735"/>
                      </a:lnTo>
                      <a:lnTo>
                        <a:pt x="1516" y="3756"/>
                      </a:lnTo>
                      <a:lnTo>
                        <a:pt x="1610" y="3774"/>
                      </a:lnTo>
                      <a:lnTo>
                        <a:pt x="1704" y="3786"/>
                      </a:lnTo>
                      <a:lnTo>
                        <a:pt x="1800"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Freeform 78"/>
                <p:cNvSpPr/>
                <p:nvPr/>
              </p:nvSpPr>
              <p:spPr>
                <a:xfrm>
                  <a:off x="5781600" y="1155600"/>
                  <a:ext cx="1373040" cy="1139760"/>
                </a:xfrm>
                <a:custGeom>
                  <a:avLst/>
                  <a:gdLst>
                    <a:gd name="textAreaLeft" fmla="*/ 0 w 1373040"/>
                    <a:gd name="textAreaRight" fmla="*/ 1373400 w 1373040"/>
                    <a:gd name="textAreaTop" fmla="*/ 0 h 1139760"/>
                    <a:gd name="textAreaBottom" fmla="*/ 1140120 h 1139760"/>
                  </a:gdLst>
                  <a:ahLst/>
                  <a:rect l="textAreaLeft" t="textAreaTop" r="textAreaRight" b="textAreaBottom"/>
                  <a:pathLst>
                    <a:path w="3795" h="3795">
                      <a:moveTo>
                        <a:pt x="1897" y="3795"/>
                      </a:moveTo>
                      <a:lnTo>
                        <a:pt x="1995" y="3793"/>
                      </a:lnTo>
                      <a:lnTo>
                        <a:pt x="2091" y="3786"/>
                      </a:lnTo>
                      <a:lnTo>
                        <a:pt x="2186" y="3774"/>
                      </a:lnTo>
                      <a:lnTo>
                        <a:pt x="2279" y="3756"/>
                      </a:lnTo>
                      <a:lnTo>
                        <a:pt x="2371" y="3735"/>
                      </a:lnTo>
                      <a:lnTo>
                        <a:pt x="2461" y="3709"/>
                      </a:lnTo>
                      <a:lnTo>
                        <a:pt x="2549" y="3680"/>
                      </a:lnTo>
                      <a:lnTo>
                        <a:pt x="2635" y="3646"/>
                      </a:lnTo>
                      <a:lnTo>
                        <a:pt x="2719" y="3608"/>
                      </a:lnTo>
                      <a:lnTo>
                        <a:pt x="2801" y="3565"/>
                      </a:lnTo>
                      <a:lnTo>
                        <a:pt x="2880" y="3520"/>
                      </a:lnTo>
                      <a:lnTo>
                        <a:pt x="2958" y="3471"/>
                      </a:lnTo>
                      <a:lnTo>
                        <a:pt x="3032" y="3417"/>
                      </a:lnTo>
                      <a:lnTo>
                        <a:pt x="3104" y="3360"/>
                      </a:lnTo>
                      <a:lnTo>
                        <a:pt x="3172" y="3302"/>
                      </a:lnTo>
                      <a:lnTo>
                        <a:pt x="3238" y="3238"/>
                      </a:lnTo>
                      <a:lnTo>
                        <a:pt x="3301" y="3172"/>
                      </a:lnTo>
                      <a:lnTo>
                        <a:pt x="3361" y="3103"/>
                      </a:lnTo>
                      <a:lnTo>
                        <a:pt x="3418" y="3031"/>
                      </a:lnTo>
                      <a:lnTo>
                        <a:pt x="3470" y="2957"/>
                      </a:lnTo>
                      <a:lnTo>
                        <a:pt x="3520" y="2880"/>
                      </a:lnTo>
                      <a:lnTo>
                        <a:pt x="3566" y="2801"/>
                      </a:lnTo>
                      <a:lnTo>
                        <a:pt x="3607" y="2720"/>
                      </a:lnTo>
                      <a:lnTo>
                        <a:pt x="3645" y="2635"/>
                      </a:lnTo>
                      <a:lnTo>
                        <a:pt x="3679" y="2548"/>
                      </a:lnTo>
                      <a:lnTo>
                        <a:pt x="3710" y="2461"/>
                      </a:lnTo>
                      <a:lnTo>
                        <a:pt x="3735" y="2371"/>
                      </a:lnTo>
                      <a:lnTo>
                        <a:pt x="3756" y="2279"/>
                      </a:lnTo>
                      <a:lnTo>
                        <a:pt x="3773" y="2185"/>
                      </a:lnTo>
                      <a:lnTo>
                        <a:pt x="3785" y="2091"/>
                      </a:lnTo>
                      <a:lnTo>
                        <a:pt x="3792" y="1995"/>
                      </a:lnTo>
                      <a:lnTo>
                        <a:pt x="3795" y="1898"/>
                      </a:lnTo>
                      <a:lnTo>
                        <a:pt x="3792" y="1801"/>
                      </a:lnTo>
                      <a:lnTo>
                        <a:pt x="3785" y="1704"/>
                      </a:lnTo>
                      <a:lnTo>
                        <a:pt x="3773" y="1609"/>
                      </a:lnTo>
                      <a:lnTo>
                        <a:pt x="3756" y="1516"/>
                      </a:lnTo>
                      <a:lnTo>
                        <a:pt x="3735" y="1425"/>
                      </a:lnTo>
                      <a:lnTo>
                        <a:pt x="3710" y="1334"/>
                      </a:lnTo>
                      <a:lnTo>
                        <a:pt x="3679" y="1246"/>
                      </a:lnTo>
                      <a:lnTo>
                        <a:pt x="3645" y="1160"/>
                      </a:lnTo>
                      <a:lnTo>
                        <a:pt x="3607" y="1076"/>
                      </a:lnTo>
                      <a:lnTo>
                        <a:pt x="3566" y="994"/>
                      </a:lnTo>
                      <a:lnTo>
                        <a:pt x="3520" y="915"/>
                      </a:lnTo>
                      <a:lnTo>
                        <a:pt x="3470" y="838"/>
                      </a:lnTo>
                      <a:lnTo>
                        <a:pt x="3418" y="763"/>
                      </a:lnTo>
                      <a:lnTo>
                        <a:pt x="3361" y="692"/>
                      </a:lnTo>
                      <a:lnTo>
                        <a:pt x="3301" y="622"/>
                      </a:lnTo>
                      <a:lnTo>
                        <a:pt x="3238" y="557"/>
                      </a:lnTo>
                      <a:lnTo>
                        <a:pt x="3172" y="494"/>
                      </a:lnTo>
                      <a:lnTo>
                        <a:pt x="3104" y="434"/>
                      </a:lnTo>
                      <a:lnTo>
                        <a:pt x="3032" y="378"/>
                      </a:lnTo>
                      <a:lnTo>
                        <a:pt x="2958" y="325"/>
                      </a:lnTo>
                      <a:lnTo>
                        <a:pt x="2880" y="276"/>
                      </a:lnTo>
                      <a:lnTo>
                        <a:pt x="2801" y="230"/>
                      </a:lnTo>
                      <a:lnTo>
                        <a:pt x="2719" y="187"/>
                      </a:lnTo>
                      <a:lnTo>
                        <a:pt x="2635" y="149"/>
                      </a:lnTo>
                      <a:lnTo>
                        <a:pt x="2549" y="116"/>
                      </a:lnTo>
                      <a:lnTo>
                        <a:pt x="2461" y="85"/>
                      </a:lnTo>
                      <a:lnTo>
                        <a:pt x="2371" y="60"/>
                      </a:lnTo>
                      <a:lnTo>
                        <a:pt x="2279" y="38"/>
                      </a:lnTo>
                      <a:lnTo>
                        <a:pt x="2186" y="22"/>
                      </a:lnTo>
                      <a:lnTo>
                        <a:pt x="2091" y="10"/>
                      </a:lnTo>
                      <a:lnTo>
                        <a:pt x="1995" y="2"/>
                      </a:lnTo>
                      <a:lnTo>
                        <a:pt x="1897" y="0"/>
                      </a:lnTo>
                      <a:lnTo>
                        <a:pt x="1800" y="2"/>
                      </a:lnTo>
                      <a:lnTo>
                        <a:pt x="1704" y="10"/>
                      </a:lnTo>
                      <a:lnTo>
                        <a:pt x="1610" y="22"/>
                      </a:lnTo>
                      <a:lnTo>
                        <a:pt x="1516" y="38"/>
                      </a:lnTo>
                      <a:lnTo>
                        <a:pt x="1424" y="60"/>
                      </a:lnTo>
                      <a:lnTo>
                        <a:pt x="1335" y="85"/>
                      </a:lnTo>
                      <a:lnTo>
                        <a:pt x="1247" y="116"/>
                      </a:lnTo>
                      <a:lnTo>
                        <a:pt x="1161" y="149"/>
                      </a:lnTo>
                      <a:lnTo>
                        <a:pt x="1077" y="187"/>
                      </a:lnTo>
                      <a:lnTo>
                        <a:pt x="995" y="230"/>
                      </a:lnTo>
                      <a:lnTo>
                        <a:pt x="915" y="276"/>
                      </a:lnTo>
                      <a:lnTo>
                        <a:pt x="838" y="325"/>
                      </a:lnTo>
                      <a:lnTo>
                        <a:pt x="764" y="378"/>
                      </a:lnTo>
                      <a:lnTo>
                        <a:pt x="692" y="434"/>
                      </a:lnTo>
                      <a:lnTo>
                        <a:pt x="623" y="494"/>
                      </a:lnTo>
                      <a:lnTo>
                        <a:pt x="557" y="557"/>
                      </a:lnTo>
                      <a:lnTo>
                        <a:pt x="495" y="622"/>
                      </a:lnTo>
                      <a:lnTo>
                        <a:pt x="435" y="692"/>
                      </a:lnTo>
                      <a:lnTo>
                        <a:pt x="378" y="763"/>
                      </a:lnTo>
                      <a:lnTo>
                        <a:pt x="325" y="838"/>
                      </a:lnTo>
                      <a:lnTo>
                        <a:pt x="276" y="915"/>
                      </a:lnTo>
                      <a:lnTo>
                        <a:pt x="230" y="994"/>
                      </a:lnTo>
                      <a:lnTo>
                        <a:pt x="187" y="1076"/>
                      </a:lnTo>
                      <a:lnTo>
                        <a:pt x="150" y="1160"/>
                      </a:lnTo>
                      <a:lnTo>
                        <a:pt x="115" y="1246"/>
                      </a:lnTo>
                      <a:lnTo>
                        <a:pt x="86" y="1334"/>
                      </a:lnTo>
                      <a:lnTo>
                        <a:pt x="60" y="1425"/>
                      </a:lnTo>
                      <a:lnTo>
                        <a:pt x="39" y="1516"/>
                      </a:lnTo>
                      <a:lnTo>
                        <a:pt x="23" y="1609"/>
                      </a:lnTo>
                      <a:lnTo>
                        <a:pt x="10" y="1704"/>
                      </a:lnTo>
                      <a:lnTo>
                        <a:pt x="3" y="1801"/>
                      </a:lnTo>
                      <a:lnTo>
                        <a:pt x="0" y="1898"/>
                      </a:lnTo>
                      <a:lnTo>
                        <a:pt x="3" y="1995"/>
                      </a:lnTo>
                      <a:lnTo>
                        <a:pt x="10" y="2091"/>
                      </a:lnTo>
                      <a:lnTo>
                        <a:pt x="23" y="2185"/>
                      </a:lnTo>
                      <a:lnTo>
                        <a:pt x="39" y="2279"/>
                      </a:lnTo>
                      <a:lnTo>
                        <a:pt x="60" y="2371"/>
                      </a:lnTo>
                      <a:lnTo>
                        <a:pt x="86" y="2461"/>
                      </a:lnTo>
                      <a:lnTo>
                        <a:pt x="115" y="2548"/>
                      </a:lnTo>
                      <a:lnTo>
                        <a:pt x="150" y="2635"/>
                      </a:lnTo>
                      <a:lnTo>
                        <a:pt x="187" y="2720"/>
                      </a:lnTo>
                      <a:lnTo>
                        <a:pt x="230" y="2801"/>
                      </a:lnTo>
                      <a:lnTo>
                        <a:pt x="276" y="2880"/>
                      </a:lnTo>
                      <a:lnTo>
                        <a:pt x="325" y="2957"/>
                      </a:lnTo>
                      <a:lnTo>
                        <a:pt x="378" y="3031"/>
                      </a:lnTo>
                      <a:lnTo>
                        <a:pt x="435" y="3103"/>
                      </a:lnTo>
                      <a:lnTo>
                        <a:pt x="495" y="3172"/>
                      </a:lnTo>
                      <a:lnTo>
                        <a:pt x="557" y="3238"/>
                      </a:lnTo>
                      <a:lnTo>
                        <a:pt x="623" y="3302"/>
                      </a:lnTo>
                      <a:lnTo>
                        <a:pt x="692" y="3360"/>
                      </a:lnTo>
                      <a:lnTo>
                        <a:pt x="764" y="3417"/>
                      </a:lnTo>
                      <a:lnTo>
                        <a:pt x="838" y="3471"/>
                      </a:lnTo>
                      <a:lnTo>
                        <a:pt x="915" y="3520"/>
                      </a:lnTo>
                      <a:lnTo>
                        <a:pt x="995" y="3565"/>
                      </a:lnTo>
                      <a:lnTo>
                        <a:pt x="1077" y="3608"/>
                      </a:lnTo>
                      <a:lnTo>
                        <a:pt x="1161" y="3646"/>
                      </a:lnTo>
                      <a:lnTo>
                        <a:pt x="1247" y="3680"/>
                      </a:lnTo>
                      <a:lnTo>
                        <a:pt x="1335" y="3709"/>
                      </a:lnTo>
                      <a:lnTo>
                        <a:pt x="1424" y="3735"/>
                      </a:lnTo>
                      <a:lnTo>
                        <a:pt x="1516" y="3756"/>
                      </a:lnTo>
                      <a:lnTo>
                        <a:pt x="1610" y="3774"/>
                      </a:lnTo>
                      <a:lnTo>
                        <a:pt x="1704" y="3786"/>
                      </a:lnTo>
                      <a:lnTo>
                        <a:pt x="1800" y="3793"/>
                      </a:lnTo>
                      <a:lnTo>
                        <a:pt x="1897" y="3795"/>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5" name="Text Box 79"/>
              <p:cNvSpPr/>
              <p:nvPr/>
            </p:nvSpPr>
            <p:spPr>
              <a:xfrm>
                <a:off x="5727600" y="1629360"/>
                <a:ext cx="1476360" cy="276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Оборудование</a:t>
                </a:r>
                <a:endParaRPr b="0" lang="en-US" sz="1200" spc="-1" strike="noStrike">
                  <a:solidFill>
                    <a:srgbClr val="000000"/>
                  </a:solidFill>
                  <a:latin typeface="Arial"/>
                </a:endParaRPr>
              </a:p>
            </p:txBody>
          </p:sp>
        </p:grpSp>
        <p:sp>
          <p:nvSpPr>
            <p:cNvPr id="156" name="Line 27"/>
            <p:cNvSpPr/>
            <p:nvPr/>
          </p:nvSpPr>
          <p:spPr>
            <a:xfrm flipH="1">
              <a:off x="2302560" y="3046320"/>
              <a:ext cx="467604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57" name="Group 130"/>
            <p:cNvGrpSpPr/>
            <p:nvPr/>
          </p:nvGrpSpPr>
          <p:grpSpPr>
            <a:xfrm>
              <a:off x="1848600" y="2438280"/>
              <a:ext cx="1382040" cy="1139760"/>
              <a:chOff x="1848600" y="2438280"/>
              <a:chExt cx="1382040" cy="1139760"/>
            </a:xfrm>
          </p:grpSpPr>
          <p:sp>
            <p:nvSpPr>
              <p:cNvPr id="158" name="Freeform 46"/>
              <p:cNvSpPr/>
              <p:nvPr/>
            </p:nvSpPr>
            <p:spPr>
              <a:xfrm>
                <a:off x="1854000" y="2438280"/>
                <a:ext cx="1376640" cy="1139760"/>
              </a:xfrm>
              <a:custGeom>
                <a:avLst/>
                <a:gdLst>
                  <a:gd name="textAreaLeft" fmla="*/ 0 w 1376640"/>
                  <a:gd name="textAreaRight" fmla="*/ 1377000 w 1376640"/>
                  <a:gd name="textAreaTop" fmla="*/ 0 h 1139760"/>
                  <a:gd name="textAreaBottom" fmla="*/ 1140120 h 1139760"/>
                </a:gdLst>
                <a:ahLst/>
                <a:rect l="textAreaLeft" t="textAreaTop" r="textAreaRight" b="textAreaBottom"/>
                <a:pathLst>
                  <a:path w="3795" h="3795">
                    <a:moveTo>
                      <a:pt x="1898" y="3795"/>
                    </a:moveTo>
                    <a:lnTo>
                      <a:pt x="1995" y="3792"/>
                    </a:lnTo>
                    <a:lnTo>
                      <a:pt x="2091" y="3786"/>
                    </a:lnTo>
                    <a:lnTo>
                      <a:pt x="2185" y="3774"/>
                    </a:lnTo>
                    <a:lnTo>
                      <a:pt x="2279" y="3756"/>
                    </a:lnTo>
                    <a:lnTo>
                      <a:pt x="2371" y="3736"/>
                    </a:lnTo>
                    <a:lnTo>
                      <a:pt x="2460" y="3709"/>
                    </a:lnTo>
                    <a:lnTo>
                      <a:pt x="2548" y="3680"/>
                    </a:lnTo>
                    <a:lnTo>
                      <a:pt x="2634" y="3645"/>
                    </a:lnTo>
                    <a:lnTo>
                      <a:pt x="2718" y="3608"/>
                    </a:lnTo>
                    <a:lnTo>
                      <a:pt x="2800" y="3566"/>
                    </a:lnTo>
                    <a:lnTo>
                      <a:pt x="2880" y="3520"/>
                    </a:lnTo>
                    <a:lnTo>
                      <a:pt x="2957" y="3471"/>
                    </a:lnTo>
                    <a:lnTo>
                      <a:pt x="3031" y="3417"/>
                    </a:lnTo>
                    <a:lnTo>
                      <a:pt x="3103" y="3361"/>
                    </a:lnTo>
                    <a:lnTo>
                      <a:pt x="3172" y="3301"/>
                    </a:lnTo>
                    <a:lnTo>
                      <a:pt x="3238" y="3239"/>
                    </a:lnTo>
                    <a:lnTo>
                      <a:pt x="3300" y="3172"/>
                    </a:lnTo>
                    <a:lnTo>
                      <a:pt x="3360" y="3103"/>
                    </a:lnTo>
                    <a:lnTo>
                      <a:pt x="3417" y="3031"/>
                    </a:lnTo>
                    <a:lnTo>
                      <a:pt x="3470" y="2957"/>
                    </a:lnTo>
                    <a:lnTo>
                      <a:pt x="3519" y="2880"/>
                    </a:lnTo>
                    <a:lnTo>
                      <a:pt x="3565" y="2800"/>
                    </a:lnTo>
                    <a:lnTo>
                      <a:pt x="3608" y="2719"/>
                    </a:lnTo>
                    <a:lnTo>
                      <a:pt x="3646" y="2635"/>
                    </a:lnTo>
                    <a:lnTo>
                      <a:pt x="3680" y="2549"/>
                    </a:lnTo>
                    <a:lnTo>
                      <a:pt x="3709" y="2460"/>
                    </a:lnTo>
                    <a:lnTo>
                      <a:pt x="3735" y="2371"/>
                    </a:lnTo>
                    <a:lnTo>
                      <a:pt x="3756" y="2279"/>
                    </a:lnTo>
                    <a:lnTo>
                      <a:pt x="3773" y="2186"/>
                    </a:lnTo>
                    <a:lnTo>
                      <a:pt x="3785" y="2091"/>
                    </a:lnTo>
                    <a:lnTo>
                      <a:pt x="3792" y="1995"/>
                    </a:lnTo>
                    <a:lnTo>
                      <a:pt x="3795" y="1898"/>
                    </a:lnTo>
                    <a:lnTo>
                      <a:pt x="3792" y="1800"/>
                    </a:lnTo>
                    <a:lnTo>
                      <a:pt x="3785" y="1704"/>
                    </a:lnTo>
                    <a:lnTo>
                      <a:pt x="3773" y="1609"/>
                    </a:lnTo>
                    <a:lnTo>
                      <a:pt x="3756" y="1516"/>
                    </a:lnTo>
                    <a:lnTo>
                      <a:pt x="3735" y="1424"/>
                    </a:lnTo>
                    <a:lnTo>
                      <a:pt x="3709" y="1334"/>
                    </a:lnTo>
                    <a:lnTo>
                      <a:pt x="3680" y="1246"/>
                    </a:lnTo>
                    <a:lnTo>
                      <a:pt x="3646" y="1160"/>
                    </a:lnTo>
                    <a:lnTo>
                      <a:pt x="3608" y="1076"/>
                    </a:lnTo>
                    <a:lnTo>
                      <a:pt x="3565" y="994"/>
                    </a:lnTo>
                    <a:lnTo>
                      <a:pt x="3519" y="915"/>
                    </a:lnTo>
                    <a:lnTo>
                      <a:pt x="3470" y="837"/>
                    </a:lnTo>
                    <a:lnTo>
                      <a:pt x="3417" y="763"/>
                    </a:lnTo>
                    <a:lnTo>
                      <a:pt x="3360" y="691"/>
                    </a:lnTo>
                    <a:lnTo>
                      <a:pt x="3300" y="623"/>
                    </a:lnTo>
                    <a:lnTo>
                      <a:pt x="3238" y="557"/>
                    </a:lnTo>
                    <a:lnTo>
                      <a:pt x="3172" y="494"/>
                    </a:lnTo>
                    <a:lnTo>
                      <a:pt x="3103" y="434"/>
                    </a:lnTo>
                    <a:lnTo>
                      <a:pt x="3031" y="377"/>
                    </a:lnTo>
                    <a:lnTo>
                      <a:pt x="2957" y="325"/>
                    </a:lnTo>
                    <a:lnTo>
                      <a:pt x="2880" y="275"/>
                    </a:lnTo>
                    <a:lnTo>
                      <a:pt x="2800" y="229"/>
                    </a:lnTo>
                    <a:lnTo>
                      <a:pt x="2718" y="188"/>
                    </a:lnTo>
                    <a:lnTo>
                      <a:pt x="2634" y="149"/>
                    </a:lnTo>
                    <a:lnTo>
                      <a:pt x="2548" y="116"/>
                    </a:lnTo>
                    <a:lnTo>
                      <a:pt x="2460" y="85"/>
                    </a:lnTo>
                    <a:lnTo>
                      <a:pt x="2371" y="60"/>
                    </a:lnTo>
                    <a:lnTo>
                      <a:pt x="2279" y="38"/>
                    </a:lnTo>
                    <a:lnTo>
                      <a:pt x="2185" y="22"/>
                    </a:lnTo>
                    <a:lnTo>
                      <a:pt x="2091" y="10"/>
                    </a:lnTo>
                    <a:lnTo>
                      <a:pt x="1995" y="2"/>
                    </a:lnTo>
                    <a:lnTo>
                      <a:pt x="1898" y="0"/>
                    </a:lnTo>
                    <a:lnTo>
                      <a:pt x="1800" y="2"/>
                    </a:lnTo>
                    <a:lnTo>
                      <a:pt x="1704" y="10"/>
                    </a:lnTo>
                    <a:lnTo>
                      <a:pt x="1609" y="22"/>
                    </a:lnTo>
                    <a:lnTo>
                      <a:pt x="1516" y="38"/>
                    </a:lnTo>
                    <a:lnTo>
                      <a:pt x="1425" y="60"/>
                    </a:lnTo>
                    <a:lnTo>
                      <a:pt x="1334" y="85"/>
                    </a:lnTo>
                    <a:lnTo>
                      <a:pt x="1246" y="116"/>
                    </a:lnTo>
                    <a:lnTo>
                      <a:pt x="1160" y="149"/>
                    </a:lnTo>
                    <a:lnTo>
                      <a:pt x="1076" y="188"/>
                    </a:lnTo>
                    <a:lnTo>
                      <a:pt x="994" y="229"/>
                    </a:lnTo>
                    <a:lnTo>
                      <a:pt x="915" y="275"/>
                    </a:lnTo>
                    <a:lnTo>
                      <a:pt x="838" y="325"/>
                    </a:lnTo>
                    <a:lnTo>
                      <a:pt x="763" y="377"/>
                    </a:lnTo>
                    <a:lnTo>
                      <a:pt x="691" y="434"/>
                    </a:lnTo>
                    <a:lnTo>
                      <a:pt x="623" y="494"/>
                    </a:lnTo>
                    <a:lnTo>
                      <a:pt x="557" y="557"/>
                    </a:lnTo>
                    <a:lnTo>
                      <a:pt x="494" y="623"/>
                    </a:lnTo>
                    <a:lnTo>
                      <a:pt x="434" y="691"/>
                    </a:lnTo>
                    <a:lnTo>
                      <a:pt x="377" y="763"/>
                    </a:lnTo>
                    <a:lnTo>
                      <a:pt x="325" y="837"/>
                    </a:lnTo>
                    <a:lnTo>
                      <a:pt x="275" y="915"/>
                    </a:lnTo>
                    <a:lnTo>
                      <a:pt x="229" y="994"/>
                    </a:lnTo>
                    <a:lnTo>
                      <a:pt x="188" y="1076"/>
                    </a:lnTo>
                    <a:lnTo>
                      <a:pt x="150" y="1160"/>
                    </a:lnTo>
                    <a:lnTo>
                      <a:pt x="116" y="1246"/>
                    </a:lnTo>
                    <a:lnTo>
                      <a:pt x="85" y="1334"/>
                    </a:lnTo>
                    <a:lnTo>
                      <a:pt x="60" y="1424"/>
                    </a:lnTo>
                    <a:lnTo>
                      <a:pt x="39" y="1516"/>
                    </a:lnTo>
                    <a:lnTo>
                      <a:pt x="22" y="1609"/>
                    </a:lnTo>
                    <a:lnTo>
                      <a:pt x="10" y="1704"/>
                    </a:lnTo>
                    <a:lnTo>
                      <a:pt x="3" y="1800"/>
                    </a:lnTo>
                    <a:lnTo>
                      <a:pt x="0" y="1898"/>
                    </a:lnTo>
                    <a:lnTo>
                      <a:pt x="3" y="1995"/>
                    </a:lnTo>
                    <a:lnTo>
                      <a:pt x="10" y="2091"/>
                    </a:lnTo>
                    <a:lnTo>
                      <a:pt x="22" y="2186"/>
                    </a:lnTo>
                    <a:lnTo>
                      <a:pt x="39" y="2279"/>
                    </a:lnTo>
                    <a:lnTo>
                      <a:pt x="60" y="2371"/>
                    </a:lnTo>
                    <a:lnTo>
                      <a:pt x="85" y="2460"/>
                    </a:lnTo>
                    <a:lnTo>
                      <a:pt x="116" y="2549"/>
                    </a:lnTo>
                    <a:lnTo>
                      <a:pt x="150" y="2635"/>
                    </a:lnTo>
                    <a:lnTo>
                      <a:pt x="188" y="2719"/>
                    </a:lnTo>
                    <a:lnTo>
                      <a:pt x="229" y="2800"/>
                    </a:lnTo>
                    <a:lnTo>
                      <a:pt x="275" y="2880"/>
                    </a:lnTo>
                    <a:lnTo>
                      <a:pt x="325" y="2957"/>
                    </a:lnTo>
                    <a:lnTo>
                      <a:pt x="377" y="3031"/>
                    </a:lnTo>
                    <a:lnTo>
                      <a:pt x="434" y="3103"/>
                    </a:lnTo>
                    <a:lnTo>
                      <a:pt x="494" y="3172"/>
                    </a:lnTo>
                    <a:lnTo>
                      <a:pt x="557" y="3239"/>
                    </a:lnTo>
                    <a:lnTo>
                      <a:pt x="623" y="3301"/>
                    </a:lnTo>
                    <a:lnTo>
                      <a:pt x="691" y="3361"/>
                    </a:lnTo>
                    <a:lnTo>
                      <a:pt x="763" y="3417"/>
                    </a:lnTo>
                    <a:lnTo>
                      <a:pt x="838" y="3471"/>
                    </a:lnTo>
                    <a:lnTo>
                      <a:pt x="915" y="3520"/>
                    </a:lnTo>
                    <a:lnTo>
                      <a:pt x="994" y="3566"/>
                    </a:lnTo>
                    <a:lnTo>
                      <a:pt x="1076" y="3608"/>
                    </a:lnTo>
                    <a:lnTo>
                      <a:pt x="1160" y="3645"/>
                    </a:lnTo>
                    <a:lnTo>
                      <a:pt x="1246" y="3680"/>
                    </a:lnTo>
                    <a:lnTo>
                      <a:pt x="1334" y="3709"/>
                    </a:lnTo>
                    <a:lnTo>
                      <a:pt x="1425" y="3736"/>
                    </a:lnTo>
                    <a:lnTo>
                      <a:pt x="1516" y="3756"/>
                    </a:lnTo>
                    <a:lnTo>
                      <a:pt x="1609" y="3774"/>
                    </a:lnTo>
                    <a:lnTo>
                      <a:pt x="1704" y="3786"/>
                    </a:lnTo>
                    <a:lnTo>
                      <a:pt x="1800" y="3792"/>
                    </a:lnTo>
                    <a:lnTo>
                      <a:pt x="1898"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Text Box 47"/>
              <p:cNvSpPr/>
              <p:nvPr/>
            </p:nvSpPr>
            <p:spPr>
              <a:xfrm>
                <a:off x="1848600" y="2713320"/>
                <a:ext cx="138204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Закупка и</a:t>
                </a:r>
                <a:r>
                  <a:rPr b="1" lang="en-US" sz="1200" spc="-1" strike="noStrike">
                    <a:solidFill>
                      <a:srgbClr val="ffffff"/>
                    </a:solidFill>
                    <a:latin typeface="Arial"/>
                  </a:rPr>
                  <a:t> </a:t>
                </a:r>
                <a:br>
                  <a:rPr sz="1200"/>
                </a:br>
                <a:r>
                  <a:rPr b="1" lang="ru-RU" sz="1200" spc="-1" strike="noStrike">
                    <a:solidFill>
                      <a:srgbClr val="ffffff"/>
                    </a:solidFill>
                    <a:latin typeface="Arial"/>
                  </a:rPr>
                  <a:t>инвентарный учет</a:t>
                </a:r>
                <a:endParaRPr b="0" lang="en-US" sz="1200" spc="-1" strike="noStrike">
                  <a:solidFill>
                    <a:srgbClr val="000000"/>
                  </a:solidFill>
                  <a:latin typeface="Arial"/>
                </a:endParaRPr>
              </a:p>
            </p:txBody>
          </p:sp>
        </p:grpSp>
        <p:sp>
          <p:nvSpPr>
            <p:cNvPr id="160" name="Freeform 31"/>
            <p:cNvSpPr/>
            <p:nvPr/>
          </p:nvSpPr>
          <p:spPr>
            <a:xfrm>
              <a:off x="3879720" y="2498400"/>
              <a:ext cx="1373040" cy="1141560"/>
            </a:xfrm>
            <a:custGeom>
              <a:avLst/>
              <a:gdLst>
                <a:gd name="textAreaLeft" fmla="*/ 0 w 1373040"/>
                <a:gd name="textAreaRight" fmla="*/ 1373400 w 1373040"/>
                <a:gd name="textAreaTop" fmla="*/ 0 h 1141560"/>
                <a:gd name="textAreaBottom" fmla="*/ 1141920 h 1141560"/>
              </a:gdLst>
              <a:ahLst/>
              <a:rect l="textAreaLeft" t="textAreaTop" r="textAreaRight" b="textAreaBottom"/>
              <a:pathLst>
                <a:path w="3795" h="3795">
                  <a:moveTo>
                    <a:pt x="1897" y="3795"/>
                  </a:moveTo>
                  <a:lnTo>
                    <a:pt x="1994" y="3793"/>
                  </a:lnTo>
                  <a:lnTo>
                    <a:pt x="2090" y="3785"/>
                  </a:lnTo>
                  <a:lnTo>
                    <a:pt x="2185" y="3773"/>
                  </a:lnTo>
                  <a:lnTo>
                    <a:pt x="2279" y="3756"/>
                  </a:lnTo>
                  <a:lnTo>
                    <a:pt x="2370" y="3735"/>
                  </a:lnTo>
                  <a:lnTo>
                    <a:pt x="2460" y="3709"/>
                  </a:lnTo>
                  <a:lnTo>
                    <a:pt x="2548" y="3680"/>
                  </a:lnTo>
                  <a:lnTo>
                    <a:pt x="2634" y="3646"/>
                  </a:lnTo>
                  <a:lnTo>
                    <a:pt x="2718" y="3608"/>
                  </a:lnTo>
                  <a:lnTo>
                    <a:pt x="2800" y="3565"/>
                  </a:lnTo>
                  <a:lnTo>
                    <a:pt x="2879" y="3520"/>
                  </a:lnTo>
                  <a:lnTo>
                    <a:pt x="2956" y="3470"/>
                  </a:lnTo>
                  <a:lnTo>
                    <a:pt x="3031" y="3417"/>
                  </a:lnTo>
                  <a:lnTo>
                    <a:pt x="3103" y="3361"/>
                  </a:lnTo>
                  <a:lnTo>
                    <a:pt x="3171" y="3302"/>
                  </a:lnTo>
                  <a:lnTo>
                    <a:pt x="3238" y="3238"/>
                  </a:lnTo>
                  <a:lnTo>
                    <a:pt x="3300" y="3173"/>
                  </a:lnTo>
                  <a:lnTo>
                    <a:pt x="3360" y="3103"/>
                  </a:lnTo>
                  <a:lnTo>
                    <a:pt x="3416" y="3031"/>
                  </a:lnTo>
                  <a:lnTo>
                    <a:pt x="3470" y="2957"/>
                  </a:lnTo>
                  <a:lnTo>
                    <a:pt x="3519" y="2881"/>
                  </a:lnTo>
                  <a:lnTo>
                    <a:pt x="3565" y="2801"/>
                  </a:lnTo>
                  <a:lnTo>
                    <a:pt x="3606" y="2719"/>
                  </a:lnTo>
                  <a:lnTo>
                    <a:pt x="3644" y="2636"/>
                  </a:lnTo>
                  <a:lnTo>
                    <a:pt x="3679" y="2549"/>
                  </a:lnTo>
                  <a:lnTo>
                    <a:pt x="3708" y="2461"/>
                  </a:lnTo>
                  <a:lnTo>
                    <a:pt x="3735" y="2371"/>
                  </a:lnTo>
                  <a:lnTo>
                    <a:pt x="3755" y="2279"/>
                  </a:lnTo>
                  <a:lnTo>
                    <a:pt x="3772" y="2185"/>
                  </a:lnTo>
                  <a:lnTo>
                    <a:pt x="3785" y="2092"/>
                  </a:lnTo>
                  <a:lnTo>
                    <a:pt x="3791" y="1995"/>
                  </a:lnTo>
                  <a:lnTo>
                    <a:pt x="3795" y="1898"/>
                  </a:lnTo>
                  <a:lnTo>
                    <a:pt x="3791" y="1801"/>
                  </a:lnTo>
                  <a:lnTo>
                    <a:pt x="3785" y="1704"/>
                  </a:lnTo>
                  <a:lnTo>
                    <a:pt x="3772" y="1609"/>
                  </a:lnTo>
                  <a:lnTo>
                    <a:pt x="3755" y="1516"/>
                  </a:lnTo>
                  <a:lnTo>
                    <a:pt x="3735" y="1425"/>
                  </a:lnTo>
                  <a:lnTo>
                    <a:pt x="3708" y="1334"/>
                  </a:lnTo>
                  <a:lnTo>
                    <a:pt x="3679" y="1246"/>
                  </a:lnTo>
                  <a:lnTo>
                    <a:pt x="3644" y="1160"/>
                  </a:lnTo>
                  <a:lnTo>
                    <a:pt x="3606" y="1076"/>
                  </a:lnTo>
                  <a:lnTo>
                    <a:pt x="3565" y="994"/>
                  </a:lnTo>
                  <a:lnTo>
                    <a:pt x="3519" y="914"/>
                  </a:lnTo>
                  <a:lnTo>
                    <a:pt x="3470" y="838"/>
                  </a:lnTo>
                  <a:lnTo>
                    <a:pt x="3416" y="763"/>
                  </a:lnTo>
                  <a:lnTo>
                    <a:pt x="3360" y="692"/>
                  </a:lnTo>
                  <a:lnTo>
                    <a:pt x="3300" y="622"/>
                  </a:lnTo>
                  <a:lnTo>
                    <a:pt x="3238" y="557"/>
                  </a:lnTo>
                  <a:lnTo>
                    <a:pt x="3171" y="494"/>
                  </a:lnTo>
                  <a:lnTo>
                    <a:pt x="3103" y="434"/>
                  </a:lnTo>
                  <a:lnTo>
                    <a:pt x="3031" y="378"/>
                  </a:lnTo>
                  <a:lnTo>
                    <a:pt x="2956" y="325"/>
                  </a:lnTo>
                  <a:lnTo>
                    <a:pt x="2879" y="276"/>
                  </a:lnTo>
                  <a:lnTo>
                    <a:pt x="2800" y="230"/>
                  </a:lnTo>
                  <a:lnTo>
                    <a:pt x="2718" y="187"/>
                  </a:lnTo>
                  <a:lnTo>
                    <a:pt x="2634" y="149"/>
                  </a:lnTo>
                  <a:lnTo>
                    <a:pt x="2548" y="115"/>
                  </a:lnTo>
                  <a:lnTo>
                    <a:pt x="2460" y="85"/>
                  </a:lnTo>
                  <a:lnTo>
                    <a:pt x="2370" y="60"/>
                  </a:lnTo>
                  <a:lnTo>
                    <a:pt x="2279" y="38"/>
                  </a:lnTo>
                  <a:lnTo>
                    <a:pt x="2185" y="22"/>
                  </a:lnTo>
                  <a:lnTo>
                    <a:pt x="2090" y="10"/>
                  </a:lnTo>
                  <a:lnTo>
                    <a:pt x="1994" y="2"/>
                  </a:lnTo>
                  <a:lnTo>
                    <a:pt x="1897" y="0"/>
                  </a:lnTo>
                  <a:lnTo>
                    <a:pt x="1799" y="2"/>
                  </a:lnTo>
                  <a:lnTo>
                    <a:pt x="1703" y="10"/>
                  </a:lnTo>
                  <a:lnTo>
                    <a:pt x="1608" y="22"/>
                  </a:lnTo>
                  <a:lnTo>
                    <a:pt x="1516" y="38"/>
                  </a:lnTo>
                  <a:lnTo>
                    <a:pt x="1423" y="60"/>
                  </a:lnTo>
                  <a:lnTo>
                    <a:pt x="1334" y="85"/>
                  </a:lnTo>
                  <a:lnTo>
                    <a:pt x="1245" y="115"/>
                  </a:lnTo>
                  <a:lnTo>
                    <a:pt x="1159" y="149"/>
                  </a:lnTo>
                  <a:lnTo>
                    <a:pt x="1075" y="187"/>
                  </a:lnTo>
                  <a:lnTo>
                    <a:pt x="994" y="230"/>
                  </a:lnTo>
                  <a:lnTo>
                    <a:pt x="914" y="276"/>
                  </a:lnTo>
                  <a:lnTo>
                    <a:pt x="837" y="325"/>
                  </a:lnTo>
                  <a:lnTo>
                    <a:pt x="763" y="378"/>
                  </a:lnTo>
                  <a:lnTo>
                    <a:pt x="691" y="434"/>
                  </a:lnTo>
                  <a:lnTo>
                    <a:pt x="622" y="494"/>
                  </a:lnTo>
                  <a:lnTo>
                    <a:pt x="557" y="557"/>
                  </a:lnTo>
                  <a:lnTo>
                    <a:pt x="494" y="622"/>
                  </a:lnTo>
                  <a:lnTo>
                    <a:pt x="434" y="692"/>
                  </a:lnTo>
                  <a:lnTo>
                    <a:pt x="377" y="763"/>
                  </a:lnTo>
                  <a:lnTo>
                    <a:pt x="325" y="838"/>
                  </a:lnTo>
                  <a:lnTo>
                    <a:pt x="274" y="914"/>
                  </a:lnTo>
                  <a:lnTo>
                    <a:pt x="229" y="994"/>
                  </a:lnTo>
                  <a:lnTo>
                    <a:pt x="187" y="1076"/>
                  </a:lnTo>
                  <a:lnTo>
                    <a:pt x="149" y="1160"/>
                  </a:lnTo>
                  <a:lnTo>
                    <a:pt x="115" y="1246"/>
                  </a:lnTo>
                  <a:lnTo>
                    <a:pt x="85" y="1334"/>
                  </a:lnTo>
                  <a:lnTo>
                    <a:pt x="60" y="1425"/>
                  </a:lnTo>
                  <a:lnTo>
                    <a:pt x="38" y="1516"/>
                  </a:lnTo>
                  <a:lnTo>
                    <a:pt x="22" y="1609"/>
                  </a:lnTo>
                  <a:lnTo>
                    <a:pt x="10" y="1704"/>
                  </a:lnTo>
                  <a:lnTo>
                    <a:pt x="2" y="1801"/>
                  </a:lnTo>
                  <a:lnTo>
                    <a:pt x="0" y="1898"/>
                  </a:lnTo>
                  <a:lnTo>
                    <a:pt x="2" y="1995"/>
                  </a:lnTo>
                  <a:lnTo>
                    <a:pt x="10" y="2092"/>
                  </a:lnTo>
                  <a:lnTo>
                    <a:pt x="22" y="2185"/>
                  </a:lnTo>
                  <a:lnTo>
                    <a:pt x="38" y="2279"/>
                  </a:lnTo>
                  <a:lnTo>
                    <a:pt x="60" y="2371"/>
                  </a:lnTo>
                  <a:lnTo>
                    <a:pt x="85" y="2461"/>
                  </a:lnTo>
                  <a:lnTo>
                    <a:pt x="115" y="2549"/>
                  </a:lnTo>
                  <a:lnTo>
                    <a:pt x="149" y="2636"/>
                  </a:lnTo>
                  <a:lnTo>
                    <a:pt x="187" y="2719"/>
                  </a:lnTo>
                  <a:lnTo>
                    <a:pt x="229" y="2801"/>
                  </a:lnTo>
                  <a:lnTo>
                    <a:pt x="274" y="2881"/>
                  </a:lnTo>
                  <a:lnTo>
                    <a:pt x="325" y="2957"/>
                  </a:lnTo>
                  <a:lnTo>
                    <a:pt x="377" y="3031"/>
                  </a:lnTo>
                  <a:lnTo>
                    <a:pt x="434" y="3103"/>
                  </a:lnTo>
                  <a:lnTo>
                    <a:pt x="494" y="3173"/>
                  </a:lnTo>
                  <a:lnTo>
                    <a:pt x="557" y="3238"/>
                  </a:lnTo>
                  <a:lnTo>
                    <a:pt x="622" y="3302"/>
                  </a:lnTo>
                  <a:lnTo>
                    <a:pt x="691" y="3361"/>
                  </a:lnTo>
                  <a:lnTo>
                    <a:pt x="763" y="3417"/>
                  </a:lnTo>
                  <a:lnTo>
                    <a:pt x="837" y="3470"/>
                  </a:lnTo>
                  <a:lnTo>
                    <a:pt x="914" y="3520"/>
                  </a:lnTo>
                  <a:lnTo>
                    <a:pt x="994" y="3565"/>
                  </a:lnTo>
                  <a:lnTo>
                    <a:pt x="1075" y="3608"/>
                  </a:lnTo>
                  <a:lnTo>
                    <a:pt x="1159" y="3646"/>
                  </a:lnTo>
                  <a:lnTo>
                    <a:pt x="1245" y="3680"/>
                  </a:lnTo>
                  <a:lnTo>
                    <a:pt x="1334" y="3709"/>
                  </a:lnTo>
                  <a:lnTo>
                    <a:pt x="1423" y="3735"/>
                  </a:lnTo>
                  <a:lnTo>
                    <a:pt x="1516" y="3756"/>
                  </a:lnTo>
                  <a:lnTo>
                    <a:pt x="1608" y="3773"/>
                  </a:lnTo>
                  <a:lnTo>
                    <a:pt x="1703" y="3785"/>
                  </a:lnTo>
                  <a:lnTo>
                    <a:pt x="1799"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Text Box 43"/>
            <p:cNvSpPr/>
            <p:nvPr/>
          </p:nvSpPr>
          <p:spPr>
            <a:xfrm>
              <a:off x="3885480" y="2815920"/>
              <a:ext cx="1368720" cy="4590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Контроль процессов</a:t>
              </a:r>
              <a:endParaRPr b="0" lang="en-US" sz="1200" spc="-1" strike="noStrike">
                <a:solidFill>
                  <a:srgbClr val="000000"/>
                </a:solidFill>
                <a:latin typeface="Arial"/>
              </a:endParaRPr>
            </a:p>
          </p:txBody>
        </p:sp>
        <p:grpSp>
          <p:nvGrpSpPr>
            <p:cNvPr id="162" name="Group 135"/>
            <p:cNvGrpSpPr/>
            <p:nvPr/>
          </p:nvGrpSpPr>
          <p:grpSpPr>
            <a:xfrm>
              <a:off x="5751720" y="2455560"/>
              <a:ext cx="1393200" cy="1139760"/>
              <a:chOff x="5751720" y="2455560"/>
              <a:chExt cx="1393200" cy="1139760"/>
            </a:xfrm>
          </p:grpSpPr>
          <p:sp>
            <p:nvSpPr>
              <p:cNvPr id="163" name="Freeform 48"/>
              <p:cNvSpPr/>
              <p:nvPr/>
            </p:nvSpPr>
            <p:spPr>
              <a:xfrm>
                <a:off x="5751720" y="2455560"/>
                <a:ext cx="1374480" cy="1139760"/>
              </a:xfrm>
              <a:custGeom>
                <a:avLst/>
                <a:gdLst>
                  <a:gd name="textAreaLeft" fmla="*/ 0 w 1374480"/>
                  <a:gd name="textAreaRight" fmla="*/ 1374840 w 1374480"/>
                  <a:gd name="textAreaTop" fmla="*/ 0 h 1139760"/>
                  <a:gd name="textAreaBottom" fmla="*/ 1140120 h 1139760"/>
                </a:gdLst>
                <a:ahLst/>
                <a:rect l="textAreaLeft" t="textAreaTop" r="textAreaRight" b="textAreaBottom"/>
                <a:pathLst>
                  <a:path w="3795" h="3795">
                    <a:moveTo>
                      <a:pt x="1897" y="3795"/>
                    </a:moveTo>
                    <a:lnTo>
                      <a:pt x="1995" y="3792"/>
                    </a:lnTo>
                    <a:lnTo>
                      <a:pt x="2091" y="3786"/>
                    </a:lnTo>
                    <a:lnTo>
                      <a:pt x="2186" y="3774"/>
                    </a:lnTo>
                    <a:lnTo>
                      <a:pt x="2279" y="3756"/>
                    </a:lnTo>
                    <a:lnTo>
                      <a:pt x="2371" y="3736"/>
                    </a:lnTo>
                    <a:lnTo>
                      <a:pt x="2461" y="3709"/>
                    </a:lnTo>
                    <a:lnTo>
                      <a:pt x="2549" y="3680"/>
                    </a:lnTo>
                    <a:lnTo>
                      <a:pt x="2635" y="3645"/>
                    </a:lnTo>
                    <a:lnTo>
                      <a:pt x="2719" y="3608"/>
                    </a:lnTo>
                    <a:lnTo>
                      <a:pt x="2801" y="3566"/>
                    </a:lnTo>
                    <a:lnTo>
                      <a:pt x="2880" y="3520"/>
                    </a:lnTo>
                    <a:lnTo>
                      <a:pt x="2958" y="3471"/>
                    </a:lnTo>
                    <a:lnTo>
                      <a:pt x="3032" y="3417"/>
                    </a:lnTo>
                    <a:lnTo>
                      <a:pt x="3104" y="3361"/>
                    </a:lnTo>
                    <a:lnTo>
                      <a:pt x="3172" y="3301"/>
                    </a:lnTo>
                    <a:lnTo>
                      <a:pt x="3238" y="3239"/>
                    </a:lnTo>
                    <a:lnTo>
                      <a:pt x="3301" y="3172"/>
                    </a:lnTo>
                    <a:lnTo>
                      <a:pt x="3361" y="3103"/>
                    </a:lnTo>
                    <a:lnTo>
                      <a:pt x="3418" y="3031"/>
                    </a:lnTo>
                    <a:lnTo>
                      <a:pt x="3470" y="2957"/>
                    </a:lnTo>
                    <a:lnTo>
                      <a:pt x="3520" y="2880"/>
                    </a:lnTo>
                    <a:lnTo>
                      <a:pt x="3566" y="2800"/>
                    </a:lnTo>
                    <a:lnTo>
                      <a:pt x="3607" y="2719"/>
                    </a:lnTo>
                    <a:lnTo>
                      <a:pt x="3645" y="2635"/>
                    </a:lnTo>
                    <a:lnTo>
                      <a:pt x="3679" y="2549"/>
                    </a:lnTo>
                    <a:lnTo>
                      <a:pt x="3710" y="2460"/>
                    </a:lnTo>
                    <a:lnTo>
                      <a:pt x="3735" y="2371"/>
                    </a:lnTo>
                    <a:lnTo>
                      <a:pt x="3756" y="2279"/>
                    </a:lnTo>
                    <a:lnTo>
                      <a:pt x="3773" y="2186"/>
                    </a:lnTo>
                    <a:lnTo>
                      <a:pt x="3785" y="2091"/>
                    </a:lnTo>
                    <a:lnTo>
                      <a:pt x="3792" y="1995"/>
                    </a:lnTo>
                    <a:lnTo>
                      <a:pt x="3795" y="1898"/>
                    </a:lnTo>
                    <a:lnTo>
                      <a:pt x="3792" y="1800"/>
                    </a:lnTo>
                    <a:lnTo>
                      <a:pt x="3785" y="1704"/>
                    </a:lnTo>
                    <a:lnTo>
                      <a:pt x="3773" y="1609"/>
                    </a:lnTo>
                    <a:lnTo>
                      <a:pt x="3756" y="1516"/>
                    </a:lnTo>
                    <a:lnTo>
                      <a:pt x="3735" y="1424"/>
                    </a:lnTo>
                    <a:lnTo>
                      <a:pt x="3710" y="1334"/>
                    </a:lnTo>
                    <a:lnTo>
                      <a:pt x="3679" y="1246"/>
                    </a:lnTo>
                    <a:lnTo>
                      <a:pt x="3645" y="1160"/>
                    </a:lnTo>
                    <a:lnTo>
                      <a:pt x="3607" y="1076"/>
                    </a:lnTo>
                    <a:lnTo>
                      <a:pt x="3566" y="994"/>
                    </a:lnTo>
                    <a:lnTo>
                      <a:pt x="3520" y="915"/>
                    </a:lnTo>
                    <a:lnTo>
                      <a:pt x="3470" y="837"/>
                    </a:lnTo>
                    <a:lnTo>
                      <a:pt x="3418" y="763"/>
                    </a:lnTo>
                    <a:lnTo>
                      <a:pt x="3361" y="691"/>
                    </a:lnTo>
                    <a:lnTo>
                      <a:pt x="3301" y="623"/>
                    </a:lnTo>
                    <a:lnTo>
                      <a:pt x="3238" y="557"/>
                    </a:lnTo>
                    <a:lnTo>
                      <a:pt x="3172" y="494"/>
                    </a:lnTo>
                    <a:lnTo>
                      <a:pt x="3104" y="434"/>
                    </a:lnTo>
                    <a:lnTo>
                      <a:pt x="3032" y="377"/>
                    </a:lnTo>
                    <a:lnTo>
                      <a:pt x="2958" y="325"/>
                    </a:lnTo>
                    <a:lnTo>
                      <a:pt x="2880" y="275"/>
                    </a:lnTo>
                    <a:lnTo>
                      <a:pt x="2801" y="229"/>
                    </a:lnTo>
                    <a:lnTo>
                      <a:pt x="2719" y="188"/>
                    </a:lnTo>
                    <a:lnTo>
                      <a:pt x="2635" y="149"/>
                    </a:lnTo>
                    <a:lnTo>
                      <a:pt x="2549" y="116"/>
                    </a:lnTo>
                    <a:lnTo>
                      <a:pt x="2461" y="85"/>
                    </a:lnTo>
                    <a:lnTo>
                      <a:pt x="2371" y="60"/>
                    </a:lnTo>
                    <a:lnTo>
                      <a:pt x="2279" y="38"/>
                    </a:lnTo>
                    <a:lnTo>
                      <a:pt x="2186" y="22"/>
                    </a:lnTo>
                    <a:lnTo>
                      <a:pt x="2091" y="10"/>
                    </a:lnTo>
                    <a:lnTo>
                      <a:pt x="1995" y="2"/>
                    </a:lnTo>
                    <a:lnTo>
                      <a:pt x="1897" y="0"/>
                    </a:lnTo>
                    <a:lnTo>
                      <a:pt x="1800" y="2"/>
                    </a:lnTo>
                    <a:lnTo>
                      <a:pt x="1704" y="10"/>
                    </a:lnTo>
                    <a:lnTo>
                      <a:pt x="1610" y="22"/>
                    </a:lnTo>
                    <a:lnTo>
                      <a:pt x="1516" y="38"/>
                    </a:lnTo>
                    <a:lnTo>
                      <a:pt x="1424" y="60"/>
                    </a:lnTo>
                    <a:lnTo>
                      <a:pt x="1335" y="85"/>
                    </a:lnTo>
                    <a:lnTo>
                      <a:pt x="1247" y="116"/>
                    </a:lnTo>
                    <a:lnTo>
                      <a:pt x="1161" y="149"/>
                    </a:lnTo>
                    <a:lnTo>
                      <a:pt x="1077" y="188"/>
                    </a:lnTo>
                    <a:lnTo>
                      <a:pt x="995" y="229"/>
                    </a:lnTo>
                    <a:lnTo>
                      <a:pt x="915" y="275"/>
                    </a:lnTo>
                    <a:lnTo>
                      <a:pt x="838" y="325"/>
                    </a:lnTo>
                    <a:lnTo>
                      <a:pt x="764" y="377"/>
                    </a:lnTo>
                    <a:lnTo>
                      <a:pt x="692" y="434"/>
                    </a:lnTo>
                    <a:lnTo>
                      <a:pt x="623" y="494"/>
                    </a:lnTo>
                    <a:lnTo>
                      <a:pt x="557" y="557"/>
                    </a:lnTo>
                    <a:lnTo>
                      <a:pt x="495" y="623"/>
                    </a:lnTo>
                    <a:lnTo>
                      <a:pt x="435" y="691"/>
                    </a:lnTo>
                    <a:lnTo>
                      <a:pt x="378" y="763"/>
                    </a:lnTo>
                    <a:lnTo>
                      <a:pt x="325" y="837"/>
                    </a:lnTo>
                    <a:lnTo>
                      <a:pt x="276" y="915"/>
                    </a:lnTo>
                    <a:lnTo>
                      <a:pt x="230" y="994"/>
                    </a:lnTo>
                    <a:lnTo>
                      <a:pt x="187" y="1076"/>
                    </a:lnTo>
                    <a:lnTo>
                      <a:pt x="150" y="1160"/>
                    </a:lnTo>
                    <a:lnTo>
                      <a:pt x="115" y="1246"/>
                    </a:lnTo>
                    <a:lnTo>
                      <a:pt x="86" y="1334"/>
                    </a:lnTo>
                    <a:lnTo>
                      <a:pt x="60" y="1424"/>
                    </a:lnTo>
                    <a:lnTo>
                      <a:pt x="39" y="1516"/>
                    </a:lnTo>
                    <a:lnTo>
                      <a:pt x="23" y="1609"/>
                    </a:lnTo>
                    <a:lnTo>
                      <a:pt x="10" y="1704"/>
                    </a:lnTo>
                    <a:lnTo>
                      <a:pt x="3" y="1800"/>
                    </a:lnTo>
                    <a:lnTo>
                      <a:pt x="0" y="1898"/>
                    </a:lnTo>
                    <a:lnTo>
                      <a:pt x="3" y="1995"/>
                    </a:lnTo>
                    <a:lnTo>
                      <a:pt x="10" y="2091"/>
                    </a:lnTo>
                    <a:lnTo>
                      <a:pt x="23" y="2186"/>
                    </a:lnTo>
                    <a:lnTo>
                      <a:pt x="39" y="2279"/>
                    </a:lnTo>
                    <a:lnTo>
                      <a:pt x="60" y="2371"/>
                    </a:lnTo>
                    <a:lnTo>
                      <a:pt x="86" y="2460"/>
                    </a:lnTo>
                    <a:lnTo>
                      <a:pt x="115" y="2549"/>
                    </a:lnTo>
                    <a:lnTo>
                      <a:pt x="150" y="2635"/>
                    </a:lnTo>
                    <a:lnTo>
                      <a:pt x="187" y="2719"/>
                    </a:lnTo>
                    <a:lnTo>
                      <a:pt x="230" y="2800"/>
                    </a:lnTo>
                    <a:lnTo>
                      <a:pt x="276" y="2880"/>
                    </a:lnTo>
                    <a:lnTo>
                      <a:pt x="325" y="2957"/>
                    </a:lnTo>
                    <a:lnTo>
                      <a:pt x="378" y="3031"/>
                    </a:lnTo>
                    <a:lnTo>
                      <a:pt x="435" y="3103"/>
                    </a:lnTo>
                    <a:lnTo>
                      <a:pt x="495" y="3172"/>
                    </a:lnTo>
                    <a:lnTo>
                      <a:pt x="557" y="3239"/>
                    </a:lnTo>
                    <a:lnTo>
                      <a:pt x="623" y="3301"/>
                    </a:lnTo>
                    <a:lnTo>
                      <a:pt x="692" y="3361"/>
                    </a:lnTo>
                    <a:lnTo>
                      <a:pt x="764" y="3417"/>
                    </a:lnTo>
                    <a:lnTo>
                      <a:pt x="838" y="3471"/>
                    </a:lnTo>
                    <a:lnTo>
                      <a:pt x="915" y="3520"/>
                    </a:lnTo>
                    <a:lnTo>
                      <a:pt x="995" y="3566"/>
                    </a:lnTo>
                    <a:lnTo>
                      <a:pt x="1077" y="3608"/>
                    </a:lnTo>
                    <a:lnTo>
                      <a:pt x="1161" y="3645"/>
                    </a:lnTo>
                    <a:lnTo>
                      <a:pt x="1247" y="3680"/>
                    </a:lnTo>
                    <a:lnTo>
                      <a:pt x="1335" y="3709"/>
                    </a:lnTo>
                    <a:lnTo>
                      <a:pt x="1424" y="3736"/>
                    </a:lnTo>
                    <a:lnTo>
                      <a:pt x="1516" y="3756"/>
                    </a:lnTo>
                    <a:lnTo>
                      <a:pt x="1610" y="3774"/>
                    </a:lnTo>
                    <a:lnTo>
                      <a:pt x="1704" y="3786"/>
                    </a:lnTo>
                    <a:lnTo>
                      <a:pt x="1800" y="3792"/>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Text Box 55"/>
              <p:cNvSpPr/>
              <p:nvPr/>
            </p:nvSpPr>
            <p:spPr>
              <a:xfrm>
                <a:off x="5759280" y="2818440"/>
                <a:ext cx="1385640" cy="4590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Управление информацией</a:t>
                </a:r>
                <a:endParaRPr b="0" lang="en-US" sz="1200" spc="-1" strike="noStrike">
                  <a:solidFill>
                    <a:srgbClr val="000000"/>
                  </a:solidFill>
                  <a:latin typeface="Arial"/>
                </a:endParaRPr>
              </a:p>
            </p:txBody>
          </p:sp>
        </p:grpSp>
        <p:sp>
          <p:nvSpPr>
            <p:cNvPr id="165" name="Line 27"/>
            <p:cNvSpPr/>
            <p:nvPr/>
          </p:nvSpPr>
          <p:spPr>
            <a:xfrm flipH="1">
              <a:off x="2211480" y="4267080"/>
              <a:ext cx="467604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66" name="Group 139"/>
            <p:cNvGrpSpPr/>
            <p:nvPr/>
          </p:nvGrpSpPr>
          <p:grpSpPr>
            <a:xfrm>
              <a:off x="1848600" y="3740040"/>
              <a:ext cx="1434600" cy="1141200"/>
              <a:chOff x="1848600" y="3740040"/>
              <a:chExt cx="1434600" cy="1141200"/>
            </a:xfrm>
          </p:grpSpPr>
          <p:sp>
            <p:nvSpPr>
              <p:cNvPr id="167" name="Freeform 81"/>
              <p:cNvSpPr/>
              <p:nvPr/>
            </p:nvSpPr>
            <p:spPr>
              <a:xfrm>
                <a:off x="1886400" y="3740040"/>
                <a:ext cx="1373760" cy="1141200"/>
              </a:xfrm>
              <a:custGeom>
                <a:avLst/>
                <a:gdLst>
                  <a:gd name="textAreaLeft" fmla="*/ 0 w 1373760"/>
                  <a:gd name="textAreaRight" fmla="*/ 1373760 w 1373760"/>
                  <a:gd name="textAreaTop" fmla="*/ 0 h 1141200"/>
                  <a:gd name="textAreaBottom" fmla="*/ 1141560 h 1141200"/>
                </a:gdLst>
                <a:ahLst/>
                <a:rect l="textAreaLeft" t="textAreaTop" r="textAreaRight" b="textAreaBottom"/>
                <a:pathLst>
                  <a:path w="3795" h="3795">
                    <a:moveTo>
                      <a:pt x="1898" y="3795"/>
                    </a:moveTo>
                    <a:lnTo>
                      <a:pt x="1995" y="3793"/>
                    </a:lnTo>
                    <a:lnTo>
                      <a:pt x="2091" y="3786"/>
                    </a:lnTo>
                    <a:lnTo>
                      <a:pt x="2185" y="3774"/>
                    </a:lnTo>
                    <a:lnTo>
                      <a:pt x="2279" y="3757"/>
                    </a:lnTo>
                    <a:lnTo>
                      <a:pt x="2371" y="3735"/>
                    </a:lnTo>
                    <a:lnTo>
                      <a:pt x="2461" y="3710"/>
                    </a:lnTo>
                    <a:lnTo>
                      <a:pt x="2548" y="3680"/>
                    </a:lnTo>
                    <a:lnTo>
                      <a:pt x="2634" y="3646"/>
                    </a:lnTo>
                    <a:lnTo>
                      <a:pt x="2719" y="3608"/>
                    </a:lnTo>
                    <a:lnTo>
                      <a:pt x="2801" y="3566"/>
                    </a:lnTo>
                    <a:lnTo>
                      <a:pt x="2880" y="3521"/>
                    </a:lnTo>
                    <a:lnTo>
                      <a:pt x="2957" y="3471"/>
                    </a:lnTo>
                    <a:lnTo>
                      <a:pt x="3031" y="3418"/>
                    </a:lnTo>
                    <a:lnTo>
                      <a:pt x="3103" y="3362"/>
                    </a:lnTo>
                    <a:lnTo>
                      <a:pt x="3172" y="3302"/>
                    </a:lnTo>
                    <a:lnTo>
                      <a:pt x="3238" y="3238"/>
                    </a:lnTo>
                    <a:lnTo>
                      <a:pt x="3301" y="3173"/>
                    </a:lnTo>
                    <a:lnTo>
                      <a:pt x="3360" y="3104"/>
                    </a:lnTo>
                    <a:lnTo>
                      <a:pt x="3417" y="3032"/>
                    </a:lnTo>
                    <a:lnTo>
                      <a:pt x="3470" y="2958"/>
                    </a:lnTo>
                    <a:lnTo>
                      <a:pt x="3519" y="2881"/>
                    </a:lnTo>
                    <a:lnTo>
                      <a:pt x="3565" y="2801"/>
                    </a:lnTo>
                    <a:lnTo>
                      <a:pt x="3608" y="2720"/>
                    </a:lnTo>
                    <a:lnTo>
                      <a:pt x="3646" y="2636"/>
                    </a:lnTo>
                    <a:lnTo>
                      <a:pt x="3679" y="2550"/>
                    </a:lnTo>
                    <a:lnTo>
                      <a:pt x="3709" y="2461"/>
                    </a:lnTo>
                    <a:lnTo>
                      <a:pt x="3735" y="2372"/>
                    </a:lnTo>
                    <a:lnTo>
                      <a:pt x="3756" y="2279"/>
                    </a:lnTo>
                    <a:lnTo>
                      <a:pt x="3773" y="2187"/>
                    </a:lnTo>
                    <a:lnTo>
                      <a:pt x="3785" y="2092"/>
                    </a:lnTo>
                    <a:lnTo>
                      <a:pt x="3793" y="1996"/>
                    </a:lnTo>
                    <a:lnTo>
                      <a:pt x="3795" y="1898"/>
                    </a:lnTo>
                    <a:lnTo>
                      <a:pt x="3793" y="1801"/>
                    </a:lnTo>
                    <a:lnTo>
                      <a:pt x="3785" y="1705"/>
                    </a:lnTo>
                    <a:lnTo>
                      <a:pt x="3773" y="1610"/>
                    </a:lnTo>
                    <a:lnTo>
                      <a:pt x="3756" y="1516"/>
                    </a:lnTo>
                    <a:lnTo>
                      <a:pt x="3735" y="1425"/>
                    </a:lnTo>
                    <a:lnTo>
                      <a:pt x="3709" y="1335"/>
                    </a:lnTo>
                    <a:lnTo>
                      <a:pt x="3679" y="1247"/>
                    </a:lnTo>
                    <a:lnTo>
                      <a:pt x="3646" y="1161"/>
                    </a:lnTo>
                    <a:lnTo>
                      <a:pt x="3608" y="1077"/>
                    </a:lnTo>
                    <a:lnTo>
                      <a:pt x="3565" y="995"/>
                    </a:lnTo>
                    <a:lnTo>
                      <a:pt x="3519" y="916"/>
                    </a:lnTo>
                    <a:lnTo>
                      <a:pt x="3470" y="838"/>
                    </a:lnTo>
                    <a:lnTo>
                      <a:pt x="3417" y="764"/>
                    </a:lnTo>
                    <a:lnTo>
                      <a:pt x="3360" y="692"/>
                    </a:lnTo>
                    <a:lnTo>
                      <a:pt x="3301" y="623"/>
                    </a:lnTo>
                    <a:lnTo>
                      <a:pt x="3238" y="557"/>
                    </a:lnTo>
                    <a:lnTo>
                      <a:pt x="3172" y="495"/>
                    </a:lnTo>
                    <a:lnTo>
                      <a:pt x="3103" y="435"/>
                    </a:lnTo>
                    <a:lnTo>
                      <a:pt x="3031" y="378"/>
                    </a:lnTo>
                    <a:lnTo>
                      <a:pt x="2957" y="325"/>
                    </a:lnTo>
                    <a:lnTo>
                      <a:pt x="2880" y="276"/>
                    </a:lnTo>
                    <a:lnTo>
                      <a:pt x="2801" y="230"/>
                    </a:lnTo>
                    <a:lnTo>
                      <a:pt x="2719" y="187"/>
                    </a:lnTo>
                    <a:lnTo>
                      <a:pt x="2634" y="150"/>
                    </a:lnTo>
                    <a:lnTo>
                      <a:pt x="2548" y="116"/>
                    </a:lnTo>
                    <a:lnTo>
                      <a:pt x="2461" y="86"/>
                    </a:lnTo>
                    <a:lnTo>
                      <a:pt x="2371" y="60"/>
                    </a:lnTo>
                    <a:lnTo>
                      <a:pt x="2279" y="39"/>
                    </a:lnTo>
                    <a:lnTo>
                      <a:pt x="2185" y="22"/>
                    </a:lnTo>
                    <a:lnTo>
                      <a:pt x="2091" y="10"/>
                    </a:lnTo>
                    <a:lnTo>
                      <a:pt x="1995" y="3"/>
                    </a:lnTo>
                    <a:lnTo>
                      <a:pt x="1898" y="0"/>
                    </a:lnTo>
                    <a:lnTo>
                      <a:pt x="1801" y="3"/>
                    </a:lnTo>
                    <a:lnTo>
                      <a:pt x="1704" y="10"/>
                    </a:lnTo>
                    <a:lnTo>
                      <a:pt x="1609" y="22"/>
                    </a:lnTo>
                    <a:lnTo>
                      <a:pt x="1516" y="39"/>
                    </a:lnTo>
                    <a:lnTo>
                      <a:pt x="1425" y="60"/>
                    </a:lnTo>
                    <a:lnTo>
                      <a:pt x="1334" y="86"/>
                    </a:lnTo>
                    <a:lnTo>
                      <a:pt x="1246" y="116"/>
                    </a:lnTo>
                    <a:lnTo>
                      <a:pt x="1160" y="150"/>
                    </a:lnTo>
                    <a:lnTo>
                      <a:pt x="1076" y="187"/>
                    </a:lnTo>
                    <a:lnTo>
                      <a:pt x="994" y="230"/>
                    </a:lnTo>
                    <a:lnTo>
                      <a:pt x="915" y="276"/>
                    </a:lnTo>
                    <a:lnTo>
                      <a:pt x="838" y="325"/>
                    </a:lnTo>
                    <a:lnTo>
                      <a:pt x="763" y="378"/>
                    </a:lnTo>
                    <a:lnTo>
                      <a:pt x="692" y="435"/>
                    </a:lnTo>
                    <a:lnTo>
                      <a:pt x="623" y="495"/>
                    </a:lnTo>
                    <a:lnTo>
                      <a:pt x="557" y="557"/>
                    </a:lnTo>
                    <a:lnTo>
                      <a:pt x="494" y="623"/>
                    </a:lnTo>
                    <a:lnTo>
                      <a:pt x="434" y="692"/>
                    </a:lnTo>
                    <a:lnTo>
                      <a:pt x="378" y="764"/>
                    </a:lnTo>
                    <a:lnTo>
                      <a:pt x="325" y="838"/>
                    </a:lnTo>
                    <a:lnTo>
                      <a:pt x="276" y="916"/>
                    </a:lnTo>
                    <a:lnTo>
                      <a:pt x="230" y="995"/>
                    </a:lnTo>
                    <a:lnTo>
                      <a:pt x="188" y="1077"/>
                    </a:lnTo>
                    <a:lnTo>
                      <a:pt x="150" y="1161"/>
                    </a:lnTo>
                    <a:lnTo>
                      <a:pt x="116" y="1247"/>
                    </a:lnTo>
                    <a:lnTo>
                      <a:pt x="85" y="1335"/>
                    </a:lnTo>
                    <a:lnTo>
                      <a:pt x="60" y="1425"/>
                    </a:lnTo>
                    <a:lnTo>
                      <a:pt x="38" y="1516"/>
                    </a:lnTo>
                    <a:lnTo>
                      <a:pt x="22" y="1610"/>
                    </a:lnTo>
                    <a:lnTo>
                      <a:pt x="10" y="1705"/>
                    </a:lnTo>
                    <a:lnTo>
                      <a:pt x="2" y="1801"/>
                    </a:lnTo>
                    <a:lnTo>
                      <a:pt x="0" y="1898"/>
                    </a:lnTo>
                    <a:lnTo>
                      <a:pt x="2" y="1996"/>
                    </a:lnTo>
                    <a:lnTo>
                      <a:pt x="10" y="2092"/>
                    </a:lnTo>
                    <a:lnTo>
                      <a:pt x="22" y="2187"/>
                    </a:lnTo>
                    <a:lnTo>
                      <a:pt x="38" y="2279"/>
                    </a:lnTo>
                    <a:lnTo>
                      <a:pt x="60" y="2372"/>
                    </a:lnTo>
                    <a:lnTo>
                      <a:pt x="85" y="2461"/>
                    </a:lnTo>
                    <a:lnTo>
                      <a:pt x="116" y="2550"/>
                    </a:lnTo>
                    <a:lnTo>
                      <a:pt x="150" y="2636"/>
                    </a:lnTo>
                    <a:lnTo>
                      <a:pt x="188" y="2720"/>
                    </a:lnTo>
                    <a:lnTo>
                      <a:pt x="230" y="2801"/>
                    </a:lnTo>
                    <a:lnTo>
                      <a:pt x="276" y="2881"/>
                    </a:lnTo>
                    <a:lnTo>
                      <a:pt x="325" y="2958"/>
                    </a:lnTo>
                    <a:lnTo>
                      <a:pt x="378" y="3032"/>
                    </a:lnTo>
                    <a:lnTo>
                      <a:pt x="434" y="3104"/>
                    </a:lnTo>
                    <a:lnTo>
                      <a:pt x="494" y="3173"/>
                    </a:lnTo>
                    <a:lnTo>
                      <a:pt x="557" y="3238"/>
                    </a:lnTo>
                    <a:lnTo>
                      <a:pt x="623" y="3302"/>
                    </a:lnTo>
                    <a:lnTo>
                      <a:pt x="692" y="3362"/>
                    </a:lnTo>
                    <a:lnTo>
                      <a:pt x="763" y="3418"/>
                    </a:lnTo>
                    <a:lnTo>
                      <a:pt x="838" y="3471"/>
                    </a:lnTo>
                    <a:lnTo>
                      <a:pt x="915" y="3521"/>
                    </a:lnTo>
                    <a:lnTo>
                      <a:pt x="994" y="3566"/>
                    </a:lnTo>
                    <a:lnTo>
                      <a:pt x="1076" y="3608"/>
                    </a:lnTo>
                    <a:lnTo>
                      <a:pt x="1160" y="3646"/>
                    </a:lnTo>
                    <a:lnTo>
                      <a:pt x="1246" y="3680"/>
                    </a:lnTo>
                    <a:lnTo>
                      <a:pt x="1334" y="3710"/>
                    </a:lnTo>
                    <a:lnTo>
                      <a:pt x="1425" y="3735"/>
                    </a:lnTo>
                    <a:lnTo>
                      <a:pt x="1516" y="3757"/>
                    </a:lnTo>
                    <a:lnTo>
                      <a:pt x="1609" y="3774"/>
                    </a:lnTo>
                    <a:lnTo>
                      <a:pt x="1704" y="3786"/>
                    </a:lnTo>
                    <a:lnTo>
                      <a:pt x="1801" y="3793"/>
                    </a:lnTo>
                    <a:lnTo>
                      <a:pt x="1898"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Text Box 82"/>
              <p:cNvSpPr/>
              <p:nvPr/>
            </p:nvSpPr>
            <p:spPr>
              <a:xfrm>
                <a:off x="1848600" y="4039920"/>
                <a:ext cx="1434600" cy="4590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Документы</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и записи</a:t>
                </a:r>
                <a:endParaRPr b="0" lang="en-US" sz="1200" spc="-1" strike="noStrike">
                  <a:solidFill>
                    <a:srgbClr val="000000"/>
                  </a:solidFill>
                  <a:latin typeface="Arial"/>
                </a:endParaRPr>
              </a:p>
            </p:txBody>
          </p:sp>
        </p:grpSp>
        <p:grpSp>
          <p:nvGrpSpPr>
            <p:cNvPr id="169" name="Group 142"/>
            <p:cNvGrpSpPr/>
            <p:nvPr/>
          </p:nvGrpSpPr>
          <p:grpSpPr>
            <a:xfrm>
              <a:off x="3798720" y="3740040"/>
              <a:ext cx="1476360" cy="1141200"/>
              <a:chOff x="3798720" y="3740040"/>
              <a:chExt cx="1476360" cy="1141200"/>
            </a:xfrm>
          </p:grpSpPr>
          <p:sp>
            <p:nvSpPr>
              <p:cNvPr id="170" name="Freeform 30"/>
              <p:cNvSpPr/>
              <p:nvPr/>
            </p:nvSpPr>
            <p:spPr>
              <a:xfrm>
                <a:off x="3853440" y="3740040"/>
                <a:ext cx="1374480" cy="1141200"/>
              </a:xfrm>
              <a:custGeom>
                <a:avLst/>
                <a:gdLst>
                  <a:gd name="textAreaLeft" fmla="*/ 0 w 1374480"/>
                  <a:gd name="textAreaRight" fmla="*/ 1374840 w 1374480"/>
                  <a:gd name="textAreaTop" fmla="*/ 0 h 1141200"/>
                  <a:gd name="textAreaBottom" fmla="*/ 1141560 h 1141200"/>
                </a:gdLst>
                <a:ahLst/>
                <a:rect l="textAreaLeft" t="textAreaTop" r="textAreaRight" b="textAreaBottom"/>
                <a:pathLst>
                  <a:path w="3795" h="3795">
                    <a:moveTo>
                      <a:pt x="1897" y="3795"/>
                    </a:moveTo>
                    <a:lnTo>
                      <a:pt x="1994" y="3793"/>
                    </a:lnTo>
                    <a:lnTo>
                      <a:pt x="2090" y="3786"/>
                    </a:lnTo>
                    <a:lnTo>
                      <a:pt x="2185" y="3774"/>
                    </a:lnTo>
                    <a:lnTo>
                      <a:pt x="2279" y="3757"/>
                    </a:lnTo>
                    <a:lnTo>
                      <a:pt x="2370" y="3735"/>
                    </a:lnTo>
                    <a:lnTo>
                      <a:pt x="2460" y="3710"/>
                    </a:lnTo>
                    <a:lnTo>
                      <a:pt x="2548" y="3680"/>
                    </a:lnTo>
                    <a:lnTo>
                      <a:pt x="2634" y="3646"/>
                    </a:lnTo>
                    <a:lnTo>
                      <a:pt x="2718" y="3608"/>
                    </a:lnTo>
                    <a:lnTo>
                      <a:pt x="2800" y="3566"/>
                    </a:lnTo>
                    <a:lnTo>
                      <a:pt x="2879" y="3521"/>
                    </a:lnTo>
                    <a:lnTo>
                      <a:pt x="2957" y="3471"/>
                    </a:lnTo>
                    <a:lnTo>
                      <a:pt x="3031" y="3418"/>
                    </a:lnTo>
                    <a:lnTo>
                      <a:pt x="3103" y="3362"/>
                    </a:lnTo>
                    <a:lnTo>
                      <a:pt x="3171" y="3302"/>
                    </a:lnTo>
                    <a:lnTo>
                      <a:pt x="3238" y="3238"/>
                    </a:lnTo>
                    <a:lnTo>
                      <a:pt x="3300" y="3173"/>
                    </a:lnTo>
                    <a:lnTo>
                      <a:pt x="3360" y="3104"/>
                    </a:lnTo>
                    <a:lnTo>
                      <a:pt x="3417" y="3032"/>
                    </a:lnTo>
                    <a:lnTo>
                      <a:pt x="3470" y="2958"/>
                    </a:lnTo>
                    <a:lnTo>
                      <a:pt x="3519" y="2881"/>
                    </a:lnTo>
                    <a:lnTo>
                      <a:pt x="3565" y="2801"/>
                    </a:lnTo>
                    <a:lnTo>
                      <a:pt x="3606" y="2720"/>
                    </a:lnTo>
                    <a:lnTo>
                      <a:pt x="3644" y="2636"/>
                    </a:lnTo>
                    <a:lnTo>
                      <a:pt x="3679" y="2550"/>
                    </a:lnTo>
                    <a:lnTo>
                      <a:pt x="3709" y="2461"/>
                    </a:lnTo>
                    <a:lnTo>
                      <a:pt x="3735" y="2372"/>
                    </a:lnTo>
                    <a:lnTo>
                      <a:pt x="3756" y="2279"/>
                    </a:lnTo>
                    <a:lnTo>
                      <a:pt x="3772" y="2187"/>
                    </a:lnTo>
                    <a:lnTo>
                      <a:pt x="3785" y="2092"/>
                    </a:lnTo>
                    <a:lnTo>
                      <a:pt x="3792" y="1996"/>
                    </a:lnTo>
                    <a:lnTo>
                      <a:pt x="3795" y="1898"/>
                    </a:lnTo>
                    <a:lnTo>
                      <a:pt x="3792" y="1801"/>
                    </a:lnTo>
                    <a:lnTo>
                      <a:pt x="3785" y="1705"/>
                    </a:lnTo>
                    <a:lnTo>
                      <a:pt x="3772" y="1610"/>
                    </a:lnTo>
                    <a:lnTo>
                      <a:pt x="3756" y="1516"/>
                    </a:lnTo>
                    <a:lnTo>
                      <a:pt x="3735" y="1425"/>
                    </a:lnTo>
                    <a:lnTo>
                      <a:pt x="3709" y="1335"/>
                    </a:lnTo>
                    <a:lnTo>
                      <a:pt x="3679" y="1247"/>
                    </a:lnTo>
                    <a:lnTo>
                      <a:pt x="3644" y="1161"/>
                    </a:lnTo>
                    <a:lnTo>
                      <a:pt x="3606" y="1077"/>
                    </a:lnTo>
                    <a:lnTo>
                      <a:pt x="3565" y="995"/>
                    </a:lnTo>
                    <a:lnTo>
                      <a:pt x="3519" y="916"/>
                    </a:lnTo>
                    <a:lnTo>
                      <a:pt x="3470" y="838"/>
                    </a:lnTo>
                    <a:lnTo>
                      <a:pt x="3417" y="764"/>
                    </a:lnTo>
                    <a:lnTo>
                      <a:pt x="3360" y="692"/>
                    </a:lnTo>
                    <a:lnTo>
                      <a:pt x="3300" y="623"/>
                    </a:lnTo>
                    <a:lnTo>
                      <a:pt x="3238" y="557"/>
                    </a:lnTo>
                    <a:lnTo>
                      <a:pt x="3171" y="495"/>
                    </a:lnTo>
                    <a:lnTo>
                      <a:pt x="3103" y="435"/>
                    </a:lnTo>
                    <a:lnTo>
                      <a:pt x="3031" y="378"/>
                    </a:lnTo>
                    <a:lnTo>
                      <a:pt x="2957" y="325"/>
                    </a:lnTo>
                    <a:lnTo>
                      <a:pt x="2879" y="276"/>
                    </a:lnTo>
                    <a:lnTo>
                      <a:pt x="2800" y="230"/>
                    </a:lnTo>
                    <a:lnTo>
                      <a:pt x="2718" y="187"/>
                    </a:lnTo>
                    <a:lnTo>
                      <a:pt x="2634" y="150"/>
                    </a:lnTo>
                    <a:lnTo>
                      <a:pt x="2548" y="116"/>
                    </a:lnTo>
                    <a:lnTo>
                      <a:pt x="2460" y="86"/>
                    </a:lnTo>
                    <a:lnTo>
                      <a:pt x="2370" y="60"/>
                    </a:lnTo>
                    <a:lnTo>
                      <a:pt x="2279" y="39"/>
                    </a:lnTo>
                    <a:lnTo>
                      <a:pt x="2185" y="22"/>
                    </a:lnTo>
                    <a:lnTo>
                      <a:pt x="2090" y="10"/>
                    </a:lnTo>
                    <a:lnTo>
                      <a:pt x="1994" y="3"/>
                    </a:lnTo>
                    <a:lnTo>
                      <a:pt x="1897" y="0"/>
                    </a:lnTo>
                    <a:lnTo>
                      <a:pt x="1799" y="3"/>
                    </a:lnTo>
                    <a:lnTo>
                      <a:pt x="1703" y="10"/>
                    </a:lnTo>
                    <a:lnTo>
                      <a:pt x="1609" y="22"/>
                    </a:lnTo>
                    <a:lnTo>
                      <a:pt x="1516" y="39"/>
                    </a:lnTo>
                    <a:lnTo>
                      <a:pt x="1423" y="60"/>
                    </a:lnTo>
                    <a:lnTo>
                      <a:pt x="1334" y="86"/>
                    </a:lnTo>
                    <a:lnTo>
                      <a:pt x="1246" y="116"/>
                    </a:lnTo>
                    <a:lnTo>
                      <a:pt x="1160" y="150"/>
                    </a:lnTo>
                    <a:lnTo>
                      <a:pt x="1076" y="187"/>
                    </a:lnTo>
                    <a:lnTo>
                      <a:pt x="994" y="230"/>
                    </a:lnTo>
                    <a:lnTo>
                      <a:pt x="914" y="276"/>
                    </a:lnTo>
                    <a:lnTo>
                      <a:pt x="837" y="325"/>
                    </a:lnTo>
                    <a:lnTo>
                      <a:pt x="763" y="378"/>
                    </a:lnTo>
                    <a:lnTo>
                      <a:pt x="691" y="435"/>
                    </a:lnTo>
                    <a:lnTo>
                      <a:pt x="622" y="495"/>
                    </a:lnTo>
                    <a:lnTo>
                      <a:pt x="557" y="557"/>
                    </a:lnTo>
                    <a:lnTo>
                      <a:pt x="494" y="623"/>
                    </a:lnTo>
                    <a:lnTo>
                      <a:pt x="434" y="692"/>
                    </a:lnTo>
                    <a:lnTo>
                      <a:pt x="377" y="764"/>
                    </a:lnTo>
                    <a:lnTo>
                      <a:pt x="325" y="838"/>
                    </a:lnTo>
                    <a:lnTo>
                      <a:pt x="275" y="916"/>
                    </a:lnTo>
                    <a:lnTo>
                      <a:pt x="229" y="995"/>
                    </a:lnTo>
                    <a:lnTo>
                      <a:pt x="188" y="1077"/>
                    </a:lnTo>
                    <a:lnTo>
                      <a:pt x="149" y="1161"/>
                    </a:lnTo>
                    <a:lnTo>
                      <a:pt x="116" y="1247"/>
                    </a:lnTo>
                    <a:lnTo>
                      <a:pt x="85" y="1335"/>
                    </a:lnTo>
                    <a:lnTo>
                      <a:pt x="60" y="1425"/>
                    </a:lnTo>
                    <a:lnTo>
                      <a:pt x="38" y="1516"/>
                    </a:lnTo>
                    <a:lnTo>
                      <a:pt x="22" y="1610"/>
                    </a:lnTo>
                    <a:lnTo>
                      <a:pt x="10" y="1705"/>
                    </a:lnTo>
                    <a:lnTo>
                      <a:pt x="2" y="1801"/>
                    </a:lnTo>
                    <a:lnTo>
                      <a:pt x="0" y="1898"/>
                    </a:lnTo>
                    <a:lnTo>
                      <a:pt x="2" y="1996"/>
                    </a:lnTo>
                    <a:lnTo>
                      <a:pt x="10" y="2092"/>
                    </a:lnTo>
                    <a:lnTo>
                      <a:pt x="22" y="2187"/>
                    </a:lnTo>
                    <a:lnTo>
                      <a:pt x="38" y="2279"/>
                    </a:lnTo>
                    <a:lnTo>
                      <a:pt x="60" y="2372"/>
                    </a:lnTo>
                    <a:lnTo>
                      <a:pt x="85" y="2461"/>
                    </a:lnTo>
                    <a:lnTo>
                      <a:pt x="116" y="2550"/>
                    </a:lnTo>
                    <a:lnTo>
                      <a:pt x="149" y="2636"/>
                    </a:lnTo>
                    <a:lnTo>
                      <a:pt x="188" y="2720"/>
                    </a:lnTo>
                    <a:lnTo>
                      <a:pt x="229" y="2801"/>
                    </a:lnTo>
                    <a:lnTo>
                      <a:pt x="275" y="2881"/>
                    </a:lnTo>
                    <a:lnTo>
                      <a:pt x="325" y="2958"/>
                    </a:lnTo>
                    <a:lnTo>
                      <a:pt x="377" y="3032"/>
                    </a:lnTo>
                    <a:lnTo>
                      <a:pt x="434" y="3104"/>
                    </a:lnTo>
                    <a:lnTo>
                      <a:pt x="494" y="3173"/>
                    </a:lnTo>
                    <a:lnTo>
                      <a:pt x="557" y="3238"/>
                    </a:lnTo>
                    <a:lnTo>
                      <a:pt x="622" y="3302"/>
                    </a:lnTo>
                    <a:lnTo>
                      <a:pt x="691" y="3362"/>
                    </a:lnTo>
                    <a:lnTo>
                      <a:pt x="763" y="3418"/>
                    </a:lnTo>
                    <a:lnTo>
                      <a:pt x="837" y="3471"/>
                    </a:lnTo>
                    <a:lnTo>
                      <a:pt x="914" y="3521"/>
                    </a:lnTo>
                    <a:lnTo>
                      <a:pt x="994" y="3566"/>
                    </a:lnTo>
                    <a:lnTo>
                      <a:pt x="1076" y="3608"/>
                    </a:lnTo>
                    <a:lnTo>
                      <a:pt x="1160" y="3646"/>
                    </a:lnTo>
                    <a:lnTo>
                      <a:pt x="1246" y="3680"/>
                    </a:lnTo>
                    <a:lnTo>
                      <a:pt x="1334" y="3710"/>
                    </a:lnTo>
                    <a:lnTo>
                      <a:pt x="1423" y="3735"/>
                    </a:lnTo>
                    <a:lnTo>
                      <a:pt x="1516" y="3757"/>
                    </a:lnTo>
                    <a:lnTo>
                      <a:pt x="1609" y="3774"/>
                    </a:lnTo>
                    <a:lnTo>
                      <a:pt x="1703" y="3786"/>
                    </a:lnTo>
                    <a:lnTo>
                      <a:pt x="1799"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Text Box 54"/>
              <p:cNvSpPr/>
              <p:nvPr/>
            </p:nvSpPr>
            <p:spPr>
              <a:xfrm>
                <a:off x="3798720" y="3964320"/>
                <a:ext cx="147636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Управление нештатными ситуациями</a:t>
                </a:r>
                <a:endParaRPr b="0" lang="en-US" sz="1200" spc="-1" strike="noStrike">
                  <a:solidFill>
                    <a:srgbClr val="000000"/>
                  </a:solidFill>
                  <a:latin typeface="Arial"/>
                </a:endParaRPr>
              </a:p>
            </p:txBody>
          </p:sp>
        </p:grpSp>
        <p:sp>
          <p:nvSpPr>
            <p:cNvPr id="172" name="Freeform 50"/>
            <p:cNvSpPr/>
            <p:nvPr/>
          </p:nvSpPr>
          <p:spPr>
            <a:xfrm>
              <a:off x="5751720" y="3733560"/>
              <a:ext cx="1374480" cy="1141560"/>
            </a:xfrm>
            <a:custGeom>
              <a:avLst/>
              <a:gdLst>
                <a:gd name="textAreaLeft" fmla="*/ 0 w 1374480"/>
                <a:gd name="textAreaRight" fmla="*/ 1374840 w 1374480"/>
                <a:gd name="textAreaTop" fmla="*/ 0 h 1141560"/>
                <a:gd name="textAreaBottom" fmla="*/ 1141920 h 1141560"/>
              </a:gdLst>
              <a:ahLst/>
              <a:rect l="textAreaLeft" t="textAreaTop" r="textAreaRight" b="textAreaBottom"/>
              <a:pathLst>
                <a:path w="3795" h="3795">
                  <a:moveTo>
                    <a:pt x="1897" y="3795"/>
                  </a:moveTo>
                  <a:lnTo>
                    <a:pt x="1995" y="3793"/>
                  </a:lnTo>
                  <a:lnTo>
                    <a:pt x="2091" y="3786"/>
                  </a:lnTo>
                  <a:lnTo>
                    <a:pt x="2186" y="3774"/>
                  </a:lnTo>
                  <a:lnTo>
                    <a:pt x="2279" y="3757"/>
                  </a:lnTo>
                  <a:lnTo>
                    <a:pt x="2371" y="3735"/>
                  </a:lnTo>
                  <a:lnTo>
                    <a:pt x="2461" y="3710"/>
                  </a:lnTo>
                  <a:lnTo>
                    <a:pt x="2549" y="3680"/>
                  </a:lnTo>
                  <a:lnTo>
                    <a:pt x="2635" y="3646"/>
                  </a:lnTo>
                  <a:lnTo>
                    <a:pt x="2719" y="3608"/>
                  </a:lnTo>
                  <a:lnTo>
                    <a:pt x="2801" y="3566"/>
                  </a:lnTo>
                  <a:lnTo>
                    <a:pt x="2880" y="3521"/>
                  </a:lnTo>
                  <a:lnTo>
                    <a:pt x="2958" y="3471"/>
                  </a:lnTo>
                  <a:lnTo>
                    <a:pt x="3032" y="3418"/>
                  </a:lnTo>
                  <a:lnTo>
                    <a:pt x="3104" y="3362"/>
                  </a:lnTo>
                  <a:lnTo>
                    <a:pt x="3172" y="3302"/>
                  </a:lnTo>
                  <a:lnTo>
                    <a:pt x="3238" y="3238"/>
                  </a:lnTo>
                  <a:lnTo>
                    <a:pt x="3301" y="3173"/>
                  </a:lnTo>
                  <a:lnTo>
                    <a:pt x="3361" y="3104"/>
                  </a:lnTo>
                  <a:lnTo>
                    <a:pt x="3418" y="3032"/>
                  </a:lnTo>
                  <a:lnTo>
                    <a:pt x="3470" y="2958"/>
                  </a:lnTo>
                  <a:lnTo>
                    <a:pt x="3520" y="2881"/>
                  </a:lnTo>
                  <a:lnTo>
                    <a:pt x="3566" y="2801"/>
                  </a:lnTo>
                  <a:lnTo>
                    <a:pt x="3607" y="2720"/>
                  </a:lnTo>
                  <a:lnTo>
                    <a:pt x="3645" y="2636"/>
                  </a:lnTo>
                  <a:lnTo>
                    <a:pt x="3679" y="2550"/>
                  </a:lnTo>
                  <a:lnTo>
                    <a:pt x="3710" y="2461"/>
                  </a:lnTo>
                  <a:lnTo>
                    <a:pt x="3735" y="2372"/>
                  </a:lnTo>
                  <a:lnTo>
                    <a:pt x="3756" y="2279"/>
                  </a:lnTo>
                  <a:lnTo>
                    <a:pt x="3773" y="2187"/>
                  </a:lnTo>
                  <a:lnTo>
                    <a:pt x="3785" y="2092"/>
                  </a:lnTo>
                  <a:lnTo>
                    <a:pt x="3792" y="1996"/>
                  </a:lnTo>
                  <a:lnTo>
                    <a:pt x="3795" y="1898"/>
                  </a:lnTo>
                  <a:lnTo>
                    <a:pt x="3792" y="1801"/>
                  </a:lnTo>
                  <a:lnTo>
                    <a:pt x="3785" y="1705"/>
                  </a:lnTo>
                  <a:lnTo>
                    <a:pt x="3773" y="1610"/>
                  </a:lnTo>
                  <a:lnTo>
                    <a:pt x="3756" y="1516"/>
                  </a:lnTo>
                  <a:lnTo>
                    <a:pt x="3735" y="1425"/>
                  </a:lnTo>
                  <a:lnTo>
                    <a:pt x="3710" y="1335"/>
                  </a:lnTo>
                  <a:lnTo>
                    <a:pt x="3679" y="1247"/>
                  </a:lnTo>
                  <a:lnTo>
                    <a:pt x="3645" y="1161"/>
                  </a:lnTo>
                  <a:lnTo>
                    <a:pt x="3607" y="1077"/>
                  </a:lnTo>
                  <a:lnTo>
                    <a:pt x="3566" y="995"/>
                  </a:lnTo>
                  <a:lnTo>
                    <a:pt x="3520" y="916"/>
                  </a:lnTo>
                  <a:lnTo>
                    <a:pt x="3470" y="838"/>
                  </a:lnTo>
                  <a:lnTo>
                    <a:pt x="3418" y="764"/>
                  </a:lnTo>
                  <a:lnTo>
                    <a:pt x="3361" y="692"/>
                  </a:lnTo>
                  <a:lnTo>
                    <a:pt x="3301" y="623"/>
                  </a:lnTo>
                  <a:lnTo>
                    <a:pt x="3238" y="557"/>
                  </a:lnTo>
                  <a:lnTo>
                    <a:pt x="3172" y="495"/>
                  </a:lnTo>
                  <a:lnTo>
                    <a:pt x="3104" y="435"/>
                  </a:lnTo>
                  <a:lnTo>
                    <a:pt x="3032" y="378"/>
                  </a:lnTo>
                  <a:lnTo>
                    <a:pt x="2958" y="325"/>
                  </a:lnTo>
                  <a:lnTo>
                    <a:pt x="2880" y="276"/>
                  </a:lnTo>
                  <a:lnTo>
                    <a:pt x="2801" y="230"/>
                  </a:lnTo>
                  <a:lnTo>
                    <a:pt x="2719" y="187"/>
                  </a:lnTo>
                  <a:lnTo>
                    <a:pt x="2635" y="150"/>
                  </a:lnTo>
                  <a:lnTo>
                    <a:pt x="2549" y="116"/>
                  </a:lnTo>
                  <a:lnTo>
                    <a:pt x="2461" y="86"/>
                  </a:lnTo>
                  <a:lnTo>
                    <a:pt x="2371" y="60"/>
                  </a:lnTo>
                  <a:lnTo>
                    <a:pt x="2279" y="39"/>
                  </a:lnTo>
                  <a:lnTo>
                    <a:pt x="2186" y="22"/>
                  </a:lnTo>
                  <a:lnTo>
                    <a:pt x="2091" y="10"/>
                  </a:lnTo>
                  <a:lnTo>
                    <a:pt x="1995" y="3"/>
                  </a:lnTo>
                  <a:lnTo>
                    <a:pt x="1897" y="0"/>
                  </a:lnTo>
                  <a:lnTo>
                    <a:pt x="1800" y="3"/>
                  </a:lnTo>
                  <a:lnTo>
                    <a:pt x="1704" y="10"/>
                  </a:lnTo>
                  <a:lnTo>
                    <a:pt x="1610" y="22"/>
                  </a:lnTo>
                  <a:lnTo>
                    <a:pt x="1516" y="39"/>
                  </a:lnTo>
                  <a:lnTo>
                    <a:pt x="1424" y="60"/>
                  </a:lnTo>
                  <a:lnTo>
                    <a:pt x="1335" y="86"/>
                  </a:lnTo>
                  <a:lnTo>
                    <a:pt x="1247" y="116"/>
                  </a:lnTo>
                  <a:lnTo>
                    <a:pt x="1161" y="150"/>
                  </a:lnTo>
                  <a:lnTo>
                    <a:pt x="1077" y="187"/>
                  </a:lnTo>
                  <a:lnTo>
                    <a:pt x="995" y="230"/>
                  </a:lnTo>
                  <a:lnTo>
                    <a:pt x="915" y="276"/>
                  </a:lnTo>
                  <a:lnTo>
                    <a:pt x="838" y="325"/>
                  </a:lnTo>
                  <a:lnTo>
                    <a:pt x="764" y="378"/>
                  </a:lnTo>
                  <a:lnTo>
                    <a:pt x="692" y="435"/>
                  </a:lnTo>
                  <a:lnTo>
                    <a:pt x="623" y="495"/>
                  </a:lnTo>
                  <a:lnTo>
                    <a:pt x="557" y="557"/>
                  </a:lnTo>
                  <a:lnTo>
                    <a:pt x="495" y="623"/>
                  </a:lnTo>
                  <a:lnTo>
                    <a:pt x="435" y="692"/>
                  </a:lnTo>
                  <a:lnTo>
                    <a:pt x="378" y="764"/>
                  </a:lnTo>
                  <a:lnTo>
                    <a:pt x="325" y="838"/>
                  </a:lnTo>
                  <a:lnTo>
                    <a:pt x="276" y="916"/>
                  </a:lnTo>
                  <a:lnTo>
                    <a:pt x="230" y="995"/>
                  </a:lnTo>
                  <a:lnTo>
                    <a:pt x="187" y="1077"/>
                  </a:lnTo>
                  <a:lnTo>
                    <a:pt x="150" y="1161"/>
                  </a:lnTo>
                  <a:lnTo>
                    <a:pt x="115" y="1247"/>
                  </a:lnTo>
                  <a:lnTo>
                    <a:pt x="86" y="1335"/>
                  </a:lnTo>
                  <a:lnTo>
                    <a:pt x="60" y="1425"/>
                  </a:lnTo>
                  <a:lnTo>
                    <a:pt x="39" y="1516"/>
                  </a:lnTo>
                  <a:lnTo>
                    <a:pt x="23" y="1610"/>
                  </a:lnTo>
                  <a:lnTo>
                    <a:pt x="10" y="1705"/>
                  </a:lnTo>
                  <a:lnTo>
                    <a:pt x="3" y="1801"/>
                  </a:lnTo>
                  <a:lnTo>
                    <a:pt x="0" y="1898"/>
                  </a:lnTo>
                  <a:lnTo>
                    <a:pt x="3" y="1996"/>
                  </a:lnTo>
                  <a:lnTo>
                    <a:pt x="10" y="2092"/>
                  </a:lnTo>
                  <a:lnTo>
                    <a:pt x="23" y="2187"/>
                  </a:lnTo>
                  <a:lnTo>
                    <a:pt x="39" y="2279"/>
                  </a:lnTo>
                  <a:lnTo>
                    <a:pt x="60" y="2372"/>
                  </a:lnTo>
                  <a:lnTo>
                    <a:pt x="86" y="2461"/>
                  </a:lnTo>
                  <a:lnTo>
                    <a:pt x="115" y="2550"/>
                  </a:lnTo>
                  <a:lnTo>
                    <a:pt x="150" y="2636"/>
                  </a:lnTo>
                  <a:lnTo>
                    <a:pt x="187" y="2720"/>
                  </a:lnTo>
                  <a:lnTo>
                    <a:pt x="230" y="2801"/>
                  </a:lnTo>
                  <a:lnTo>
                    <a:pt x="276" y="2881"/>
                  </a:lnTo>
                  <a:lnTo>
                    <a:pt x="325" y="2958"/>
                  </a:lnTo>
                  <a:lnTo>
                    <a:pt x="378" y="3032"/>
                  </a:lnTo>
                  <a:lnTo>
                    <a:pt x="435" y="3104"/>
                  </a:lnTo>
                  <a:lnTo>
                    <a:pt x="495" y="3173"/>
                  </a:lnTo>
                  <a:lnTo>
                    <a:pt x="557" y="3238"/>
                  </a:lnTo>
                  <a:lnTo>
                    <a:pt x="623" y="3302"/>
                  </a:lnTo>
                  <a:lnTo>
                    <a:pt x="692" y="3362"/>
                  </a:lnTo>
                  <a:lnTo>
                    <a:pt x="764" y="3418"/>
                  </a:lnTo>
                  <a:lnTo>
                    <a:pt x="838" y="3471"/>
                  </a:lnTo>
                  <a:lnTo>
                    <a:pt x="915" y="3521"/>
                  </a:lnTo>
                  <a:lnTo>
                    <a:pt x="995" y="3566"/>
                  </a:lnTo>
                  <a:lnTo>
                    <a:pt x="1077" y="3608"/>
                  </a:lnTo>
                  <a:lnTo>
                    <a:pt x="1161" y="3646"/>
                  </a:lnTo>
                  <a:lnTo>
                    <a:pt x="1247" y="3680"/>
                  </a:lnTo>
                  <a:lnTo>
                    <a:pt x="1335" y="3710"/>
                  </a:lnTo>
                  <a:lnTo>
                    <a:pt x="1424" y="3735"/>
                  </a:lnTo>
                  <a:lnTo>
                    <a:pt x="1516" y="3757"/>
                  </a:lnTo>
                  <a:lnTo>
                    <a:pt x="1610" y="3774"/>
                  </a:lnTo>
                  <a:lnTo>
                    <a:pt x="1704" y="3786"/>
                  </a:lnTo>
                  <a:lnTo>
                    <a:pt x="1800"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Text Box 51"/>
            <p:cNvSpPr/>
            <p:nvPr/>
          </p:nvSpPr>
          <p:spPr>
            <a:xfrm>
              <a:off x="5706360" y="4143240"/>
              <a:ext cx="1476720" cy="276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Оценка</a:t>
              </a:r>
              <a:endParaRPr b="0" lang="en-US" sz="1200" spc="-1" strike="noStrike">
                <a:solidFill>
                  <a:srgbClr val="000000"/>
                </a:solidFill>
                <a:latin typeface="Arial"/>
              </a:endParaRPr>
            </a:p>
          </p:txBody>
        </p:sp>
        <p:sp>
          <p:nvSpPr>
            <p:cNvPr id="174" name="Line 27"/>
            <p:cNvSpPr/>
            <p:nvPr/>
          </p:nvSpPr>
          <p:spPr>
            <a:xfrm flipH="1">
              <a:off x="2302560" y="5560920"/>
              <a:ext cx="467604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75" name="Group 148"/>
            <p:cNvGrpSpPr/>
            <p:nvPr/>
          </p:nvGrpSpPr>
          <p:grpSpPr>
            <a:xfrm>
              <a:off x="1879200" y="5032080"/>
              <a:ext cx="1472400" cy="1139760"/>
              <a:chOff x="1879200" y="5032080"/>
              <a:chExt cx="1472400" cy="1139760"/>
            </a:xfrm>
          </p:grpSpPr>
          <p:sp>
            <p:nvSpPr>
              <p:cNvPr id="176" name="Freeform 57"/>
              <p:cNvSpPr/>
              <p:nvPr/>
            </p:nvSpPr>
            <p:spPr>
              <a:xfrm>
                <a:off x="1935720" y="5032080"/>
                <a:ext cx="1372680" cy="1139760"/>
              </a:xfrm>
              <a:custGeom>
                <a:avLst/>
                <a:gdLst>
                  <a:gd name="textAreaLeft" fmla="*/ 0 w 1372680"/>
                  <a:gd name="textAreaRight" fmla="*/ 1372680 w 1372680"/>
                  <a:gd name="textAreaTop" fmla="*/ 0 h 1139760"/>
                  <a:gd name="textAreaBottom" fmla="*/ 1140120 h 1139760"/>
                </a:gdLst>
                <a:ahLst/>
                <a:rect l="textAreaLeft" t="textAreaTop" r="textAreaRight" b="textAreaBottom"/>
                <a:pathLst>
                  <a:path w="3795" h="3795">
                    <a:moveTo>
                      <a:pt x="1898" y="3795"/>
                    </a:moveTo>
                    <a:lnTo>
                      <a:pt x="1995" y="3793"/>
                    </a:lnTo>
                    <a:lnTo>
                      <a:pt x="2091" y="3786"/>
                    </a:lnTo>
                    <a:lnTo>
                      <a:pt x="2185" y="3774"/>
                    </a:lnTo>
                    <a:lnTo>
                      <a:pt x="2279" y="3757"/>
                    </a:lnTo>
                    <a:lnTo>
                      <a:pt x="2371" y="3735"/>
                    </a:lnTo>
                    <a:lnTo>
                      <a:pt x="2461" y="3710"/>
                    </a:lnTo>
                    <a:lnTo>
                      <a:pt x="2548" y="3680"/>
                    </a:lnTo>
                    <a:lnTo>
                      <a:pt x="2634" y="3646"/>
                    </a:lnTo>
                    <a:lnTo>
                      <a:pt x="2719" y="3608"/>
                    </a:lnTo>
                    <a:lnTo>
                      <a:pt x="2801" y="3565"/>
                    </a:lnTo>
                    <a:lnTo>
                      <a:pt x="2880" y="3520"/>
                    </a:lnTo>
                    <a:lnTo>
                      <a:pt x="2957" y="3471"/>
                    </a:lnTo>
                    <a:lnTo>
                      <a:pt x="3031" y="3417"/>
                    </a:lnTo>
                    <a:lnTo>
                      <a:pt x="3103" y="3362"/>
                    </a:lnTo>
                    <a:lnTo>
                      <a:pt x="3172" y="3302"/>
                    </a:lnTo>
                    <a:lnTo>
                      <a:pt x="3238" y="3238"/>
                    </a:lnTo>
                    <a:lnTo>
                      <a:pt x="3301" y="3173"/>
                    </a:lnTo>
                    <a:lnTo>
                      <a:pt x="3360" y="3103"/>
                    </a:lnTo>
                    <a:lnTo>
                      <a:pt x="3417" y="3032"/>
                    </a:lnTo>
                    <a:lnTo>
                      <a:pt x="3470" y="2957"/>
                    </a:lnTo>
                    <a:lnTo>
                      <a:pt x="3519" y="2881"/>
                    </a:lnTo>
                    <a:lnTo>
                      <a:pt x="3565" y="2801"/>
                    </a:lnTo>
                    <a:lnTo>
                      <a:pt x="3608" y="2720"/>
                    </a:lnTo>
                    <a:lnTo>
                      <a:pt x="3646" y="2636"/>
                    </a:lnTo>
                    <a:lnTo>
                      <a:pt x="3679" y="2550"/>
                    </a:lnTo>
                    <a:lnTo>
                      <a:pt x="3709" y="2461"/>
                    </a:lnTo>
                    <a:lnTo>
                      <a:pt x="3735" y="2371"/>
                    </a:lnTo>
                    <a:lnTo>
                      <a:pt x="3756" y="2279"/>
                    </a:lnTo>
                    <a:lnTo>
                      <a:pt x="3773" y="2187"/>
                    </a:lnTo>
                    <a:lnTo>
                      <a:pt x="3785" y="2092"/>
                    </a:lnTo>
                    <a:lnTo>
                      <a:pt x="3793" y="1995"/>
                    </a:lnTo>
                    <a:lnTo>
                      <a:pt x="3795" y="1898"/>
                    </a:lnTo>
                    <a:lnTo>
                      <a:pt x="3793" y="1801"/>
                    </a:lnTo>
                    <a:lnTo>
                      <a:pt x="3785" y="1705"/>
                    </a:lnTo>
                    <a:lnTo>
                      <a:pt x="3773" y="1610"/>
                    </a:lnTo>
                    <a:lnTo>
                      <a:pt x="3756" y="1516"/>
                    </a:lnTo>
                    <a:lnTo>
                      <a:pt x="3735" y="1425"/>
                    </a:lnTo>
                    <a:lnTo>
                      <a:pt x="3709" y="1334"/>
                    </a:lnTo>
                    <a:lnTo>
                      <a:pt x="3679" y="1247"/>
                    </a:lnTo>
                    <a:lnTo>
                      <a:pt x="3646" y="1161"/>
                    </a:lnTo>
                    <a:lnTo>
                      <a:pt x="3608" y="1076"/>
                    </a:lnTo>
                    <a:lnTo>
                      <a:pt x="3565" y="994"/>
                    </a:lnTo>
                    <a:lnTo>
                      <a:pt x="3519" y="916"/>
                    </a:lnTo>
                    <a:lnTo>
                      <a:pt x="3470" y="838"/>
                    </a:lnTo>
                    <a:lnTo>
                      <a:pt x="3417" y="764"/>
                    </a:lnTo>
                    <a:lnTo>
                      <a:pt x="3360" y="692"/>
                    </a:lnTo>
                    <a:lnTo>
                      <a:pt x="3301" y="624"/>
                    </a:lnTo>
                    <a:lnTo>
                      <a:pt x="3238" y="557"/>
                    </a:lnTo>
                    <a:lnTo>
                      <a:pt x="3172" y="494"/>
                    </a:lnTo>
                    <a:lnTo>
                      <a:pt x="3103" y="435"/>
                    </a:lnTo>
                    <a:lnTo>
                      <a:pt x="3031" y="378"/>
                    </a:lnTo>
                    <a:lnTo>
                      <a:pt x="2957" y="325"/>
                    </a:lnTo>
                    <a:lnTo>
                      <a:pt x="2880" y="276"/>
                    </a:lnTo>
                    <a:lnTo>
                      <a:pt x="2801" y="230"/>
                    </a:lnTo>
                    <a:lnTo>
                      <a:pt x="2719" y="188"/>
                    </a:lnTo>
                    <a:lnTo>
                      <a:pt x="2634" y="149"/>
                    </a:lnTo>
                    <a:lnTo>
                      <a:pt x="2548" y="116"/>
                    </a:lnTo>
                    <a:lnTo>
                      <a:pt x="2461" y="86"/>
                    </a:lnTo>
                    <a:lnTo>
                      <a:pt x="2371" y="60"/>
                    </a:lnTo>
                    <a:lnTo>
                      <a:pt x="2279" y="39"/>
                    </a:lnTo>
                    <a:lnTo>
                      <a:pt x="2185" y="22"/>
                    </a:lnTo>
                    <a:lnTo>
                      <a:pt x="2091" y="10"/>
                    </a:lnTo>
                    <a:lnTo>
                      <a:pt x="1995" y="2"/>
                    </a:lnTo>
                    <a:lnTo>
                      <a:pt x="1898" y="0"/>
                    </a:lnTo>
                    <a:lnTo>
                      <a:pt x="1801" y="2"/>
                    </a:lnTo>
                    <a:lnTo>
                      <a:pt x="1704" y="10"/>
                    </a:lnTo>
                    <a:lnTo>
                      <a:pt x="1609" y="22"/>
                    </a:lnTo>
                    <a:lnTo>
                      <a:pt x="1516" y="39"/>
                    </a:lnTo>
                    <a:lnTo>
                      <a:pt x="1425" y="60"/>
                    </a:lnTo>
                    <a:lnTo>
                      <a:pt x="1334" y="86"/>
                    </a:lnTo>
                    <a:lnTo>
                      <a:pt x="1246" y="116"/>
                    </a:lnTo>
                    <a:lnTo>
                      <a:pt x="1160" y="149"/>
                    </a:lnTo>
                    <a:lnTo>
                      <a:pt x="1076" y="188"/>
                    </a:lnTo>
                    <a:lnTo>
                      <a:pt x="994" y="230"/>
                    </a:lnTo>
                    <a:lnTo>
                      <a:pt x="915" y="276"/>
                    </a:lnTo>
                    <a:lnTo>
                      <a:pt x="838" y="325"/>
                    </a:lnTo>
                    <a:lnTo>
                      <a:pt x="763" y="378"/>
                    </a:lnTo>
                    <a:lnTo>
                      <a:pt x="692" y="435"/>
                    </a:lnTo>
                    <a:lnTo>
                      <a:pt x="623" y="494"/>
                    </a:lnTo>
                    <a:lnTo>
                      <a:pt x="557" y="557"/>
                    </a:lnTo>
                    <a:lnTo>
                      <a:pt x="494" y="624"/>
                    </a:lnTo>
                    <a:lnTo>
                      <a:pt x="434" y="692"/>
                    </a:lnTo>
                    <a:lnTo>
                      <a:pt x="378" y="764"/>
                    </a:lnTo>
                    <a:lnTo>
                      <a:pt x="325" y="838"/>
                    </a:lnTo>
                    <a:lnTo>
                      <a:pt x="276" y="916"/>
                    </a:lnTo>
                    <a:lnTo>
                      <a:pt x="230" y="994"/>
                    </a:lnTo>
                    <a:lnTo>
                      <a:pt x="188" y="1076"/>
                    </a:lnTo>
                    <a:lnTo>
                      <a:pt x="150" y="1161"/>
                    </a:lnTo>
                    <a:lnTo>
                      <a:pt x="116" y="1247"/>
                    </a:lnTo>
                    <a:lnTo>
                      <a:pt x="85" y="1334"/>
                    </a:lnTo>
                    <a:lnTo>
                      <a:pt x="60" y="1425"/>
                    </a:lnTo>
                    <a:lnTo>
                      <a:pt x="38" y="1516"/>
                    </a:lnTo>
                    <a:lnTo>
                      <a:pt x="22" y="1610"/>
                    </a:lnTo>
                    <a:lnTo>
                      <a:pt x="10" y="1705"/>
                    </a:lnTo>
                    <a:lnTo>
                      <a:pt x="2" y="1801"/>
                    </a:lnTo>
                    <a:lnTo>
                      <a:pt x="0" y="1898"/>
                    </a:lnTo>
                    <a:lnTo>
                      <a:pt x="2" y="1995"/>
                    </a:lnTo>
                    <a:lnTo>
                      <a:pt x="10" y="2092"/>
                    </a:lnTo>
                    <a:lnTo>
                      <a:pt x="22" y="2187"/>
                    </a:lnTo>
                    <a:lnTo>
                      <a:pt x="38" y="2279"/>
                    </a:lnTo>
                    <a:lnTo>
                      <a:pt x="60" y="2371"/>
                    </a:lnTo>
                    <a:lnTo>
                      <a:pt x="85" y="2461"/>
                    </a:lnTo>
                    <a:lnTo>
                      <a:pt x="116" y="2550"/>
                    </a:lnTo>
                    <a:lnTo>
                      <a:pt x="150" y="2636"/>
                    </a:lnTo>
                    <a:lnTo>
                      <a:pt x="188" y="2720"/>
                    </a:lnTo>
                    <a:lnTo>
                      <a:pt x="230" y="2801"/>
                    </a:lnTo>
                    <a:lnTo>
                      <a:pt x="276" y="2881"/>
                    </a:lnTo>
                    <a:lnTo>
                      <a:pt x="325" y="2957"/>
                    </a:lnTo>
                    <a:lnTo>
                      <a:pt x="378" y="3032"/>
                    </a:lnTo>
                    <a:lnTo>
                      <a:pt x="434" y="3103"/>
                    </a:lnTo>
                    <a:lnTo>
                      <a:pt x="494" y="3173"/>
                    </a:lnTo>
                    <a:lnTo>
                      <a:pt x="557" y="3238"/>
                    </a:lnTo>
                    <a:lnTo>
                      <a:pt x="623" y="3302"/>
                    </a:lnTo>
                    <a:lnTo>
                      <a:pt x="692" y="3362"/>
                    </a:lnTo>
                    <a:lnTo>
                      <a:pt x="763" y="3417"/>
                    </a:lnTo>
                    <a:lnTo>
                      <a:pt x="838" y="3471"/>
                    </a:lnTo>
                    <a:lnTo>
                      <a:pt x="915" y="3520"/>
                    </a:lnTo>
                    <a:lnTo>
                      <a:pt x="994" y="3565"/>
                    </a:lnTo>
                    <a:lnTo>
                      <a:pt x="1076" y="3608"/>
                    </a:lnTo>
                    <a:lnTo>
                      <a:pt x="1160" y="3646"/>
                    </a:lnTo>
                    <a:lnTo>
                      <a:pt x="1246" y="3680"/>
                    </a:lnTo>
                    <a:lnTo>
                      <a:pt x="1334" y="3710"/>
                    </a:lnTo>
                    <a:lnTo>
                      <a:pt x="1425" y="3735"/>
                    </a:lnTo>
                    <a:lnTo>
                      <a:pt x="1516" y="3757"/>
                    </a:lnTo>
                    <a:lnTo>
                      <a:pt x="1609" y="3774"/>
                    </a:lnTo>
                    <a:lnTo>
                      <a:pt x="1704" y="3786"/>
                    </a:lnTo>
                    <a:lnTo>
                      <a:pt x="1801" y="3793"/>
                    </a:lnTo>
                    <a:lnTo>
                      <a:pt x="1898"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Text Box 58"/>
              <p:cNvSpPr/>
              <p:nvPr/>
            </p:nvSpPr>
            <p:spPr>
              <a:xfrm>
                <a:off x="1879200" y="5333040"/>
                <a:ext cx="1472400" cy="4590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Улучшение процессов</a:t>
                </a:r>
                <a:endParaRPr b="0" lang="en-US" sz="1200" spc="-1" strike="noStrike">
                  <a:solidFill>
                    <a:srgbClr val="000000"/>
                  </a:solidFill>
                  <a:latin typeface="Arial"/>
                </a:endParaRPr>
              </a:p>
            </p:txBody>
          </p:sp>
        </p:grpSp>
        <p:grpSp>
          <p:nvGrpSpPr>
            <p:cNvPr id="178" name="Group 151"/>
            <p:cNvGrpSpPr/>
            <p:nvPr/>
          </p:nvGrpSpPr>
          <p:grpSpPr>
            <a:xfrm>
              <a:off x="3821400" y="4966920"/>
              <a:ext cx="1476360" cy="1140120"/>
              <a:chOff x="3821400" y="4966920"/>
              <a:chExt cx="1476360" cy="1140120"/>
            </a:xfrm>
          </p:grpSpPr>
          <p:sp>
            <p:nvSpPr>
              <p:cNvPr id="179" name="Freeform 34"/>
              <p:cNvSpPr/>
              <p:nvPr/>
            </p:nvSpPr>
            <p:spPr>
              <a:xfrm>
                <a:off x="3879360" y="4966920"/>
                <a:ext cx="1372680" cy="1140120"/>
              </a:xfrm>
              <a:custGeom>
                <a:avLst/>
                <a:gdLst>
                  <a:gd name="textAreaLeft" fmla="*/ 0 w 1372680"/>
                  <a:gd name="textAreaRight" fmla="*/ 1372680 w 1372680"/>
                  <a:gd name="textAreaTop" fmla="*/ 0 h 1140120"/>
                  <a:gd name="textAreaBottom" fmla="*/ 1140480 h 1140120"/>
                </a:gdLst>
                <a:ahLst/>
                <a:rect l="textAreaLeft" t="textAreaTop" r="textAreaRight" b="textAreaBottom"/>
                <a:pathLst>
                  <a:path w="3795" h="3795">
                    <a:moveTo>
                      <a:pt x="1897" y="3795"/>
                    </a:moveTo>
                    <a:lnTo>
                      <a:pt x="1994" y="3793"/>
                    </a:lnTo>
                    <a:lnTo>
                      <a:pt x="2090" y="3786"/>
                    </a:lnTo>
                    <a:lnTo>
                      <a:pt x="2185" y="3774"/>
                    </a:lnTo>
                    <a:lnTo>
                      <a:pt x="2279" y="3757"/>
                    </a:lnTo>
                    <a:lnTo>
                      <a:pt x="2370" y="3735"/>
                    </a:lnTo>
                    <a:lnTo>
                      <a:pt x="2460" y="3710"/>
                    </a:lnTo>
                    <a:lnTo>
                      <a:pt x="2548" y="3680"/>
                    </a:lnTo>
                    <a:lnTo>
                      <a:pt x="2634" y="3646"/>
                    </a:lnTo>
                    <a:lnTo>
                      <a:pt x="2718" y="3608"/>
                    </a:lnTo>
                    <a:lnTo>
                      <a:pt x="2800" y="3565"/>
                    </a:lnTo>
                    <a:lnTo>
                      <a:pt x="2879" y="3520"/>
                    </a:lnTo>
                    <a:lnTo>
                      <a:pt x="2956" y="3471"/>
                    </a:lnTo>
                    <a:lnTo>
                      <a:pt x="3031" y="3417"/>
                    </a:lnTo>
                    <a:lnTo>
                      <a:pt x="3103" y="3362"/>
                    </a:lnTo>
                    <a:lnTo>
                      <a:pt x="3171" y="3302"/>
                    </a:lnTo>
                    <a:lnTo>
                      <a:pt x="3238" y="3238"/>
                    </a:lnTo>
                    <a:lnTo>
                      <a:pt x="3300" y="3173"/>
                    </a:lnTo>
                    <a:lnTo>
                      <a:pt x="3360" y="3103"/>
                    </a:lnTo>
                    <a:lnTo>
                      <a:pt x="3416" y="3032"/>
                    </a:lnTo>
                    <a:lnTo>
                      <a:pt x="3470" y="2957"/>
                    </a:lnTo>
                    <a:lnTo>
                      <a:pt x="3519" y="2881"/>
                    </a:lnTo>
                    <a:lnTo>
                      <a:pt x="3565" y="2801"/>
                    </a:lnTo>
                    <a:lnTo>
                      <a:pt x="3606" y="2720"/>
                    </a:lnTo>
                    <a:lnTo>
                      <a:pt x="3644" y="2636"/>
                    </a:lnTo>
                    <a:lnTo>
                      <a:pt x="3679" y="2550"/>
                    </a:lnTo>
                    <a:lnTo>
                      <a:pt x="3708" y="2461"/>
                    </a:lnTo>
                    <a:lnTo>
                      <a:pt x="3735" y="2371"/>
                    </a:lnTo>
                    <a:lnTo>
                      <a:pt x="3755" y="2279"/>
                    </a:lnTo>
                    <a:lnTo>
                      <a:pt x="3772" y="2187"/>
                    </a:lnTo>
                    <a:lnTo>
                      <a:pt x="3785" y="2092"/>
                    </a:lnTo>
                    <a:lnTo>
                      <a:pt x="3791" y="1995"/>
                    </a:lnTo>
                    <a:lnTo>
                      <a:pt x="3795" y="1898"/>
                    </a:lnTo>
                    <a:lnTo>
                      <a:pt x="3791" y="1801"/>
                    </a:lnTo>
                    <a:lnTo>
                      <a:pt x="3785" y="1705"/>
                    </a:lnTo>
                    <a:lnTo>
                      <a:pt x="3772" y="1610"/>
                    </a:lnTo>
                    <a:lnTo>
                      <a:pt x="3755" y="1516"/>
                    </a:lnTo>
                    <a:lnTo>
                      <a:pt x="3735" y="1425"/>
                    </a:lnTo>
                    <a:lnTo>
                      <a:pt x="3708" y="1334"/>
                    </a:lnTo>
                    <a:lnTo>
                      <a:pt x="3679" y="1247"/>
                    </a:lnTo>
                    <a:lnTo>
                      <a:pt x="3644" y="1161"/>
                    </a:lnTo>
                    <a:lnTo>
                      <a:pt x="3606" y="1076"/>
                    </a:lnTo>
                    <a:lnTo>
                      <a:pt x="3565" y="994"/>
                    </a:lnTo>
                    <a:lnTo>
                      <a:pt x="3519" y="916"/>
                    </a:lnTo>
                    <a:lnTo>
                      <a:pt x="3470" y="838"/>
                    </a:lnTo>
                    <a:lnTo>
                      <a:pt x="3416" y="764"/>
                    </a:lnTo>
                    <a:lnTo>
                      <a:pt x="3360" y="692"/>
                    </a:lnTo>
                    <a:lnTo>
                      <a:pt x="3300" y="624"/>
                    </a:lnTo>
                    <a:lnTo>
                      <a:pt x="3238" y="557"/>
                    </a:lnTo>
                    <a:lnTo>
                      <a:pt x="3171" y="494"/>
                    </a:lnTo>
                    <a:lnTo>
                      <a:pt x="3103" y="435"/>
                    </a:lnTo>
                    <a:lnTo>
                      <a:pt x="3031" y="378"/>
                    </a:lnTo>
                    <a:lnTo>
                      <a:pt x="2956" y="325"/>
                    </a:lnTo>
                    <a:lnTo>
                      <a:pt x="2879" y="276"/>
                    </a:lnTo>
                    <a:lnTo>
                      <a:pt x="2800" y="230"/>
                    </a:lnTo>
                    <a:lnTo>
                      <a:pt x="2718" y="188"/>
                    </a:lnTo>
                    <a:lnTo>
                      <a:pt x="2634" y="149"/>
                    </a:lnTo>
                    <a:lnTo>
                      <a:pt x="2548" y="116"/>
                    </a:lnTo>
                    <a:lnTo>
                      <a:pt x="2460" y="86"/>
                    </a:lnTo>
                    <a:lnTo>
                      <a:pt x="2370" y="60"/>
                    </a:lnTo>
                    <a:lnTo>
                      <a:pt x="2279" y="39"/>
                    </a:lnTo>
                    <a:lnTo>
                      <a:pt x="2185" y="22"/>
                    </a:lnTo>
                    <a:lnTo>
                      <a:pt x="2090" y="10"/>
                    </a:lnTo>
                    <a:lnTo>
                      <a:pt x="1994" y="2"/>
                    </a:lnTo>
                    <a:lnTo>
                      <a:pt x="1897" y="0"/>
                    </a:lnTo>
                    <a:lnTo>
                      <a:pt x="1799" y="2"/>
                    </a:lnTo>
                    <a:lnTo>
                      <a:pt x="1703" y="10"/>
                    </a:lnTo>
                    <a:lnTo>
                      <a:pt x="1608" y="22"/>
                    </a:lnTo>
                    <a:lnTo>
                      <a:pt x="1516" y="39"/>
                    </a:lnTo>
                    <a:lnTo>
                      <a:pt x="1423" y="60"/>
                    </a:lnTo>
                    <a:lnTo>
                      <a:pt x="1334" y="86"/>
                    </a:lnTo>
                    <a:lnTo>
                      <a:pt x="1245" y="116"/>
                    </a:lnTo>
                    <a:lnTo>
                      <a:pt x="1159" y="149"/>
                    </a:lnTo>
                    <a:lnTo>
                      <a:pt x="1075" y="188"/>
                    </a:lnTo>
                    <a:lnTo>
                      <a:pt x="994" y="230"/>
                    </a:lnTo>
                    <a:lnTo>
                      <a:pt x="914" y="276"/>
                    </a:lnTo>
                    <a:lnTo>
                      <a:pt x="837" y="325"/>
                    </a:lnTo>
                    <a:lnTo>
                      <a:pt x="763" y="378"/>
                    </a:lnTo>
                    <a:lnTo>
                      <a:pt x="691" y="435"/>
                    </a:lnTo>
                    <a:lnTo>
                      <a:pt x="622" y="494"/>
                    </a:lnTo>
                    <a:lnTo>
                      <a:pt x="557" y="557"/>
                    </a:lnTo>
                    <a:lnTo>
                      <a:pt x="494" y="624"/>
                    </a:lnTo>
                    <a:lnTo>
                      <a:pt x="434" y="692"/>
                    </a:lnTo>
                    <a:lnTo>
                      <a:pt x="377" y="764"/>
                    </a:lnTo>
                    <a:lnTo>
                      <a:pt x="325" y="838"/>
                    </a:lnTo>
                    <a:lnTo>
                      <a:pt x="274" y="916"/>
                    </a:lnTo>
                    <a:lnTo>
                      <a:pt x="229" y="994"/>
                    </a:lnTo>
                    <a:lnTo>
                      <a:pt x="187" y="1076"/>
                    </a:lnTo>
                    <a:lnTo>
                      <a:pt x="149" y="1161"/>
                    </a:lnTo>
                    <a:lnTo>
                      <a:pt x="115" y="1247"/>
                    </a:lnTo>
                    <a:lnTo>
                      <a:pt x="85" y="1334"/>
                    </a:lnTo>
                    <a:lnTo>
                      <a:pt x="60" y="1425"/>
                    </a:lnTo>
                    <a:lnTo>
                      <a:pt x="38" y="1516"/>
                    </a:lnTo>
                    <a:lnTo>
                      <a:pt x="22" y="1610"/>
                    </a:lnTo>
                    <a:lnTo>
                      <a:pt x="10" y="1705"/>
                    </a:lnTo>
                    <a:lnTo>
                      <a:pt x="2" y="1801"/>
                    </a:lnTo>
                    <a:lnTo>
                      <a:pt x="0" y="1898"/>
                    </a:lnTo>
                    <a:lnTo>
                      <a:pt x="2" y="1995"/>
                    </a:lnTo>
                    <a:lnTo>
                      <a:pt x="10" y="2092"/>
                    </a:lnTo>
                    <a:lnTo>
                      <a:pt x="22" y="2187"/>
                    </a:lnTo>
                    <a:lnTo>
                      <a:pt x="38" y="2279"/>
                    </a:lnTo>
                    <a:lnTo>
                      <a:pt x="60" y="2371"/>
                    </a:lnTo>
                    <a:lnTo>
                      <a:pt x="85" y="2461"/>
                    </a:lnTo>
                    <a:lnTo>
                      <a:pt x="115" y="2550"/>
                    </a:lnTo>
                    <a:lnTo>
                      <a:pt x="149" y="2636"/>
                    </a:lnTo>
                    <a:lnTo>
                      <a:pt x="187" y="2720"/>
                    </a:lnTo>
                    <a:lnTo>
                      <a:pt x="229" y="2801"/>
                    </a:lnTo>
                    <a:lnTo>
                      <a:pt x="274" y="2881"/>
                    </a:lnTo>
                    <a:lnTo>
                      <a:pt x="325" y="2957"/>
                    </a:lnTo>
                    <a:lnTo>
                      <a:pt x="377" y="3032"/>
                    </a:lnTo>
                    <a:lnTo>
                      <a:pt x="434" y="3103"/>
                    </a:lnTo>
                    <a:lnTo>
                      <a:pt x="494" y="3173"/>
                    </a:lnTo>
                    <a:lnTo>
                      <a:pt x="557" y="3238"/>
                    </a:lnTo>
                    <a:lnTo>
                      <a:pt x="622" y="3302"/>
                    </a:lnTo>
                    <a:lnTo>
                      <a:pt x="691" y="3362"/>
                    </a:lnTo>
                    <a:lnTo>
                      <a:pt x="763" y="3417"/>
                    </a:lnTo>
                    <a:lnTo>
                      <a:pt x="837" y="3471"/>
                    </a:lnTo>
                    <a:lnTo>
                      <a:pt x="914" y="3520"/>
                    </a:lnTo>
                    <a:lnTo>
                      <a:pt x="994" y="3565"/>
                    </a:lnTo>
                    <a:lnTo>
                      <a:pt x="1075" y="3608"/>
                    </a:lnTo>
                    <a:lnTo>
                      <a:pt x="1159" y="3646"/>
                    </a:lnTo>
                    <a:lnTo>
                      <a:pt x="1245" y="3680"/>
                    </a:lnTo>
                    <a:lnTo>
                      <a:pt x="1334" y="3710"/>
                    </a:lnTo>
                    <a:lnTo>
                      <a:pt x="1423" y="3735"/>
                    </a:lnTo>
                    <a:lnTo>
                      <a:pt x="1516" y="3757"/>
                    </a:lnTo>
                    <a:lnTo>
                      <a:pt x="1608" y="3774"/>
                    </a:lnTo>
                    <a:lnTo>
                      <a:pt x="1703" y="3786"/>
                    </a:lnTo>
                    <a:lnTo>
                      <a:pt x="1799"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Text Box 61"/>
              <p:cNvSpPr/>
              <p:nvPr/>
            </p:nvSpPr>
            <p:spPr>
              <a:xfrm>
                <a:off x="3821400" y="5333040"/>
                <a:ext cx="1476360" cy="4590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Обслуживание клиентов</a:t>
                </a:r>
                <a:endParaRPr b="0" lang="en-US" sz="1200" spc="-1" strike="noStrike">
                  <a:solidFill>
                    <a:srgbClr val="000000"/>
                  </a:solidFill>
                  <a:latin typeface="Arial"/>
                </a:endParaRPr>
              </a:p>
            </p:txBody>
          </p:sp>
        </p:grpSp>
        <p:grpSp>
          <p:nvGrpSpPr>
            <p:cNvPr id="181" name="Group 154"/>
            <p:cNvGrpSpPr/>
            <p:nvPr/>
          </p:nvGrpSpPr>
          <p:grpSpPr>
            <a:xfrm>
              <a:off x="5759640" y="5032080"/>
              <a:ext cx="1476360" cy="1139760"/>
              <a:chOff x="5759640" y="5032080"/>
              <a:chExt cx="1476360" cy="1139760"/>
            </a:xfrm>
          </p:grpSpPr>
          <p:sp>
            <p:nvSpPr>
              <p:cNvPr id="182" name="Freeform 63"/>
              <p:cNvSpPr/>
              <p:nvPr/>
            </p:nvSpPr>
            <p:spPr>
              <a:xfrm>
                <a:off x="5774400" y="5032080"/>
                <a:ext cx="1374480" cy="1139760"/>
              </a:xfrm>
              <a:custGeom>
                <a:avLst/>
                <a:gdLst>
                  <a:gd name="textAreaLeft" fmla="*/ 0 w 1374480"/>
                  <a:gd name="textAreaRight" fmla="*/ 1374840 w 1374480"/>
                  <a:gd name="textAreaTop" fmla="*/ 0 h 1139760"/>
                  <a:gd name="textAreaBottom" fmla="*/ 1140120 h 1139760"/>
                </a:gdLst>
                <a:ahLst/>
                <a:rect l="textAreaLeft" t="textAreaTop" r="textAreaRight" b="textAreaBottom"/>
                <a:pathLst>
                  <a:path w="3795" h="3795">
                    <a:moveTo>
                      <a:pt x="1897" y="3795"/>
                    </a:moveTo>
                    <a:lnTo>
                      <a:pt x="1995" y="3793"/>
                    </a:lnTo>
                    <a:lnTo>
                      <a:pt x="2091" y="3786"/>
                    </a:lnTo>
                    <a:lnTo>
                      <a:pt x="2186" y="3774"/>
                    </a:lnTo>
                    <a:lnTo>
                      <a:pt x="2279" y="3757"/>
                    </a:lnTo>
                    <a:lnTo>
                      <a:pt x="2371" y="3735"/>
                    </a:lnTo>
                    <a:lnTo>
                      <a:pt x="2461" y="3710"/>
                    </a:lnTo>
                    <a:lnTo>
                      <a:pt x="2549" y="3680"/>
                    </a:lnTo>
                    <a:lnTo>
                      <a:pt x="2635" y="3646"/>
                    </a:lnTo>
                    <a:lnTo>
                      <a:pt x="2719" y="3608"/>
                    </a:lnTo>
                    <a:lnTo>
                      <a:pt x="2801" y="3565"/>
                    </a:lnTo>
                    <a:lnTo>
                      <a:pt x="2880" y="3520"/>
                    </a:lnTo>
                    <a:lnTo>
                      <a:pt x="2958" y="3471"/>
                    </a:lnTo>
                    <a:lnTo>
                      <a:pt x="3032" y="3417"/>
                    </a:lnTo>
                    <a:lnTo>
                      <a:pt x="3104" y="3362"/>
                    </a:lnTo>
                    <a:lnTo>
                      <a:pt x="3172" y="3302"/>
                    </a:lnTo>
                    <a:lnTo>
                      <a:pt x="3238" y="3238"/>
                    </a:lnTo>
                    <a:lnTo>
                      <a:pt x="3301" y="3173"/>
                    </a:lnTo>
                    <a:lnTo>
                      <a:pt x="3361" y="3103"/>
                    </a:lnTo>
                    <a:lnTo>
                      <a:pt x="3418" y="3032"/>
                    </a:lnTo>
                    <a:lnTo>
                      <a:pt x="3470" y="2957"/>
                    </a:lnTo>
                    <a:lnTo>
                      <a:pt x="3520" y="2881"/>
                    </a:lnTo>
                    <a:lnTo>
                      <a:pt x="3566" y="2801"/>
                    </a:lnTo>
                    <a:lnTo>
                      <a:pt x="3607" y="2720"/>
                    </a:lnTo>
                    <a:lnTo>
                      <a:pt x="3645" y="2636"/>
                    </a:lnTo>
                    <a:lnTo>
                      <a:pt x="3679" y="2550"/>
                    </a:lnTo>
                    <a:lnTo>
                      <a:pt x="3710" y="2461"/>
                    </a:lnTo>
                    <a:lnTo>
                      <a:pt x="3735" y="2371"/>
                    </a:lnTo>
                    <a:lnTo>
                      <a:pt x="3756" y="2279"/>
                    </a:lnTo>
                    <a:lnTo>
                      <a:pt x="3773" y="2187"/>
                    </a:lnTo>
                    <a:lnTo>
                      <a:pt x="3785" y="2092"/>
                    </a:lnTo>
                    <a:lnTo>
                      <a:pt x="3792" y="1995"/>
                    </a:lnTo>
                    <a:lnTo>
                      <a:pt x="3795" y="1898"/>
                    </a:lnTo>
                    <a:lnTo>
                      <a:pt x="3792" y="1801"/>
                    </a:lnTo>
                    <a:lnTo>
                      <a:pt x="3785" y="1705"/>
                    </a:lnTo>
                    <a:lnTo>
                      <a:pt x="3773" y="1610"/>
                    </a:lnTo>
                    <a:lnTo>
                      <a:pt x="3756" y="1516"/>
                    </a:lnTo>
                    <a:lnTo>
                      <a:pt x="3735" y="1425"/>
                    </a:lnTo>
                    <a:lnTo>
                      <a:pt x="3710" y="1334"/>
                    </a:lnTo>
                    <a:lnTo>
                      <a:pt x="3679" y="1247"/>
                    </a:lnTo>
                    <a:lnTo>
                      <a:pt x="3645" y="1161"/>
                    </a:lnTo>
                    <a:lnTo>
                      <a:pt x="3607" y="1076"/>
                    </a:lnTo>
                    <a:lnTo>
                      <a:pt x="3566" y="994"/>
                    </a:lnTo>
                    <a:lnTo>
                      <a:pt x="3520" y="916"/>
                    </a:lnTo>
                    <a:lnTo>
                      <a:pt x="3470" y="838"/>
                    </a:lnTo>
                    <a:lnTo>
                      <a:pt x="3418" y="764"/>
                    </a:lnTo>
                    <a:lnTo>
                      <a:pt x="3361" y="692"/>
                    </a:lnTo>
                    <a:lnTo>
                      <a:pt x="3301" y="624"/>
                    </a:lnTo>
                    <a:lnTo>
                      <a:pt x="3238" y="557"/>
                    </a:lnTo>
                    <a:lnTo>
                      <a:pt x="3172" y="494"/>
                    </a:lnTo>
                    <a:lnTo>
                      <a:pt x="3104" y="435"/>
                    </a:lnTo>
                    <a:lnTo>
                      <a:pt x="3032" y="378"/>
                    </a:lnTo>
                    <a:lnTo>
                      <a:pt x="2958" y="325"/>
                    </a:lnTo>
                    <a:lnTo>
                      <a:pt x="2880" y="276"/>
                    </a:lnTo>
                    <a:lnTo>
                      <a:pt x="2801" y="230"/>
                    </a:lnTo>
                    <a:lnTo>
                      <a:pt x="2719" y="188"/>
                    </a:lnTo>
                    <a:lnTo>
                      <a:pt x="2635" y="149"/>
                    </a:lnTo>
                    <a:lnTo>
                      <a:pt x="2549" y="116"/>
                    </a:lnTo>
                    <a:lnTo>
                      <a:pt x="2461" y="86"/>
                    </a:lnTo>
                    <a:lnTo>
                      <a:pt x="2371" y="60"/>
                    </a:lnTo>
                    <a:lnTo>
                      <a:pt x="2279" y="39"/>
                    </a:lnTo>
                    <a:lnTo>
                      <a:pt x="2186" y="22"/>
                    </a:lnTo>
                    <a:lnTo>
                      <a:pt x="2091" y="10"/>
                    </a:lnTo>
                    <a:lnTo>
                      <a:pt x="1995" y="2"/>
                    </a:lnTo>
                    <a:lnTo>
                      <a:pt x="1897" y="0"/>
                    </a:lnTo>
                    <a:lnTo>
                      <a:pt x="1800" y="2"/>
                    </a:lnTo>
                    <a:lnTo>
                      <a:pt x="1704" y="10"/>
                    </a:lnTo>
                    <a:lnTo>
                      <a:pt x="1610" y="22"/>
                    </a:lnTo>
                    <a:lnTo>
                      <a:pt x="1516" y="39"/>
                    </a:lnTo>
                    <a:lnTo>
                      <a:pt x="1424" y="60"/>
                    </a:lnTo>
                    <a:lnTo>
                      <a:pt x="1335" y="86"/>
                    </a:lnTo>
                    <a:lnTo>
                      <a:pt x="1247" y="116"/>
                    </a:lnTo>
                    <a:lnTo>
                      <a:pt x="1161" y="149"/>
                    </a:lnTo>
                    <a:lnTo>
                      <a:pt x="1077" y="188"/>
                    </a:lnTo>
                    <a:lnTo>
                      <a:pt x="995" y="230"/>
                    </a:lnTo>
                    <a:lnTo>
                      <a:pt x="915" y="276"/>
                    </a:lnTo>
                    <a:lnTo>
                      <a:pt x="838" y="325"/>
                    </a:lnTo>
                    <a:lnTo>
                      <a:pt x="764" y="378"/>
                    </a:lnTo>
                    <a:lnTo>
                      <a:pt x="692" y="435"/>
                    </a:lnTo>
                    <a:lnTo>
                      <a:pt x="623" y="494"/>
                    </a:lnTo>
                    <a:lnTo>
                      <a:pt x="557" y="557"/>
                    </a:lnTo>
                    <a:lnTo>
                      <a:pt x="495" y="624"/>
                    </a:lnTo>
                    <a:lnTo>
                      <a:pt x="435" y="692"/>
                    </a:lnTo>
                    <a:lnTo>
                      <a:pt x="378" y="764"/>
                    </a:lnTo>
                    <a:lnTo>
                      <a:pt x="325" y="838"/>
                    </a:lnTo>
                    <a:lnTo>
                      <a:pt x="276" y="916"/>
                    </a:lnTo>
                    <a:lnTo>
                      <a:pt x="230" y="994"/>
                    </a:lnTo>
                    <a:lnTo>
                      <a:pt x="187" y="1076"/>
                    </a:lnTo>
                    <a:lnTo>
                      <a:pt x="150" y="1161"/>
                    </a:lnTo>
                    <a:lnTo>
                      <a:pt x="115" y="1247"/>
                    </a:lnTo>
                    <a:lnTo>
                      <a:pt x="86" y="1334"/>
                    </a:lnTo>
                    <a:lnTo>
                      <a:pt x="60" y="1425"/>
                    </a:lnTo>
                    <a:lnTo>
                      <a:pt x="39" y="1516"/>
                    </a:lnTo>
                    <a:lnTo>
                      <a:pt x="23" y="1610"/>
                    </a:lnTo>
                    <a:lnTo>
                      <a:pt x="10" y="1705"/>
                    </a:lnTo>
                    <a:lnTo>
                      <a:pt x="3" y="1801"/>
                    </a:lnTo>
                    <a:lnTo>
                      <a:pt x="0" y="1898"/>
                    </a:lnTo>
                    <a:lnTo>
                      <a:pt x="3" y="1995"/>
                    </a:lnTo>
                    <a:lnTo>
                      <a:pt x="10" y="2092"/>
                    </a:lnTo>
                    <a:lnTo>
                      <a:pt x="23" y="2187"/>
                    </a:lnTo>
                    <a:lnTo>
                      <a:pt x="39" y="2279"/>
                    </a:lnTo>
                    <a:lnTo>
                      <a:pt x="60" y="2371"/>
                    </a:lnTo>
                    <a:lnTo>
                      <a:pt x="86" y="2461"/>
                    </a:lnTo>
                    <a:lnTo>
                      <a:pt x="115" y="2550"/>
                    </a:lnTo>
                    <a:lnTo>
                      <a:pt x="150" y="2636"/>
                    </a:lnTo>
                    <a:lnTo>
                      <a:pt x="187" y="2720"/>
                    </a:lnTo>
                    <a:lnTo>
                      <a:pt x="230" y="2801"/>
                    </a:lnTo>
                    <a:lnTo>
                      <a:pt x="276" y="2881"/>
                    </a:lnTo>
                    <a:lnTo>
                      <a:pt x="325" y="2957"/>
                    </a:lnTo>
                    <a:lnTo>
                      <a:pt x="378" y="3032"/>
                    </a:lnTo>
                    <a:lnTo>
                      <a:pt x="435" y="3103"/>
                    </a:lnTo>
                    <a:lnTo>
                      <a:pt x="495" y="3173"/>
                    </a:lnTo>
                    <a:lnTo>
                      <a:pt x="557" y="3238"/>
                    </a:lnTo>
                    <a:lnTo>
                      <a:pt x="623" y="3302"/>
                    </a:lnTo>
                    <a:lnTo>
                      <a:pt x="692" y="3362"/>
                    </a:lnTo>
                    <a:lnTo>
                      <a:pt x="764" y="3417"/>
                    </a:lnTo>
                    <a:lnTo>
                      <a:pt x="838" y="3471"/>
                    </a:lnTo>
                    <a:lnTo>
                      <a:pt x="915" y="3520"/>
                    </a:lnTo>
                    <a:lnTo>
                      <a:pt x="995" y="3565"/>
                    </a:lnTo>
                    <a:lnTo>
                      <a:pt x="1077" y="3608"/>
                    </a:lnTo>
                    <a:lnTo>
                      <a:pt x="1161" y="3646"/>
                    </a:lnTo>
                    <a:lnTo>
                      <a:pt x="1247" y="3680"/>
                    </a:lnTo>
                    <a:lnTo>
                      <a:pt x="1335" y="3710"/>
                    </a:lnTo>
                    <a:lnTo>
                      <a:pt x="1424" y="3735"/>
                    </a:lnTo>
                    <a:lnTo>
                      <a:pt x="1516" y="3757"/>
                    </a:lnTo>
                    <a:lnTo>
                      <a:pt x="1610" y="3774"/>
                    </a:lnTo>
                    <a:lnTo>
                      <a:pt x="1704" y="3786"/>
                    </a:lnTo>
                    <a:lnTo>
                      <a:pt x="1800"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Text Box 64"/>
              <p:cNvSpPr/>
              <p:nvPr/>
            </p:nvSpPr>
            <p:spPr>
              <a:xfrm>
                <a:off x="5759640" y="5234400"/>
                <a:ext cx="147636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Помещения и инфраструктура, безопасность</a:t>
                </a:r>
                <a:endParaRPr b="0" lang="en-US" sz="1200" spc="-1" strike="noStrike">
                  <a:solidFill>
                    <a:srgbClr val="000000"/>
                  </a:solidFill>
                  <a:latin typeface="Arial"/>
                </a:endParaRPr>
              </a:p>
            </p:txBody>
          </p:sp>
        </p:grpSp>
      </p:gr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380520" y="456840"/>
            <a:ext cx="8458200" cy="646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Оценка лаборатории</a:t>
            </a:r>
            <a:r>
              <a:rPr b="0" lang="en-US" sz="3600" spc="-1" strike="noStrike">
                <a:solidFill>
                  <a:srgbClr val="00007d"/>
                </a:solidFill>
                <a:latin typeface="Verdana"/>
              </a:rPr>
              <a:t> – </a:t>
            </a:r>
            <a:r>
              <a:rPr b="0" lang="ru-RU" sz="3600" spc="-1" strike="noStrike">
                <a:solidFill>
                  <a:srgbClr val="00007d"/>
                </a:solidFill>
                <a:latin typeface="Verdana"/>
              </a:rPr>
              <a:t>ДЛЯ ЧЕГО?</a:t>
            </a:r>
            <a:endParaRPr b="0" lang="en-US" sz="3600" spc="-1" strike="noStrike">
              <a:solidFill>
                <a:srgbClr val="00007d"/>
              </a:solidFill>
              <a:latin typeface="Verdana"/>
            </a:endParaRPr>
          </a:p>
        </p:txBody>
      </p:sp>
      <p:sp>
        <p:nvSpPr>
          <p:cNvPr id="185" name="PlaceHolder 2"/>
          <p:cNvSpPr>
            <a:spLocks noGrp="1"/>
          </p:cNvSpPr>
          <p:nvPr>
            <p:ph/>
          </p:nvPr>
        </p:nvSpPr>
        <p:spPr>
          <a:xfrm>
            <a:off x="457200" y="1295280"/>
            <a:ext cx="8229600" cy="3694320"/>
          </a:xfrm>
          <a:prstGeom prst="rect">
            <a:avLst/>
          </a:prstGeom>
          <a:noFill/>
          <a:ln w="0">
            <a:noFill/>
          </a:ln>
        </p:spPr>
        <p:txBody>
          <a:bodyPr rIns="90000" anchor="t">
            <a:normAutofit/>
          </a:bodyPr>
          <a:p>
            <a:pPr marL="343080" indent="-343080">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ризнание в качестве лаборатории, предоставляющей точные и воспроизводимые результаты</a:t>
            </a:r>
            <a:endParaRPr b="0" lang="en-US" sz="3200" spc="-1" strike="noStrike">
              <a:solidFill>
                <a:srgbClr val="000000"/>
              </a:solidFill>
              <a:latin typeface="Verdana"/>
            </a:endParaRPr>
          </a:p>
          <a:p>
            <a:pPr marL="343080" indent="-343080">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ризнание соответствия нормам и стандартам качества, используемым </a:t>
            </a:r>
            <a:endParaRPr b="0" lang="en-US" sz="3200" spc="-1" strike="noStrike">
              <a:solidFill>
                <a:srgbClr val="000000"/>
              </a:solidFill>
              <a:latin typeface="Verdana"/>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для оценки</a:t>
            </a:r>
            <a:endParaRPr b="0" lang="en-US" sz="3200" spc="-1" strike="noStrike">
              <a:solidFill>
                <a:srgbClr val="000000"/>
              </a:solidFill>
              <a:latin typeface="Verdana"/>
            </a:endParaRPr>
          </a:p>
        </p:txBody>
      </p:sp>
      <p:sp>
        <p:nvSpPr>
          <p:cNvPr id="186"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187"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6A5714-71B0-485B-8F31-FC6466C4EA54}"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pic>
        <p:nvPicPr>
          <p:cNvPr id="188" name="Picture 19" descr="certificate"/>
          <p:cNvPicPr/>
          <p:nvPr/>
        </p:nvPicPr>
        <p:blipFill>
          <a:blip r:embed="rId1"/>
          <a:stretch/>
        </p:blipFill>
        <p:spPr>
          <a:xfrm>
            <a:off x="5562720" y="3657600"/>
            <a:ext cx="2170080" cy="2743200"/>
          </a:xfrm>
          <a:prstGeom prst="rect">
            <a:avLst/>
          </a:prstGeom>
          <a:ln w="0">
            <a:noFill/>
          </a:ln>
        </p:spPr>
      </p:pic>
      <p:sp>
        <p:nvSpPr>
          <p:cNvPr id="189" name="Text Box 20"/>
          <p:cNvSpPr/>
          <p:nvPr/>
        </p:nvSpPr>
        <p:spPr>
          <a:xfrm>
            <a:off x="5715000" y="5029200"/>
            <a:ext cx="1828800" cy="10620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Присуждено</a:t>
            </a:r>
            <a:br>
              <a:rPr sz="1800"/>
            </a:br>
            <a:r>
              <a:rPr b="1" lang="ru-RU" sz="1800" spc="-1" strike="noStrike">
                <a:solidFill>
                  <a:srgbClr val="000000"/>
                </a:solidFill>
                <a:latin typeface="Arial"/>
              </a:rPr>
              <a:t>Лаборатории</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09</a:t>
            </a:r>
            <a:endParaRPr b="0" lang="en-US" sz="1800" spc="-1" strike="noStrike">
              <a:solidFill>
                <a:srgbClr val="000000"/>
              </a:solidFill>
              <a:latin typeface="Arial"/>
            </a:endParaRPr>
          </a:p>
        </p:txBody>
      </p:sp>
      <p:sp>
        <p:nvSpPr>
          <p:cNvPr id="190" name="Text Box 21"/>
          <p:cNvSpPr/>
          <p:nvPr/>
        </p:nvSpPr>
        <p:spPr>
          <a:xfrm>
            <a:off x="6095880" y="4640400"/>
            <a:ext cx="10670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Rectangle 22"/>
          <p:cNvSpPr/>
          <p:nvPr/>
        </p:nvSpPr>
        <p:spPr>
          <a:xfrm>
            <a:off x="6400800" y="4648320"/>
            <a:ext cx="4572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 name="TextBox 3"/>
          <p:cNvSpPr/>
          <p:nvPr/>
        </p:nvSpPr>
        <p:spPr>
          <a:xfrm>
            <a:off x="5875560" y="4724280"/>
            <a:ext cx="148068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3b7cff"/>
                </a:solidFill>
                <a:latin typeface="Calibri"/>
              </a:rPr>
              <a:t>Высшее качество</a:t>
            </a:r>
            <a:endParaRPr b="0" lang="en-US" sz="1400" spc="-1" strike="noStrike">
              <a:solidFill>
                <a:srgbClr val="000000"/>
              </a:solidFill>
              <a:latin typeface="Arial"/>
            </a:endParaRPr>
          </a:p>
        </p:txBody>
      </p:sp>
      <p:sp>
        <p:nvSpPr>
          <p:cNvPr id="193" name="TextBox 4"/>
          <p:cNvSpPr/>
          <p:nvPr/>
        </p:nvSpPr>
        <p:spPr>
          <a:xfrm>
            <a:off x="6342120" y="4494240"/>
            <a:ext cx="609480" cy="230040"/>
          </a:xfrm>
          <a:prstGeom prst="rect">
            <a:avLst/>
          </a:prstGeom>
          <a:solidFill>
            <a:srgbClr val="ffffff"/>
          </a:solidFill>
          <a:ln w="0">
            <a:noFill/>
          </a:ln>
        </p:spPr>
        <p:style>
          <a:lnRef idx="0"/>
          <a:fillRef idx="0"/>
          <a:effectRef idx="0"/>
          <a:fontRef idx="minor"/>
        </p:style>
        <p:txBody>
          <a:bodyPr lIns="90000" rIns="900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00000"/>
                </a:solidFill>
                <a:latin typeface="Calibri"/>
              </a:rPr>
              <a:t>ГОД</a:t>
            </a:r>
            <a:endParaRPr b="0" lang="en-US"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Footer Placeholder 4"/>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195" name="Slide Number Placeholder 5"/>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AE1A54-A3DF-4EBD-A2BD-FE28C44FD27E}"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96" name="Line 22"/>
          <p:cNvSpPr/>
          <p:nvPr/>
        </p:nvSpPr>
        <p:spPr>
          <a:xfrm flipH="1">
            <a:off x="3200400" y="1371600"/>
            <a:ext cx="914400" cy="0"/>
          </a:xfrm>
          <a:prstGeom prst="line">
            <a:avLst/>
          </a:prstGeom>
          <a:ln w="7632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Line 23"/>
          <p:cNvSpPr/>
          <p:nvPr/>
        </p:nvSpPr>
        <p:spPr>
          <a:xfrm flipH="1">
            <a:off x="5105520" y="1371600"/>
            <a:ext cx="838080" cy="0"/>
          </a:xfrm>
          <a:prstGeom prst="line">
            <a:avLst/>
          </a:prstGeom>
          <a:ln w="7632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Text Box 15"/>
          <p:cNvSpPr/>
          <p:nvPr/>
        </p:nvSpPr>
        <p:spPr>
          <a:xfrm>
            <a:off x="5410080" y="4495680"/>
            <a:ext cx="3505320" cy="173988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d911"/>
                </a:solidFill>
                <a:latin typeface="Verdana"/>
              </a:rPr>
              <a:t>объясняет персоналу процесс соблюдения стандартов</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d911"/>
                </a:solidFill>
                <a:latin typeface="Verdana"/>
              </a:rPr>
              <a:t>организует и готовит лабораторию к оценке</a:t>
            </a:r>
            <a:endParaRPr b="0" lang="en-US" sz="1800" spc="-1" strike="noStrike">
              <a:solidFill>
                <a:srgbClr val="000000"/>
              </a:solidFill>
              <a:latin typeface="Arial"/>
            </a:endParaRPr>
          </a:p>
        </p:txBody>
      </p:sp>
      <p:sp>
        <p:nvSpPr>
          <p:cNvPr id="199" name="Text Box 17"/>
          <p:cNvSpPr/>
          <p:nvPr/>
        </p:nvSpPr>
        <p:spPr>
          <a:xfrm>
            <a:off x="304920" y="4114800"/>
            <a:ext cx="4267080" cy="206676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d911"/>
                </a:solidFill>
                <a:latin typeface="Verdana"/>
              </a:rPr>
              <a:t>знают требования</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ru-RU" sz="1800" spc="-1" strike="noStrike">
                <a:solidFill>
                  <a:srgbClr val="ffd911"/>
                </a:solidFill>
                <a:latin typeface="Verdana"/>
              </a:rPr>
              <a:t>содействуют соблюдению стандартов</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d911"/>
                </a:solidFill>
                <a:latin typeface="Verdana"/>
              </a:rPr>
              <a:t>знакомы с процессом оценки</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ru-RU" sz="1800" spc="-1" strike="noStrike">
                <a:solidFill>
                  <a:srgbClr val="ffd911"/>
                </a:solidFill>
                <a:latin typeface="Verdana"/>
              </a:rPr>
              <a:t>помогают подготовиться к оценке</a:t>
            </a:r>
            <a:endParaRPr b="0" lang="en-US" sz="1800" spc="-1" strike="noStrike">
              <a:solidFill>
                <a:srgbClr val="000000"/>
              </a:solidFill>
              <a:latin typeface="Arial"/>
            </a:endParaRPr>
          </a:p>
        </p:txBody>
      </p:sp>
      <p:sp>
        <p:nvSpPr>
          <p:cNvPr id="200" name="Text Box 27"/>
          <p:cNvSpPr/>
          <p:nvPr/>
        </p:nvSpPr>
        <p:spPr>
          <a:xfrm>
            <a:off x="2590920" y="3073320"/>
            <a:ext cx="3962160" cy="581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705d00"/>
                </a:solidFill>
                <a:latin typeface="Verdana"/>
              </a:rPr>
              <a:t>Обязанности</a:t>
            </a:r>
            <a:endParaRPr b="0" lang="en-US" sz="3200" spc="-1" strike="noStrike">
              <a:solidFill>
                <a:srgbClr val="000000"/>
              </a:solidFill>
              <a:latin typeface="Arial"/>
            </a:endParaRPr>
          </a:p>
        </p:txBody>
      </p:sp>
      <p:sp>
        <p:nvSpPr>
          <p:cNvPr id="201" name="AutoShape 24"/>
          <p:cNvSpPr/>
          <p:nvPr/>
        </p:nvSpPr>
        <p:spPr>
          <a:xfrm rot="10800000">
            <a:off x="380520" y="3581280"/>
            <a:ext cx="762120" cy="990720"/>
          </a:xfrm>
          <a:prstGeom prst="upArrow">
            <a:avLst>
              <a:gd name="adj1" fmla="val 50000"/>
              <a:gd name="adj2" fmla="val 32499"/>
            </a:avLst>
          </a:prstGeom>
          <a:solidFill>
            <a:srgbClr val="705d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02" name="AutoShape 28"/>
          <p:cNvSpPr/>
          <p:nvPr/>
        </p:nvSpPr>
        <p:spPr>
          <a:xfrm rot="10800000">
            <a:off x="8229240" y="3581280"/>
            <a:ext cx="762120" cy="990720"/>
          </a:xfrm>
          <a:prstGeom prst="upArrow">
            <a:avLst>
              <a:gd name="adj1" fmla="val 50000"/>
              <a:gd name="adj2" fmla="val 32499"/>
            </a:avLst>
          </a:prstGeom>
          <a:solidFill>
            <a:srgbClr val="705d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03" name="Text Box 14"/>
          <p:cNvSpPr/>
          <p:nvPr/>
        </p:nvSpPr>
        <p:spPr>
          <a:xfrm>
            <a:off x="380880" y="762120"/>
            <a:ext cx="2819520" cy="228852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d911"/>
                </a:solidFill>
                <a:latin typeface="Verdana"/>
              </a:rPr>
              <a:t>внедряет международные или национальные стандарты</a:t>
            </a:r>
            <a:br>
              <a:rPr sz="1800"/>
            </a:b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d911"/>
                </a:solidFill>
                <a:latin typeface="Verdana"/>
              </a:rPr>
              <a:t>ищет информацию о соответствующих нормах и стандартах</a:t>
            </a:r>
            <a:r>
              <a:rPr b="0" lang="en-US" sz="1800" spc="-1" strike="noStrike">
                <a:solidFill>
                  <a:srgbClr val="ffd911"/>
                </a:solidFill>
                <a:latin typeface="Verdana"/>
              </a:rPr>
              <a:t>   </a:t>
            </a:r>
            <a:endParaRPr b="0" lang="en-US" sz="1800" spc="-1" strike="noStrike">
              <a:solidFill>
                <a:srgbClr val="000000"/>
              </a:solidFill>
              <a:latin typeface="Arial"/>
            </a:endParaRPr>
          </a:p>
        </p:txBody>
      </p:sp>
      <p:sp>
        <p:nvSpPr>
          <p:cNvPr id="204" name="Text Box 21"/>
          <p:cNvSpPr/>
          <p:nvPr/>
        </p:nvSpPr>
        <p:spPr>
          <a:xfrm>
            <a:off x="5943600" y="838080"/>
            <a:ext cx="2971800" cy="228852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d911"/>
                </a:solidFill>
                <a:latin typeface="Verdana"/>
              </a:rPr>
              <a:t>ищет информацию о процессах аккредитации и сертификации</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d911"/>
                </a:solidFill>
                <a:latin typeface="Verdana"/>
              </a:rPr>
              <a:t>использует результаты для предоставления лучших услуг</a:t>
            </a:r>
            <a:endParaRPr b="0" lang="en-US" sz="1800" spc="-1" strike="noStrike">
              <a:solidFill>
                <a:srgbClr val="000000"/>
              </a:solidFill>
              <a:latin typeface="Arial"/>
            </a:endParaRPr>
          </a:p>
        </p:txBody>
      </p:sp>
      <p:sp>
        <p:nvSpPr>
          <p:cNvPr id="205" name="AutoShape 25"/>
          <p:cNvSpPr/>
          <p:nvPr/>
        </p:nvSpPr>
        <p:spPr>
          <a:xfrm>
            <a:off x="4038480" y="1371600"/>
            <a:ext cx="990720" cy="1447920"/>
          </a:xfrm>
          <a:prstGeom prst="upArrow">
            <a:avLst>
              <a:gd name="adj1" fmla="val 50000"/>
              <a:gd name="adj2" fmla="val 36537"/>
            </a:avLst>
          </a:prstGeom>
          <a:solidFill>
            <a:srgbClr val="705d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06" name="Text Box 29"/>
          <p:cNvSpPr/>
          <p:nvPr/>
        </p:nvSpPr>
        <p:spPr>
          <a:xfrm>
            <a:off x="990720" y="3581280"/>
            <a:ext cx="2514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66"/>
                </a:solidFill>
                <a:latin typeface="Verdana"/>
              </a:rPr>
              <a:t>Сотрудники</a:t>
            </a:r>
            <a:endParaRPr b="0" lang="en-US" sz="2400" spc="-1" strike="noStrike">
              <a:solidFill>
                <a:srgbClr val="000000"/>
              </a:solidFill>
              <a:latin typeface="Arial"/>
            </a:endParaRPr>
          </a:p>
        </p:txBody>
      </p:sp>
      <p:sp>
        <p:nvSpPr>
          <p:cNvPr id="207" name="Text Box 30"/>
          <p:cNvSpPr/>
          <p:nvPr/>
        </p:nvSpPr>
        <p:spPr>
          <a:xfrm>
            <a:off x="5257800" y="3657600"/>
            <a:ext cx="3276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7d"/>
                </a:solidFill>
                <a:latin typeface="Verdana"/>
              </a:rPr>
              <a:t>Менеджер по качеству</a:t>
            </a:r>
            <a:endParaRPr b="0" lang="en-US" sz="2400" spc="-1" strike="noStrike">
              <a:solidFill>
                <a:srgbClr val="000000"/>
              </a:solidFill>
              <a:latin typeface="Arial"/>
            </a:endParaRPr>
          </a:p>
        </p:txBody>
      </p:sp>
      <p:sp>
        <p:nvSpPr>
          <p:cNvPr id="208" name="Text Box 31"/>
          <p:cNvSpPr/>
          <p:nvPr/>
        </p:nvSpPr>
        <p:spPr>
          <a:xfrm>
            <a:off x="3124080" y="465120"/>
            <a:ext cx="28195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7d"/>
                </a:solidFill>
                <a:latin typeface="Verdana"/>
              </a:rPr>
              <a:t>Заведующий лабораторией</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380880" y="380880"/>
            <a:ext cx="8382240" cy="658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Определения</a:t>
            </a:r>
            <a:endParaRPr b="0" lang="en-US" sz="3600" spc="-1" strike="noStrike">
              <a:solidFill>
                <a:srgbClr val="00007d"/>
              </a:solidFill>
              <a:latin typeface="Verdana"/>
            </a:endParaRPr>
          </a:p>
        </p:txBody>
      </p:sp>
      <p:sp>
        <p:nvSpPr>
          <p:cNvPr id="210" name="PlaceHolder 2"/>
          <p:cNvSpPr>
            <a:spLocks noGrp="1"/>
          </p:cNvSpPr>
          <p:nvPr>
            <p:ph/>
          </p:nvPr>
        </p:nvSpPr>
        <p:spPr>
          <a:xfrm>
            <a:off x="304920" y="1119240"/>
            <a:ext cx="8534160" cy="5052960"/>
          </a:xfrm>
          <a:prstGeom prst="rect">
            <a:avLst/>
          </a:prstGeom>
          <a:noFill/>
          <a:ln w="0">
            <a:noFill/>
          </a:ln>
        </p:spPr>
        <p:txBody>
          <a:bodyPr anchor="t">
            <a:normAutofit/>
          </a:bodyPr>
          <a:p>
            <a:pPr marL="343080" indent="-343080">
              <a:lnSpc>
                <a:spcPct val="90000"/>
              </a:lnSpc>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Verdana"/>
              </a:rPr>
              <a:t>Нормативный документ –</a:t>
            </a:r>
            <a:r>
              <a:rPr b="1" lang="en-GB" sz="2400" spc="-1" strike="noStrike">
                <a:solidFill>
                  <a:srgbClr val="000000"/>
                </a:solidFill>
                <a:latin typeface="Verdana"/>
              </a:rPr>
              <a:t> </a:t>
            </a:r>
            <a:r>
              <a:rPr b="0" lang="ru-RU" sz="2400" spc="-1" strike="noStrike">
                <a:solidFill>
                  <a:srgbClr val="000000"/>
                </a:solidFill>
                <a:latin typeface="Verdana"/>
              </a:rPr>
              <a:t>устанавливает правила, рекомендации или характеристики для деятельности или ее результатов</a:t>
            </a:r>
            <a:endParaRPr b="0" lang="en-US" sz="2400" spc="-1" strike="noStrike">
              <a:solidFill>
                <a:srgbClr val="000000"/>
              </a:solidFill>
              <a:latin typeface="Verdana"/>
            </a:endParaRPr>
          </a:p>
          <a:p>
            <a:pPr marL="343080" indent="-343080">
              <a:lnSpc>
                <a:spcPct val="90000"/>
              </a:lnSpc>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Verdana"/>
              </a:rPr>
              <a:t>Стандарт – </a:t>
            </a:r>
            <a:r>
              <a:rPr b="0" lang="ru-RU" sz="2400" spc="-1" strike="noStrike">
                <a:solidFill>
                  <a:srgbClr val="000000"/>
                </a:solidFill>
                <a:latin typeface="Verdana"/>
              </a:rPr>
              <a:t>принятый консенсусом и утвержденный общепризнанным органом, предоставляет для общего и многократного пользования правила, рекомендации и характеристики для деятельности или ее результатов с целью достижения оптимальной степени порядка в данном поле деятельности</a:t>
            </a:r>
            <a:endParaRPr b="0" lang="en-US" sz="2400" spc="-1" strike="noStrike">
              <a:solidFill>
                <a:srgbClr val="000000"/>
              </a:solidFill>
              <a:latin typeface="Verdana"/>
            </a:endParaRPr>
          </a:p>
          <a:p>
            <a:pPr marL="343080" indent="-343080">
              <a:lnSpc>
                <a:spcPct val="90000"/>
              </a:lnSpc>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Verdana"/>
              </a:rPr>
              <a:t>Регламент – </a:t>
            </a:r>
            <a:r>
              <a:rPr b="0" lang="ru-RU" sz="2400" spc="-1" strike="noStrike">
                <a:solidFill>
                  <a:srgbClr val="000000"/>
                </a:solidFill>
                <a:latin typeface="Verdana"/>
              </a:rPr>
              <a:t>любой стандарт, утвержденный в качестве обязательного к выполнению государственным ведомством или уполномоченным органом</a:t>
            </a:r>
            <a:endParaRPr b="0" lang="en-US" sz="2400" spc="-1" strike="noStrike">
              <a:solidFill>
                <a:srgbClr val="000000"/>
              </a:solidFill>
              <a:latin typeface="Verdana"/>
            </a:endParaRPr>
          </a:p>
        </p:txBody>
      </p:sp>
      <p:sp>
        <p:nvSpPr>
          <p:cNvPr id="211"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212"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B8782D-5CB2-4A19-8488-87192AD23CE2}"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380880" y="369360"/>
            <a:ext cx="8229600" cy="1078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Самостоятельно разработанные стандарты</a:t>
            </a:r>
            <a:endParaRPr b="0" lang="en-US" sz="3200" spc="-1" strike="noStrike">
              <a:solidFill>
                <a:srgbClr val="00007d"/>
              </a:solidFill>
              <a:latin typeface="Verdana"/>
            </a:endParaRPr>
          </a:p>
        </p:txBody>
      </p:sp>
      <p:sp>
        <p:nvSpPr>
          <p:cNvPr id="214" name="PlaceHolder 2"/>
          <p:cNvSpPr>
            <a:spLocks noGrp="1"/>
          </p:cNvSpPr>
          <p:nvPr>
            <p:ph/>
          </p:nvPr>
        </p:nvSpPr>
        <p:spPr>
          <a:xfrm>
            <a:off x="342720" y="1447560"/>
            <a:ext cx="8458200" cy="4848120"/>
          </a:xfrm>
          <a:prstGeom prst="rect">
            <a:avLst/>
          </a:prstGeom>
          <a:noFill/>
          <a:ln w="0">
            <a:noFill/>
          </a:ln>
        </p:spPr>
        <p:txBody>
          <a:bodyPr anchor="t">
            <a:normAutofit/>
          </a:bodyPr>
          <a:p>
            <a:pPr marL="34452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Многие ведомства, организации и регионы часто разрабатывают свои собственные требования для аккредитации нежели, чем используют международные стандарты</a:t>
            </a:r>
            <a:r>
              <a:rPr b="0" lang="en-US" sz="2400" spc="-1" strike="noStrike">
                <a:solidFill>
                  <a:srgbClr val="000000"/>
                </a:solidFill>
                <a:latin typeface="Verdana"/>
              </a:rPr>
              <a:t>.</a:t>
            </a:r>
            <a:endParaRPr b="0" lang="en-US" sz="2400" spc="-1" strike="noStrike">
              <a:solidFill>
                <a:srgbClr val="000000"/>
              </a:solidFill>
              <a:latin typeface="Verdana"/>
            </a:endParaRPr>
          </a:p>
          <a:p>
            <a:pPr marL="344520" indent="12600">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Verdana"/>
              </a:rPr>
              <a:t>Преимущества</a:t>
            </a:r>
            <a:r>
              <a:rPr b="0" lang="en-US" sz="2400" spc="-1" strike="noStrike">
                <a:solidFill>
                  <a:srgbClr val="000000"/>
                </a:solidFill>
                <a:latin typeface="Verdana"/>
              </a:rPr>
              <a:t>:</a:t>
            </a:r>
            <a:endParaRPr b="0" lang="en-US" sz="2400" spc="-1" strike="noStrike">
              <a:solidFill>
                <a:srgbClr val="000000"/>
              </a:solidFill>
              <a:latin typeface="Verdana"/>
            </a:endParaRPr>
          </a:p>
          <a:p>
            <a:pPr lvl="1" marL="804960" indent="-26532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лучше подходят для местного пользования,  учитывают местные сильные и слабые стороны</a:t>
            </a:r>
            <a:endParaRPr b="0" lang="en-US" sz="2000" spc="-1" strike="noStrike">
              <a:solidFill>
                <a:srgbClr val="000000"/>
              </a:solidFill>
              <a:latin typeface="Verdana"/>
            </a:endParaRPr>
          </a:p>
          <a:p>
            <a:pPr lvl="1" marL="804960" indent="-26532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могут разрабатываться постепенно</a:t>
            </a:r>
            <a:endParaRPr b="0" lang="en-US" sz="2000" spc="-1" strike="noStrike">
              <a:solidFill>
                <a:srgbClr val="000000"/>
              </a:solidFill>
              <a:latin typeface="Verdana"/>
            </a:endParaRPr>
          </a:p>
          <a:p>
            <a:pPr lvl="1" marL="804960" indent="-26532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могут привести к полному международному признанию</a:t>
            </a:r>
            <a:endParaRPr b="0" lang="en-US" sz="2000" spc="-1" strike="noStrike">
              <a:solidFill>
                <a:srgbClr val="000000"/>
              </a:solidFill>
              <a:latin typeface="Verdana"/>
            </a:endParaRPr>
          </a:p>
          <a:p>
            <a:pPr marL="344520" indent="12600">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Verdana"/>
              </a:rPr>
              <a:t>Недостатки</a:t>
            </a:r>
            <a:r>
              <a:rPr b="1" lang="en-US" sz="2400" spc="-1" strike="noStrike">
                <a:solidFill>
                  <a:srgbClr val="000000"/>
                </a:solidFill>
                <a:latin typeface="Verdana"/>
              </a:rPr>
              <a:t>:</a:t>
            </a:r>
            <a:endParaRPr b="0" lang="en-US" sz="2400" spc="-1" strike="noStrike">
              <a:solidFill>
                <a:srgbClr val="000000"/>
              </a:solidFill>
              <a:latin typeface="Verdana"/>
            </a:endParaRPr>
          </a:p>
          <a:p>
            <a:pPr lvl="1" marL="804960" indent="-26532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могут быть ограниченным или необъективными</a:t>
            </a:r>
            <a:endParaRPr b="0" lang="en-US" sz="2000" spc="-1" strike="noStrike">
              <a:solidFill>
                <a:srgbClr val="000000"/>
              </a:solidFill>
              <a:latin typeface="Verdana"/>
            </a:endParaRPr>
          </a:p>
          <a:p>
            <a:pPr lvl="1" marL="804960" indent="-26532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могут не</a:t>
            </a:r>
            <a:r>
              <a:rPr b="0" lang="en-US" sz="2000" spc="-1" strike="noStrike">
                <a:solidFill>
                  <a:srgbClr val="000000"/>
                </a:solidFill>
                <a:latin typeface="Verdana"/>
              </a:rPr>
              <a:t> </a:t>
            </a:r>
            <a:r>
              <a:rPr b="0" lang="ru-RU" sz="2000" spc="-1" strike="noStrike">
                <a:solidFill>
                  <a:srgbClr val="000000"/>
                </a:solidFill>
                <a:latin typeface="Verdana"/>
              </a:rPr>
              <a:t>признаваться  другими организациями</a:t>
            </a:r>
            <a:endParaRPr b="0" lang="en-US" sz="2000" spc="-1" strike="noStrike">
              <a:solidFill>
                <a:srgbClr val="000000"/>
              </a:solidFill>
              <a:latin typeface="Verdana"/>
            </a:endParaRPr>
          </a:p>
        </p:txBody>
      </p:sp>
      <p:sp>
        <p:nvSpPr>
          <p:cNvPr id="215"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216"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97B5D1-3AA5-485B-B1F7-58A652E7C2E0}"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380880" y="414360"/>
            <a:ext cx="8382240" cy="652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Органы стандартизации</a:t>
            </a:r>
            <a:endParaRPr b="0" lang="en-US" sz="3600" spc="-1" strike="noStrike">
              <a:solidFill>
                <a:srgbClr val="00007d"/>
              </a:solidFill>
              <a:latin typeface="Verdana"/>
            </a:endParaRPr>
          </a:p>
        </p:txBody>
      </p:sp>
      <p:sp>
        <p:nvSpPr>
          <p:cNvPr id="218" name="PlaceHolder 2"/>
          <p:cNvSpPr>
            <a:spLocks noGrp="1"/>
          </p:cNvSpPr>
          <p:nvPr>
            <p:ph/>
          </p:nvPr>
        </p:nvSpPr>
        <p:spPr>
          <a:xfrm>
            <a:off x="609120" y="1315800"/>
            <a:ext cx="7696440" cy="49179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К международным организациям относятся</a:t>
            </a:r>
            <a:r>
              <a:rPr b="0" lang="en-US" sz="3200" spc="-1" strike="noStrike">
                <a:solidFill>
                  <a:srgbClr val="000000"/>
                </a:solidFill>
                <a:latin typeface="Verdana"/>
              </a:rPr>
              <a:t>:</a:t>
            </a:r>
            <a:endParaRPr b="0" lang="en-US" sz="3200" spc="-1" strike="noStrike">
              <a:solidFill>
                <a:srgbClr val="000000"/>
              </a:solidFill>
              <a:latin typeface="Verdana"/>
            </a:endParaRPr>
          </a:p>
          <a:p>
            <a:pPr lvl="1" marL="541440" indent="-271440">
              <a:lnSpc>
                <a:spcPct val="120000"/>
              </a:lnSpc>
              <a:spcBef>
                <a:spcPts val="601"/>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Международная организация по стандартизации</a:t>
            </a:r>
            <a:r>
              <a:rPr b="0" lang="en-US" sz="2400" spc="-1" strike="noStrike">
                <a:solidFill>
                  <a:srgbClr val="000000"/>
                </a:solidFill>
                <a:latin typeface="Verdana"/>
              </a:rPr>
              <a:t> (</a:t>
            </a:r>
            <a:r>
              <a:rPr b="0" lang="ru-RU" sz="2400" spc="-1" strike="noStrike">
                <a:solidFill>
                  <a:srgbClr val="000000"/>
                </a:solidFill>
                <a:latin typeface="Verdana"/>
              </a:rPr>
              <a:t>ИСО, </a:t>
            </a:r>
            <a:r>
              <a:rPr b="0" lang="en-US" sz="2400" spc="-1" strike="noStrike">
                <a:solidFill>
                  <a:srgbClr val="000000"/>
                </a:solidFill>
                <a:latin typeface="Verdana"/>
              </a:rPr>
              <a:t>ISO) </a:t>
            </a:r>
            <a:endParaRPr b="0" lang="en-US" sz="2400" spc="-1" strike="noStrike">
              <a:solidFill>
                <a:srgbClr val="000000"/>
              </a:solidFill>
              <a:latin typeface="Verdana"/>
            </a:endParaRPr>
          </a:p>
          <a:p>
            <a:pPr lvl="1" marL="541440" indent="-271440">
              <a:lnSpc>
                <a:spcPct val="120000"/>
              </a:lnSpc>
              <a:spcBef>
                <a:spcPts val="601"/>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Институт клинических и лабораторных стандартов</a:t>
            </a:r>
            <a:r>
              <a:rPr b="0" lang="en-US" sz="2400" spc="-1" strike="noStrike">
                <a:solidFill>
                  <a:srgbClr val="000000"/>
                </a:solidFill>
                <a:latin typeface="Verdana"/>
              </a:rPr>
              <a:t> (CLSI) </a:t>
            </a:r>
            <a:endParaRPr b="0" lang="en-US" sz="2400" spc="-1" strike="noStrike">
              <a:solidFill>
                <a:srgbClr val="000000"/>
              </a:solidFill>
              <a:latin typeface="Verdana"/>
            </a:endParaRPr>
          </a:p>
          <a:p>
            <a:pPr lvl="1" marL="541440" indent="-271440">
              <a:lnSpc>
                <a:spcPct val="120000"/>
              </a:lnSpc>
              <a:spcBef>
                <a:spcPts val="601"/>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Европейский комитет по стандартизации (ЕКС, </a:t>
            </a:r>
            <a:r>
              <a:rPr b="0" lang="en-US" sz="2400" spc="-1" strike="noStrike">
                <a:solidFill>
                  <a:srgbClr val="000000"/>
                </a:solidFill>
                <a:latin typeface="Verdana"/>
              </a:rPr>
              <a:t>CEN</a:t>
            </a:r>
            <a:r>
              <a:rPr b="0" lang="ru-RU" sz="2400" spc="-1" strike="noStrike">
                <a:solidFill>
                  <a:srgbClr val="000000"/>
                </a:solidFill>
                <a:latin typeface="Verdana"/>
              </a:rPr>
              <a:t>)</a:t>
            </a:r>
            <a:endParaRPr b="0" lang="en-US" sz="2400" spc="-1" strike="noStrike">
              <a:solidFill>
                <a:srgbClr val="000000"/>
              </a:solidFill>
              <a:latin typeface="Verdana"/>
            </a:endParaRPr>
          </a:p>
          <a:p>
            <a:pPr lvl="1" marL="541440" indent="-271440">
              <a:lnSpc>
                <a:spcPct val="120000"/>
              </a:lnSpc>
              <a:spcBef>
                <a:spcPts val="601"/>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Всемирная организация здравоохранения (ВОЗ, </a:t>
            </a:r>
            <a:r>
              <a:rPr b="0" lang="en-US" sz="2400" spc="-1" strike="noStrike">
                <a:solidFill>
                  <a:srgbClr val="000000"/>
                </a:solidFill>
                <a:latin typeface="Verdana"/>
              </a:rPr>
              <a:t>WHO</a:t>
            </a:r>
            <a:r>
              <a:rPr b="0" lang="ru-RU" sz="2400" spc="-1" strike="noStrike">
                <a:solidFill>
                  <a:srgbClr val="000000"/>
                </a:solidFill>
                <a:latin typeface="Verdana"/>
              </a:rPr>
              <a:t>) </a:t>
            </a:r>
            <a:endParaRPr b="0" lang="en-US" sz="2400" spc="-1" strike="noStrike">
              <a:solidFill>
                <a:srgbClr val="000000"/>
              </a:solidFill>
              <a:latin typeface="Verdana"/>
            </a:endParaRPr>
          </a:p>
        </p:txBody>
      </p:sp>
      <p:sp>
        <p:nvSpPr>
          <p:cNvPr id="219"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220"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A4015E-B870-4CC9-B7CF-8DEE91DEBDA6}"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Olga</cp:lastModifiedBy>
  <dcterms:modified xsi:type="dcterms:W3CDTF">2013-05-17T12:05:48Z</dcterms:modified>
  <cp:revision>182</cp:revision>
  <dc:subject/>
  <dc:title>Slide 1</dc:title>
</cp:coreProperties>
</file>